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2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241.xml.rels" ContentType="application/vnd.openxmlformats-package.relationships+xml"/>
  <Override PartName="/ppt/slides/_rels/slide61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10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242.xml.rels" ContentType="application/vnd.openxmlformats-package.relationships+xml"/>
  <Override PartName="/ppt/slides/_rels/slide62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216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217.xml.rels" ContentType="application/vnd.openxmlformats-package.relationships+xml"/>
  <Override PartName="/ppt/slides/_rels/slide114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230.xml.rels" ContentType="application/vnd.openxmlformats-package.relationships+xml"/>
  <Override PartName="/ppt/slides/_rels/slide51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2.xml.rels" ContentType="application/vnd.openxmlformats-package.relationships+xml"/>
  <Override PartName="/ppt/slides/_rels/slide255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49.xml.rels" ContentType="application/vnd.openxmlformats-package.relationships+xml"/>
  <Override PartName="/ppt/slides/_rels/slide156.xml.rels" ContentType="application/vnd.openxmlformats-package.relationships+xml"/>
  <Override PartName="/ppt/slides/_rels/slide52.xml.rels" ContentType="application/vnd.openxmlformats-package.relationships+xml"/>
  <Override PartName="/ppt/slides/_rels/slide232.xml.rels" ContentType="application/vnd.openxmlformats-package.relationships+xml"/>
  <Override PartName="/ppt/slides/_rels/slide157.xml.rels" ContentType="application/vnd.openxmlformats-package.relationships+xml"/>
  <Override PartName="/ppt/slides/_rels/slide53.xml.rels" ContentType="application/vnd.openxmlformats-package.relationships+xml"/>
  <Override PartName="/ppt/slides/_rels/slide233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210.xml.rels" ContentType="application/vnd.openxmlformats-package.relationships+xml"/>
  <Override PartName="/ppt/slides/_rels/slide223.xml.rels" ContentType="application/vnd.openxmlformats-package.relationships+xml"/>
  <Override PartName="/ppt/slides/_rels/slide43.xml.rels" ContentType="application/vnd.openxmlformats-package.relationships+xml"/>
  <Override PartName="/ppt/slides/_rels/slide207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201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211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227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97.xml.rels" ContentType="application/vnd.openxmlformats-package.relationships+xml"/>
  <Override PartName="/ppt/slides/_rels/slide205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234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18.xml.rels" ContentType="application/vnd.openxmlformats-package.relationships+xml"/>
  <Override PartName="/ppt/slides/_rels/slide133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219.xml.rels" ContentType="application/vnd.openxmlformats-package.relationships+xml"/>
  <Override PartName="/ppt/slides/_rels/slide240.xml.rels" ContentType="application/vnd.openxmlformats-package.relationships+xml"/>
  <Override PartName="/ppt/slides/_rels/slide60.xml.rels" ContentType="application/vnd.openxmlformats-package.relationships+xml"/>
  <Override PartName="/ppt/slides/_rels/slide236.xml.rels" ContentType="application/vnd.openxmlformats-package.relationships+xml"/>
  <Override PartName="/ppt/slides/_rels/slide56.xml.rels" ContentType="application/vnd.openxmlformats-package.relationships+xml"/>
  <Override PartName="/ppt/slides/_rels/slide221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56.xml.rels" ContentType="application/vnd.openxmlformats-package.relationships+xml"/>
  <Override PartName="/ppt/slides/_rels/slide17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3.xml.rels" ContentType="application/vnd.openxmlformats-package.relationships+xml"/>
  <Override PartName="/ppt/slides/_rels/slide243.xml.rels" ContentType="application/vnd.openxmlformats-package.relationships+xml"/>
  <Override PartName="/ppt/slides/_rels/slide19.xml.rels" ContentType="application/vnd.openxmlformats-package.relationships+xml"/>
  <Override PartName="/ppt/slides/_rels/slide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220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78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63.xml.rels" ContentType="application/vnd.openxmlformats-package.relationships+xml"/>
  <Override PartName="/ppt/slides/_rels/slide172.xml.rels" ContentType="application/vnd.openxmlformats-package.relationships+xml"/>
  <Override PartName="/ppt/slides/_rels/slide15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6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8.xml.rels" ContentType="application/vnd.openxmlformats-package.relationships+xml"/>
  <Override PartName="/ppt/slides/_rels/slide7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24.xml.rels" ContentType="application/vnd.openxmlformats-package.relationships+xml"/>
  <Override PartName="/ppt/slides/_rels/slide44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171.xml.rels" ContentType="application/vnd.openxmlformats-package.relationships+xml"/>
  <Override PartName="/ppt/slides/_rels/slide155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60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22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54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23.xml.rels" ContentType="application/vnd.openxmlformats-package.relationships+xml"/>
  <Override PartName="/ppt/slides/_rels/slide195.xml.rels" ContentType="application/vnd.openxmlformats-package.relationships+xml"/>
  <Override PartName="/ppt/slides/_rels/slide100.xml.rels" ContentType="application/vnd.openxmlformats-package.relationships+xml"/>
  <Override PartName="/ppt/slides/_rels/slide203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29.xml.rels" ContentType="application/vnd.openxmlformats-package.relationships+xml"/>
  <Override PartName="/ppt/slides/_rels/slide209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179.xml.rels" ContentType="application/vnd.openxmlformats-package.relationships+xml"/>
  <Override PartName="/ppt/slides/_rels/slide231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202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42.xml.rels" ContentType="application/vnd.openxmlformats-package.relationships+xml"/>
  <Override PartName="/ppt/slides/_rels/slide222.xml.rels" ContentType="application/vnd.openxmlformats-package.relationships+xml"/>
  <Override PartName="/ppt/slides/_rels/slide250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52.xml.rels" ContentType="application/vnd.openxmlformats-package.relationships+xml"/>
  <Override PartName="/ppt/slides/_rels/slide68.xml.rels" ContentType="application/vnd.openxmlformats-package.relationships+xml"/>
  <Override PartName="/ppt/slides/_rels/slide248.xml.rels" ContentType="application/vnd.openxmlformats-package.relationships+xml"/>
  <Override PartName="/ppt/slides/_rels/slide239.xml.rels" ContentType="application/vnd.openxmlformats-package.relationships+xml"/>
  <Override PartName="/ppt/slides/_rels/slide136.xml.rels" ContentType="application/vnd.openxmlformats-package.relationships+xml"/>
  <Override PartName="/ppt/slides/_rels/slide5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253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137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20.xml.rels" ContentType="application/vnd.openxmlformats-package.relationships+xml"/>
  <Override PartName="/ppt/slides/_rels/slide192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51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244.xml" ContentType="application/vnd.openxmlformats-officedocument.presentationml.slide+xml"/>
  <Override PartName="/ppt/slides/slide8.xml" ContentType="application/vnd.openxmlformats-officedocument.presentationml.slide+xml"/>
  <Override PartName="/ppt/slides/slide245.xml" ContentType="application/vnd.openxmlformats-officedocument.presentationml.slide+xml"/>
  <Override PartName="/ppt/slides/slide9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240.xml" ContentType="application/vnd.openxmlformats-officedocument.presentationml.slide+xml"/>
  <Override PartName="/ppt/slides/slide4.xml" ContentType="application/vnd.openxmlformats-officedocument.presentationml.slide+xml"/>
  <Override PartName="/ppt/slides/slide146.xml" ContentType="application/vnd.openxmlformats-officedocument.presentationml.slide+xml"/>
  <Override PartName="/ppt/slides/slide241.xml" ContentType="application/vnd.openxmlformats-officedocument.presentationml.slide+xml"/>
  <Override PartName="/ppt/slides/slide5.xml" ContentType="application/vnd.openxmlformats-officedocument.presentationml.slide+xml"/>
  <Override PartName="/ppt/slides/slide147.xml" ContentType="application/vnd.openxmlformats-officedocument.presentationml.slide+xml"/>
  <Override PartName="/ppt/slides/slide242.xml" ContentType="application/vnd.openxmlformats-officedocument.presentationml.slide+xml"/>
  <Override PartName="/ppt/slides/slide6.xml" ContentType="application/vnd.openxmlformats-officedocument.presentationml.slide+xml"/>
  <Override PartName="/ppt/slides/slide129.xml" ContentType="application/vnd.openxmlformats-officedocument.presentationml.slide+xml"/>
  <Override PartName="/ppt/slides/slide32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96.xml" ContentType="application/vnd.openxmlformats-officedocument.presentationml.slide+xml"/>
  <Override PartName="/ppt/slides/slide234.xml" ContentType="application/vnd.openxmlformats-officedocument.presentationml.slide+xml"/>
  <Override PartName="/ppt/slides/slide197.xml" ContentType="application/vnd.openxmlformats-officedocument.presentationml.slide+xml"/>
  <Override PartName="/ppt/slides/slide235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253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252.xml" ContentType="application/vnd.openxmlformats-officedocument.presentationml.slide+xml"/>
  <Override PartName="/ppt/slides/slide157.xml" ContentType="application/vnd.openxmlformats-officedocument.presentationml.slide+xml"/>
  <Override PartName="/ppt/slides/slide251.xml" ContentType="application/vnd.openxmlformats-officedocument.presentationml.slide+xml"/>
  <Override PartName="/ppt/slides/slide13.xml" ContentType="application/vnd.openxmlformats-officedocument.presentationml.slide+xml"/>
  <Override PartName="/ppt/slides/slide43.xml" ContentType="application/vnd.openxmlformats-officedocument.presentationml.slide+xml"/>
  <Override PartName="/ppt/slides/slide209.xml" ContentType="application/vnd.openxmlformats-officedocument.presentationml.slide+xml"/>
  <Override PartName="/ppt/slides/slide156.xml" ContentType="application/vnd.openxmlformats-officedocument.presentationml.slide+xml"/>
  <Override PartName="/ppt/slides/slide250.xml" ContentType="application/vnd.openxmlformats-officedocument.presentationml.slide+xml"/>
  <Override PartName="/ppt/slides/slide81.xml" ContentType="application/vnd.openxmlformats-officedocument.presentationml.slide+xml"/>
  <Override PartName="/ppt/slides/slide247.xml" ContentType="application/vnd.openxmlformats-officedocument.presentationml.slide+xml"/>
  <Override PartName="/ppt/slides/slide53.xml" ContentType="application/vnd.openxmlformats-officedocument.presentationml.slide+xml"/>
  <Override PartName="/ppt/slides/slide219.xml" ContentType="application/vnd.openxmlformats-officedocument.presentationml.slide+xml"/>
  <Override PartName="/ppt/slides/slide12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139.xml" ContentType="application/vnd.openxmlformats-officedocument.presentationml.slide+xml"/>
  <Override PartName="/ppt/slides/slide11.xml" ContentType="application/vnd.openxmlformats-officedocument.presentationml.slide+xml"/>
  <Override PartName="/ppt/slides/slide166.xml" ContentType="application/vnd.openxmlformats-officedocument.presentationml.slide+xml"/>
  <Override PartName="/ppt/slides/slide204.xml" ContentType="application/vnd.openxmlformats-officedocument.presentationml.slide+xml"/>
  <Override PartName="/ppt/slides/slide52.xml" ContentType="application/vnd.openxmlformats-officedocument.presentationml.slide+xml"/>
  <Override PartName="/ppt/slides/slide218.xml" ContentType="application/vnd.openxmlformats-officedocument.presentationml.slide+xml"/>
  <Override PartName="/ppt/slides/slide51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0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38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43.xml" ContentType="application/vnd.openxmlformats-officedocument.presentationml.slide+xml"/>
  <Override PartName="/ppt/slides/slide7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110.xml" ContentType="application/vnd.openxmlformats-officedocument.presentationml.slide+xml"/>
  <Override PartName="/ppt/slides/slide148.xml" ContentType="application/vnd.openxmlformats-officedocument.presentationml.slide+xml"/>
  <Override PartName="/ppt/slides/slide2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111.xml" ContentType="application/vnd.openxmlformats-officedocument.presentationml.slide+xml"/>
  <Override PartName="/ppt/slides/slide149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80.xml" ContentType="application/vnd.openxmlformats-officedocument.presentationml.slide+xml"/>
  <Override PartName="/ppt/slides/slide16.xml" ContentType="application/vnd.openxmlformats-officedocument.presentationml.slide+xml"/>
  <Override PartName="/ppt/slides/slide84.xml" ContentType="application/vnd.openxmlformats-officedocument.presentationml.slide+xml"/>
  <Override PartName="/ppt/slides/slide112.xml" ContentType="application/vnd.openxmlformats-officedocument.presentationml.slide+xml"/>
  <Override PartName="/ppt/slides/slide22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200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201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0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190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170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71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81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118.xml" ContentType="application/vnd.openxmlformats-officedocument.presentationml.slide+xml"/>
  <Override PartName="/ppt/slides/slide191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  <p:sldId id="499" r:id="rId246"/>
    <p:sldId id="500" r:id="rId247"/>
    <p:sldId id="501" r:id="rId248"/>
    <p:sldId id="502" r:id="rId249"/>
    <p:sldId id="503" r:id="rId250"/>
    <p:sldId id="504" r:id="rId251"/>
    <p:sldId id="505" r:id="rId252"/>
    <p:sldId id="506" r:id="rId253"/>
    <p:sldId id="507" r:id="rId254"/>
    <p:sldId id="508" r:id="rId255"/>
    <p:sldId id="509" r:id="rId256"/>
    <p:sldId id="510" r:id="rId257"/>
    <p:sldId id="511" r:id="rId258"/>
    <p:sldId id="512" r:id="rId259"/>
  </p:sldIdLst>
  <p:sldSz cx="9144000" cy="6858000"/>
  <p:notesSz cx="6858000" cy="9144000"/>
  <p:custShowLst>
    <p:custShow name="Custom Show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2"/>
        <p:sld r:id="rId23"/>
        <p:sld r:id="rId24"/>
        <p:sld r:id="rId25"/>
        <p:sld r:id="rId26"/>
        <p:sld r:id="rId27"/>
        <p:sld r:id="rId21"/>
        <p:sld r:id="rId29"/>
        <p:sld r:id="rId28"/>
        <p:sld r:id="rId30"/>
        <p:sld r:id="rId32"/>
        <p:sld r:id="rId31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68"/>
        <p:sld r:id="rId69"/>
        <p:sld r:id="rId70"/>
        <p:sld r:id="rId71"/>
        <p:sld r:id="rId72"/>
        <p:sld r:id="rId73"/>
        <p:sld r:id="rId74"/>
        <p:sld r:id="rId75"/>
        <p:sld r:id="rId76"/>
        <p:sld r:id="rId77"/>
        <p:sld r:id="rId78"/>
        <p:sld r:id="rId79"/>
        <p:sld r:id="rId80"/>
        <p:sld r:id="rId81"/>
        <p:sld r:id="rId82"/>
        <p:sld r:id="rId83"/>
        <p:sld r:id="rId84"/>
        <p:sld r:id="rId85"/>
        <p:sld r:id="rId86"/>
        <p:sld r:id="rId87"/>
        <p:sld r:id="rId88"/>
        <p:sld r:id="rId89"/>
        <p:sld r:id="rId90"/>
        <p:sld r:id="rId91"/>
        <p:sld r:id="rId92"/>
        <p:sld r:id="rId93"/>
        <p:sld r:id="rId94"/>
        <p:sld r:id="rId95"/>
        <p:sld r:id="rId96"/>
        <p:sld r:id="rId100"/>
        <p:sld r:id="rId103"/>
        <p:sld r:id="rId104"/>
        <p:sld r:id="rId106"/>
        <p:sld r:id="rId107"/>
        <p:sld r:id="rId108"/>
        <p:sld r:id="rId109"/>
        <p:sld r:id="rId117"/>
        <p:sld r:id="rId118"/>
        <p:sld r:id="rId119"/>
        <p:sld r:id="rId120"/>
        <p:sld r:id="rId121"/>
        <p:sld r:id="rId122"/>
        <p:sld r:id="rId123"/>
        <p:sld r:id="rId124"/>
        <p:sld r:id="rId125"/>
        <p:sld r:id="rId126"/>
        <p:sld r:id="rId127"/>
        <p:sld r:id="rId128"/>
        <p:sld r:id="rId131"/>
        <p:sld r:id="rId132"/>
        <p:sld r:id="rId133"/>
        <p:sld r:id="rId136"/>
        <p:sld r:id="rId137"/>
        <p:sld r:id="rId138"/>
        <p:sld r:id="rId139"/>
        <p:sld r:id="rId140"/>
        <p:sld r:id="rId141"/>
        <p:sld r:id="rId142"/>
        <p:sld r:id="rId144"/>
        <p:sld r:id="rId145"/>
        <p:sld r:id="rId148"/>
        <p:sld r:id="rId149"/>
        <p:sld r:id="rId150"/>
        <p:sld r:id="rId152"/>
        <p:sld r:id="rId153"/>
        <p:sld r:id="rId154"/>
        <p:sld r:id="rId155"/>
        <p:sld r:id="rId156"/>
        <p:sld r:id="rId161"/>
        <p:sld r:id="rId162"/>
        <p:sld r:id="rId163"/>
        <p:sld r:id="rId164"/>
        <p:sld r:id="rId165"/>
        <p:sld r:id="rId166"/>
        <p:sld r:id="rId167"/>
        <p:sld r:id="rId168"/>
        <p:sld r:id="rId169"/>
        <p:sld r:id="rId170"/>
        <p:sld r:id="rId171"/>
        <p:sld r:id="rId172"/>
        <p:sld r:id="rId173"/>
        <p:sld r:id="rId176"/>
        <p:sld r:id="rId177"/>
        <p:sld r:id="rId174"/>
        <p:sld r:id="rId178"/>
        <p:sld r:id="rId179"/>
        <p:sld r:id="rId180"/>
        <p:sld r:id="rId184"/>
        <p:sld r:id="rId185"/>
        <p:sld r:id="rId186"/>
        <p:sld r:id="rId187"/>
        <p:sld r:id="rId188"/>
        <p:sld r:id="rId189"/>
        <p:sld r:id="rId190"/>
        <p:sld r:id="rId191"/>
        <p:sld r:id="rId192"/>
        <p:sld r:id="rId193"/>
        <p:sld r:id="rId194"/>
        <p:sld r:id="rId195"/>
        <p:sld r:id="rId197"/>
        <p:sld r:id="rId198"/>
        <p:sld r:id="rId199"/>
        <p:sld r:id="rId200"/>
        <p:sld r:id="rId201"/>
        <p:sld r:id="rId202"/>
        <p:sld r:id="rId203"/>
        <p:sld r:id="rId204"/>
        <p:sld r:id="rId205"/>
        <p:sld r:id="rId206"/>
        <p:sld r:id="rId207"/>
        <p:sld r:id="rId208"/>
        <p:sld r:id="rId209"/>
        <p:sld r:id="rId210"/>
        <p:sld r:id="rId211"/>
        <p:sld r:id="rId212"/>
        <p:sld r:id="rId213"/>
        <p:sld r:id="rId214"/>
        <p:sld r:id="rId215"/>
        <p:sld r:id="rId216"/>
        <p:sld r:id="rId217"/>
        <p:sld r:id="rId218"/>
        <p:sld r:id="rId219"/>
        <p:sld r:id="rId220"/>
        <p:sld r:id="rId221"/>
        <p:sld r:id="rId222"/>
        <p:sld r:id="rId223"/>
        <p:sld r:id="rId224"/>
        <p:sld r:id="rId225"/>
        <p:sld r:id="rId226"/>
        <p:sld r:id="rId227"/>
        <p:sld r:id="rId228"/>
        <p:sld r:id="rId229"/>
        <p:sld r:id="rId230"/>
        <p:sld r:id="rId231"/>
        <p:sld r:id="rId232"/>
        <p:sld r:id="rId233"/>
        <p:sld r:id="rId234"/>
        <p:sld r:id="rId235"/>
        <p:sld r:id="rId236"/>
        <p:sld r:id="rId237"/>
        <p:sld r:id="rId238"/>
        <p:sld r:id="rId239"/>
        <p:sld r:id="rId242"/>
        <p:sld r:id="rId243"/>
        <p:sld r:id="rId244"/>
        <p:sld r:id="rId245"/>
        <p:sld r:id="rId246"/>
        <p:sld r:id="rId247"/>
        <p:sld r:id="rId248"/>
        <p:sld r:id="rId249"/>
        <p:sld r:id="rId250"/>
        <p:sld r:id="rId251"/>
        <p:sld r:id="rId252"/>
        <p:sld r:id="rId253"/>
        <p:sld r:id="rId254"/>
        <p:sld r:id="rId255"/>
        <p:sld r:id="rId256"/>
        <p:sld r:id="rId240"/>
        <p:sld r:id="rId241"/>
        <p:sld r:id="rId257"/>
        <p:sld r:id="rId258"/>
        <p:sld r:id="rId259"/>
      </p:sldLst>
    </p:custShow>
    <p:custShow name="Custom Show 2" id="1">
      <p:sldLst>
        <p:sld r:id="rId4"/>
        <p:sld r:id="rId5"/>
        <p:sld r:id="rId6"/>
        <p:sld r:id="rId7"/>
        <p:sld r:id="rId8"/>
        <p:sld r:id="rId9"/>
      </p:sldLst>
    </p:custShow>
    <p:custShow name="Custom Show 3" id="2">
      <p:sldLst>
        <p:sld r:id="rId19"/>
        <p:sld r:id="rId20"/>
        <p:sld r:id="rId22"/>
        <p:sld r:id="rId23"/>
        <p:sld r:id="rId2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slide" Target="slides/slide244.xml"/><Relationship Id="rId247" Type="http://schemas.openxmlformats.org/officeDocument/2006/relationships/slide" Target="slides/slide245.xml"/><Relationship Id="rId248" Type="http://schemas.openxmlformats.org/officeDocument/2006/relationships/slide" Target="slides/slide246.xml"/><Relationship Id="rId249" Type="http://schemas.openxmlformats.org/officeDocument/2006/relationships/slide" Target="slides/slide247.xml"/><Relationship Id="rId250" Type="http://schemas.openxmlformats.org/officeDocument/2006/relationships/slide" Target="slides/slide248.xml"/><Relationship Id="rId251" Type="http://schemas.openxmlformats.org/officeDocument/2006/relationships/slide" Target="slides/slide249.xml"/><Relationship Id="rId252" Type="http://schemas.openxmlformats.org/officeDocument/2006/relationships/slide" Target="slides/slide250.xml"/><Relationship Id="rId253" Type="http://schemas.openxmlformats.org/officeDocument/2006/relationships/slide" Target="slides/slide251.xml"/><Relationship Id="rId254" Type="http://schemas.openxmlformats.org/officeDocument/2006/relationships/slide" Target="slides/slide252.xml"/><Relationship Id="rId255" Type="http://schemas.openxmlformats.org/officeDocument/2006/relationships/slide" Target="slides/slide253.xml"/><Relationship Id="rId256" Type="http://schemas.openxmlformats.org/officeDocument/2006/relationships/slide" Target="slides/slide254.xml"/><Relationship Id="rId257" Type="http://schemas.openxmlformats.org/officeDocument/2006/relationships/slide" Target="slides/slide255.xml"/><Relationship Id="rId258" Type="http://schemas.openxmlformats.org/officeDocument/2006/relationships/slide" Target="slides/slide256.xml"/><Relationship Id="rId259" Type="http://schemas.openxmlformats.org/officeDocument/2006/relationships/slide" Target="slides/slide257.xml"/><Relationship Id="rId2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ACD-4E44-4501-B650-F40364FC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65F-37D8-4CF0-8030-44193C40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4D0-D264-4EEB-B720-87E80A1A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B49-B9CB-4EF8-B008-421129DD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6F2-3E0A-46C5-90A8-B2D7F1B2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38B-5699-4D0F-9C6E-40D48360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F275-E117-4514-980D-529794C8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92C6-C569-41C3-87B8-78A484F1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912-0F37-4BC3-990B-657E135F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1C5-460D-47A1-B074-EF28A07E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0E85-20D7-406F-9207-63A334F3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E25-F94B-42E1-BC02-B34E399B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F8EE-5B3B-4860-9070-3D258ABF7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133720"/>
            <a:ext cx="2057400" cy="2057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9568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8880" y="36576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4724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1" idx="6"/>
            <a:endCxn id="42" idx="2"/>
          </p:cNvCxnSpPr>
          <p:nvPr/>
        </p:nvCxnSpPr>
        <p:spPr>
          <a:xfrm flipV="1">
            <a:off x="2666880" y="1752480"/>
            <a:ext cx="1829160" cy="14101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2" idx="4"/>
            <a:endCxn id="44" idx="0"/>
          </p:cNvCxnSpPr>
          <p:nvPr/>
        </p:nvCxnSpPr>
        <p:spPr>
          <a:xfrm flipH="1" rot="16200000">
            <a:off x="4076640" y="3085560"/>
            <a:ext cx="2514960" cy="762480"/>
          </a:xfrm>
          <a:prstGeom prst="curvedConnector3">
            <a:avLst>
              <a:gd name="adj1" fmla="val 250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4"/>
            <a:endCxn id="43" idx="0"/>
          </p:cNvCxnSpPr>
          <p:nvPr/>
        </p:nvCxnSpPr>
        <p:spPr>
          <a:xfrm flipH="1" rot="16200000">
            <a:off x="5600520" y="1562040"/>
            <a:ext cx="1448280" cy="2743560"/>
          </a:xfrm>
          <a:prstGeom prst="curvedConnector3">
            <a:avLst>
              <a:gd name="adj1" fmla="val 25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38680" y="914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457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609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160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3048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4419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10080" y="5334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3400" y="5562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5334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2362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3429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0800" y="4419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52640" y="1676520"/>
            <a:ext cx="3395880" cy="350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581280" y="2514600"/>
            <a:ext cx="1847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Zodia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d the sig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352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ONJUNC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XED CROS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the ques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38080" y="609480"/>
            <a:ext cx="450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962520" y="457200"/>
            <a:ext cx="838080" cy="838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10280" y="457200"/>
            <a:ext cx="83844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e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010280" y="26668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6" name=""/>
          <p:cNvCxnSpPr>
            <a:stCxn id="1152" idx="4"/>
            <a:endCxn id="1157" idx="0"/>
          </p:cNvCxnSpPr>
          <p:nvPr/>
        </p:nvCxnSpPr>
        <p:spPr>
          <a:xfrm flipH="1" rot="16200000">
            <a:off x="4245480" y="1430640"/>
            <a:ext cx="305640" cy="33840"/>
          </a:xfrm>
          <a:prstGeom prst="curvedConnector5">
            <a:avLst>
              <a:gd name="adj1" fmla="val 50000"/>
              <a:gd name="adj2" fmla="val 49462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8" name=""/>
          <p:cNvCxnSpPr>
            <a:stCxn id="1152" idx="6"/>
            <a:endCxn id="1159" idx="2"/>
          </p:cNvCxnSpPr>
          <p:nvPr/>
        </p:nvCxnSpPr>
        <p:spPr>
          <a:xfrm>
            <a:off x="4800600" y="875880"/>
            <a:ext cx="697680" cy="34200"/>
          </a:xfrm>
          <a:prstGeom prst="curvedConnector5">
            <a:avLst>
              <a:gd name="adj1" fmla="val 49870"/>
              <a:gd name="adj2" fmla="val 50000"/>
              <a:gd name="adj3" fmla="val 498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59" name=""/>
          <p:cNvSpPr/>
          <p:nvPr/>
        </p:nvSpPr>
        <p:spPr>
          <a:xfrm>
            <a:off x="5497560" y="533520"/>
            <a:ext cx="750960" cy="750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0" name=""/>
          <p:cNvCxnSpPr>
            <a:stCxn id="1153" idx="2"/>
            <a:endCxn id="1159" idx="6"/>
          </p:cNvCxnSpPr>
          <p:nvPr/>
        </p:nvCxnSpPr>
        <p:spPr>
          <a:xfrm flipV="1" rot="10800000">
            <a:off x="6247800" y="875160"/>
            <a:ext cx="762480" cy="3420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61" name=""/>
          <p:cNvSpPr/>
          <p:nvPr/>
        </p:nvSpPr>
        <p:spPr>
          <a:xfrm>
            <a:off x="5573880" y="2754360"/>
            <a:ext cx="75060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2" name=""/>
          <p:cNvCxnSpPr>
            <a:stCxn id="1155" idx="2"/>
            <a:endCxn id="1161" idx="6"/>
          </p:cNvCxnSpPr>
          <p:nvPr/>
        </p:nvCxnSpPr>
        <p:spPr>
          <a:xfrm flipV="1" rot="10800000">
            <a:off x="6323760" y="3085200"/>
            <a:ext cx="686520" cy="45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3" name=""/>
          <p:cNvCxnSpPr>
            <a:stCxn id="1154" idx="6"/>
            <a:endCxn id="1161" idx="2"/>
          </p:cNvCxnSpPr>
          <p:nvPr/>
        </p:nvCxnSpPr>
        <p:spPr>
          <a:xfrm>
            <a:off x="4800600" y="3085920"/>
            <a:ext cx="774000" cy="45000"/>
          </a:xfrm>
          <a:prstGeom prst="curvedConnector5">
            <a:avLst>
              <a:gd name="adj1" fmla="val 49883"/>
              <a:gd name="adj2" fmla="val 50000"/>
              <a:gd name="adj3" fmla="val 4988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57" name=""/>
          <p:cNvSpPr/>
          <p:nvPr/>
        </p:nvSpPr>
        <p:spPr>
          <a:xfrm>
            <a:off x="4038480" y="160020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4" name=""/>
          <p:cNvCxnSpPr>
            <a:stCxn id="1157" idx="4"/>
            <a:endCxn id="1154" idx="0"/>
          </p:cNvCxnSpPr>
          <p:nvPr/>
        </p:nvCxnSpPr>
        <p:spPr>
          <a:xfrm rot="5400000">
            <a:off x="4239720" y="2492280"/>
            <a:ext cx="316440" cy="33840"/>
          </a:xfrm>
          <a:prstGeom prst="curvedConnector5">
            <a:avLst>
              <a:gd name="adj1" fmla="val 49658"/>
              <a:gd name="adj2" fmla="val 49462"/>
              <a:gd name="adj3" fmla="val 4965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65" name=""/>
          <p:cNvSpPr/>
          <p:nvPr/>
        </p:nvSpPr>
        <p:spPr>
          <a:xfrm>
            <a:off x="7086600" y="160020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6" name=""/>
          <p:cNvCxnSpPr>
            <a:stCxn id="1153" idx="4"/>
            <a:endCxn id="1165" idx="0"/>
          </p:cNvCxnSpPr>
          <p:nvPr/>
        </p:nvCxnSpPr>
        <p:spPr>
          <a:xfrm flipH="1" rot="16200000">
            <a:off x="7293600" y="1430640"/>
            <a:ext cx="305640" cy="33840"/>
          </a:xfrm>
          <a:prstGeom prst="curvedConnector5">
            <a:avLst>
              <a:gd name="adj1" fmla="val 50000"/>
              <a:gd name="adj2" fmla="val 49462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7" name=""/>
          <p:cNvCxnSpPr>
            <a:stCxn id="1165" idx="4"/>
            <a:endCxn id="1155" idx="0"/>
          </p:cNvCxnSpPr>
          <p:nvPr/>
        </p:nvCxnSpPr>
        <p:spPr>
          <a:xfrm rot="5400000">
            <a:off x="7287840" y="2492280"/>
            <a:ext cx="316440" cy="33840"/>
          </a:xfrm>
          <a:prstGeom prst="curvedConnector5">
            <a:avLst>
              <a:gd name="adj1" fmla="val 49658"/>
              <a:gd name="adj2" fmla="val 49462"/>
              <a:gd name="adj3" fmla="val 4965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68" name=""/>
          <p:cNvSpPr/>
          <p:nvPr/>
        </p:nvSpPr>
        <p:spPr>
          <a:xfrm>
            <a:off x="4952880" y="160020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9" name=""/>
          <p:cNvCxnSpPr>
            <a:stCxn id="1152" idx="5"/>
            <a:endCxn id="1168" idx="1"/>
          </p:cNvCxnSpPr>
          <p:nvPr/>
        </p:nvCxnSpPr>
        <p:spPr>
          <a:xfrm flipH="1" rot="16200000">
            <a:off x="4602240" y="1248840"/>
            <a:ext cx="536760" cy="385200"/>
          </a:xfrm>
          <a:prstGeom prst="curvedConnector5">
            <a:avLst>
              <a:gd name="adj1" fmla="val 51208"/>
              <a:gd name="adj2" fmla="val 49953"/>
              <a:gd name="adj3" fmla="val 5120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0" name=""/>
          <p:cNvCxnSpPr>
            <a:stCxn id="1168" idx="5"/>
            <a:endCxn id="1155" idx="1"/>
          </p:cNvCxnSpPr>
          <p:nvPr/>
        </p:nvCxnSpPr>
        <p:spPr>
          <a:xfrm flipH="1" rot="16200000">
            <a:off x="6088680" y="1746000"/>
            <a:ext cx="548280" cy="1539000"/>
          </a:xfrm>
          <a:prstGeom prst="curvedConnector5">
            <a:avLst>
              <a:gd name="adj1" fmla="val 48685"/>
              <a:gd name="adj2" fmla="val 50000"/>
              <a:gd name="adj3" fmla="val 486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71" name=""/>
          <p:cNvSpPr/>
          <p:nvPr/>
        </p:nvSpPr>
        <p:spPr>
          <a:xfrm>
            <a:off x="6095880" y="160020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2" name=""/>
          <p:cNvCxnSpPr>
            <a:stCxn id="1154" idx="7"/>
            <a:endCxn id="1171" idx="3"/>
          </p:cNvCxnSpPr>
          <p:nvPr/>
        </p:nvCxnSpPr>
        <p:spPr>
          <a:xfrm flipH="1" flipV="1" rot="5400000">
            <a:off x="5167800" y="1751040"/>
            <a:ext cx="548280" cy="1528200"/>
          </a:xfrm>
          <a:prstGeom prst="curvedConnector5">
            <a:avLst>
              <a:gd name="adj1" fmla="val 50985"/>
              <a:gd name="adj2" fmla="val 50000"/>
              <a:gd name="adj3" fmla="val 509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3" name=""/>
          <p:cNvCxnSpPr>
            <a:stCxn id="1171" idx="7"/>
            <a:endCxn id="1153" idx="3"/>
          </p:cNvCxnSpPr>
          <p:nvPr/>
        </p:nvCxnSpPr>
        <p:spPr>
          <a:xfrm flipH="1" flipV="1" rot="5400000">
            <a:off x="6666840" y="1243800"/>
            <a:ext cx="536760" cy="396000"/>
          </a:xfrm>
          <a:prstGeom prst="curvedConnector5">
            <a:avLst>
              <a:gd name="adj1" fmla="val 48791"/>
              <a:gd name="adj2" fmla="val 49954"/>
              <a:gd name="adj3" fmla="val 4879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174" name=""/>
          <p:cNvGrpSpPr/>
          <p:nvPr/>
        </p:nvGrpSpPr>
        <p:grpSpPr>
          <a:xfrm>
            <a:off x="990720" y="4114800"/>
            <a:ext cx="1066680" cy="1066680"/>
            <a:chOff x="990720" y="4114800"/>
            <a:chExt cx="1066680" cy="1066680"/>
          </a:xfrm>
        </p:grpSpPr>
        <p:sp>
          <p:nvSpPr>
            <p:cNvPr id="1175" name=""/>
            <p:cNvSpPr/>
            <p:nvPr/>
          </p:nvSpPr>
          <p:spPr>
            <a:xfrm>
              <a:off x="990720" y="41148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066680" y="4190760"/>
              <a:ext cx="228240" cy="228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4191120" y="5181480"/>
            <a:ext cx="1066680" cy="1067040"/>
            <a:chOff x="4191120" y="5181480"/>
            <a:chExt cx="1066680" cy="1067040"/>
          </a:xfrm>
        </p:grpSpPr>
        <p:sp>
          <p:nvSpPr>
            <p:cNvPr id="1178" name=""/>
            <p:cNvSpPr/>
            <p:nvPr/>
          </p:nvSpPr>
          <p:spPr>
            <a:xfrm>
              <a:off x="4191120" y="5181480"/>
              <a:ext cx="1066680" cy="10670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343400" y="5334120"/>
              <a:ext cx="762120" cy="76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7467480" y="5181480"/>
            <a:ext cx="1067040" cy="1067040"/>
            <a:chOff x="7467480" y="5181480"/>
            <a:chExt cx="1067040" cy="1067040"/>
          </a:xfrm>
        </p:grpSpPr>
        <p:sp>
          <p:nvSpPr>
            <p:cNvPr id="1181" name=""/>
            <p:cNvSpPr/>
            <p:nvPr/>
          </p:nvSpPr>
          <p:spPr>
            <a:xfrm>
              <a:off x="7467480" y="5181480"/>
              <a:ext cx="1067040" cy="10670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620120" y="5334120"/>
              <a:ext cx="76176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6400800" y="4114800"/>
            <a:ext cx="1066680" cy="1066680"/>
            <a:chOff x="6400800" y="4114800"/>
            <a:chExt cx="1066680" cy="1066680"/>
          </a:xfrm>
        </p:grpSpPr>
        <p:sp>
          <p:nvSpPr>
            <p:cNvPr id="1184" name=""/>
            <p:cNvSpPr/>
            <p:nvPr/>
          </p:nvSpPr>
          <p:spPr>
            <a:xfrm>
              <a:off x="6400800" y="41148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53080" y="426708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2057400" y="4114800"/>
            <a:ext cx="1066680" cy="1066680"/>
            <a:chOff x="2057400" y="4114800"/>
            <a:chExt cx="1066680" cy="1066680"/>
          </a:xfrm>
        </p:grpSpPr>
        <p:sp>
          <p:nvSpPr>
            <p:cNvPr id="1187" name=""/>
            <p:cNvSpPr/>
            <p:nvPr/>
          </p:nvSpPr>
          <p:spPr>
            <a:xfrm>
              <a:off x="2057400" y="41148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133360" y="4190760"/>
              <a:ext cx="22824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990720" y="5181480"/>
            <a:ext cx="1066680" cy="1067040"/>
            <a:chOff x="990720" y="5181480"/>
            <a:chExt cx="1066680" cy="1067040"/>
          </a:xfrm>
        </p:grpSpPr>
        <p:sp>
          <p:nvSpPr>
            <p:cNvPr id="1190" name=""/>
            <p:cNvSpPr/>
            <p:nvPr/>
          </p:nvSpPr>
          <p:spPr>
            <a:xfrm>
              <a:off x="990720" y="5181480"/>
              <a:ext cx="1066680" cy="10670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143000" y="5334120"/>
              <a:ext cx="76212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2057400" y="5181480"/>
            <a:ext cx="1066680" cy="1067040"/>
            <a:chOff x="2057400" y="5181480"/>
            <a:chExt cx="1066680" cy="1067040"/>
          </a:xfrm>
        </p:grpSpPr>
        <p:sp>
          <p:nvSpPr>
            <p:cNvPr id="1193" name=""/>
            <p:cNvSpPr/>
            <p:nvPr/>
          </p:nvSpPr>
          <p:spPr>
            <a:xfrm>
              <a:off x="2057400" y="5181480"/>
              <a:ext cx="1066680" cy="1067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09680" y="5334120"/>
              <a:ext cx="762120" cy="7617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7467480" y="4114800"/>
            <a:ext cx="1067040" cy="1066680"/>
            <a:chOff x="7467480" y="4114800"/>
            <a:chExt cx="1067040" cy="1066680"/>
          </a:xfrm>
        </p:grpSpPr>
        <p:sp>
          <p:nvSpPr>
            <p:cNvPr id="1196" name=""/>
            <p:cNvSpPr/>
            <p:nvPr/>
          </p:nvSpPr>
          <p:spPr>
            <a:xfrm>
              <a:off x="7467480" y="411480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620120" y="4267080"/>
              <a:ext cx="76176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3124080" y="4114800"/>
            <a:ext cx="1067040" cy="1066680"/>
            <a:chOff x="3124080" y="4114800"/>
            <a:chExt cx="1067040" cy="1066680"/>
          </a:xfrm>
        </p:grpSpPr>
        <p:sp>
          <p:nvSpPr>
            <p:cNvPr id="1199" name=""/>
            <p:cNvSpPr/>
            <p:nvPr/>
          </p:nvSpPr>
          <p:spPr>
            <a:xfrm>
              <a:off x="3124080" y="411480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200400" y="419112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4191120" y="4114800"/>
            <a:ext cx="1066680" cy="1066680"/>
            <a:chOff x="4191120" y="4114800"/>
            <a:chExt cx="1066680" cy="1066680"/>
          </a:xfrm>
        </p:grpSpPr>
        <p:sp>
          <p:nvSpPr>
            <p:cNvPr id="1202" name=""/>
            <p:cNvSpPr/>
            <p:nvPr/>
          </p:nvSpPr>
          <p:spPr>
            <a:xfrm>
              <a:off x="4191120" y="41148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67080" y="4190760"/>
              <a:ext cx="22824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3124080" y="5181480"/>
            <a:ext cx="1066680" cy="1067040"/>
            <a:chOff x="3124080" y="5181480"/>
            <a:chExt cx="1066680" cy="1067040"/>
          </a:xfrm>
        </p:grpSpPr>
        <p:sp>
          <p:nvSpPr>
            <p:cNvPr id="1205" name=""/>
            <p:cNvSpPr/>
            <p:nvPr/>
          </p:nvSpPr>
          <p:spPr>
            <a:xfrm>
              <a:off x="3124080" y="5181480"/>
              <a:ext cx="10666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276360" y="5334120"/>
              <a:ext cx="762120" cy="7617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6400800" y="5181480"/>
            <a:ext cx="1066680" cy="1066680"/>
            <a:chOff x="6400800" y="5181480"/>
            <a:chExt cx="1066680" cy="1066680"/>
          </a:xfrm>
        </p:grpSpPr>
        <p:sp>
          <p:nvSpPr>
            <p:cNvPr id="1208" name=""/>
            <p:cNvSpPr/>
            <p:nvPr/>
          </p:nvSpPr>
          <p:spPr>
            <a:xfrm>
              <a:off x="6400800" y="518148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553080" y="5333760"/>
              <a:ext cx="761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q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0" name=""/>
          <p:cNvGrpSpPr/>
          <p:nvPr/>
        </p:nvGrpSpPr>
        <p:grpSpPr>
          <a:xfrm>
            <a:off x="1676520" y="1523880"/>
            <a:ext cx="1066680" cy="1067040"/>
            <a:chOff x="1676520" y="1523880"/>
            <a:chExt cx="1066680" cy="1067040"/>
          </a:xfrm>
        </p:grpSpPr>
        <p:sp>
          <p:nvSpPr>
            <p:cNvPr id="1211" name=""/>
            <p:cNvSpPr/>
            <p:nvPr/>
          </p:nvSpPr>
          <p:spPr>
            <a:xfrm>
              <a:off x="1676520" y="1523880"/>
              <a:ext cx="1066680" cy="10670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752480" y="1600200"/>
              <a:ext cx="228240" cy="2286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4876920" y="4038480"/>
            <a:ext cx="1066680" cy="1067040"/>
            <a:chOff x="4876920" y="4038480"/>
            <a:chExt cx="1066680" cy="1067040"/>
          </a:xfrm>
        </p:grpSpPr>
        <p:sp>
          <p:nvSpPr>
            <p:cNvPr id="1214" name=""/>
            <p:cNvSpPr/>
            <p:nvPr/>
          </p:nvSpPr>
          <p:spPr>
            <a:xfrm>
              <a:off x="4876920" y="4038480"/>
              <a:ext cx="1066680" cy="10670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029200" y="4191120"/>
              <a:ext cx="762120" cy="76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7467480" y="5486400"/>
            <a:ext cx="1067040" cy="1066680"/>
            <a:chOff x="7467480" y="5486400"/>
            <a:chExt cx="1067040" cy="1066680"/>
          </a:xfrm>
        </p:grpSpPr>
        <p:sp>
          <p:nvSpPr>
            <p:cNvPr id="1217" name=""/>
            <p:cNvSpPr/>
            <p:nvPr/>
          </p:nvSpPr>
          <p:spPr>
            <a:xfrm>
              <a:off x="7467480" y="54864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620120" y="5638680"/>
              <a:ext cx="76176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6400800" y="380880"/>
            <a:ext cx="1066680" cy="1066680"/>
            <a:chOff x="6400800" y="380880"/>
            <a:chExt cx="1066680" cy="1066680"/>
          </a:xfrm>
        </p:grpSpPr>
        <p:sp>
          <p:nvSpPr>
            <p:cNvPr id="1220" name=""/>
            <p:cNvSpPr/>
            <p:nvPr/>
          </p:nvSpPr>
          <p:spPr>
            <a:xfrm>
              <a:off x="6400800" y="38088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553080" y="53316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2743200" y="1523880"/>
            <a:ext cx="1066680" cy="1067040"/>
            <a:chOff x="2743200" y="1523880"/>
            <a:chExt cx="1066680" cy="1067040"/>
          </a:xfrm>
        </p:grpSpPr>
        <p:sp>
          <p:nvSpPr>
            <p:cNvPr id="1223" name=""/>
            <p:cNvSpPr/>
            <p:nvPr/>
          </p:nvSpPr>
          <p:spPr>
            <a:xfrm>
              <a:off x="2743200" y="1523880"/>
              <a:ext cx="1066680" cy="10670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819160" y="1600200"/>
              <a:ext cx="22824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1676520" y="4038480"/>
            <a:ext cx="1066680" cy="1067040"/>
            <a:chOff x="1676520" y="4038480"/>
            <a:chExt cx="1066680" cy="1067040"/>
          </a:xfrm>
        </p:grpSpPr>
        <p:sp>
          <p:nvSpPr>
            <p:cNvPr id="1226" name=""/>
            <p:cNvSpPr/>
            <p:nvPr/>
          </p:nvSpPr>
          <p:spPr>
            <a:xfrm>
              <a:off x="1676520" y="4038480"/>
              <a:ext cx="1066680" cy="10670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828800" y="4191120"/>
              <a:ext cx="76212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2743200" y="4038480"/>
            <a:ext cx="1066680" cy="1067040"/>
            <a:chOff x="2743200" y="4038480"/>
            <a:chExt cx="1066680" cy="1067040"/>
          </a:xfrm>
        </p:grpSpPr>
        <p:sp>
          <p:nvSpPr>
            <p:cNvPr id="1229" name=""/>
            <p:cNvSpPr/>
            <p:nvPr/>
          </p:nvSpPr>
          <p:spPr>
            <a:xfrm>
              <a:off x="2743200" y="4038480"/>
              <a:ext cx="1066680" cy="1067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895480" y="4191120"/>
              <a:ext cx="762120" cy="7617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7467480" y="380880"/>
            <a:ext cx="1067040" cy="1067040"/>
            <a:chOff x="7467480" y="380880"/>
            <a:chExt cx="1067040" cy="1067040"/>
          </a:xfrm>
        </p:grpSpPr>
        <p:sp>
          <p:nvSpPr>
            <p:cNvPr id="1232" name=""/>
            <p:cNvSpPr/>
            <p:nvPr/>
          </p:nvSpPr>
          <p:spPr>
            <a:xfrm>
              <a:off x="7467480" y="380880"/>
              <a:ext cx="1067040" cy="1067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620120" y="533520"/>
              <a:ext cx="761760" cy="7617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3809880" y="1523880"/>
            <a:ext cx="1067040" cy="1066680"/>
            <a:chOff x="3809880" y="1523880"/>
            <a:chExt cx="1067040" cy="1066680"/>
          </a:xfrm>
        </p:grpSpPr>
        <p:sp>
          <p:nvSpPr>
            <p:cNvPr id="1235" name=""/>
            <p:cNvSpPr/>
            <p:nvPr/>
          </p:nvSpPr>
          <p:spPr>
            <a:xfrm>
              <a:off x="3809880" y="152388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86200" y="1600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4876920" y="1506600"/>
            <a:ext cx="1066680" cy="1066680"/>
            <a:chOff x="4876920" y="1506600"/>
            <a:chExt cx="1066680" cy="1066680"/>
          </a:xfrm>
        </p:grpSpPr>
        <p:sp>
          <p:nvSpPr>
            <p:cNvPr id="1238" name=""/>
            <p:cNvSpPr/>
            <p:nvPr/>
          </p:nvSpPr>
          <p:spPr>
            <a:xfrm>
              <a:off x="4876920" y="15066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952880" y="1582560"/>
              <a:ext cx="22824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3809880" y="4038480"/>
            <a:ext cx="1066680" cy="1067040"/>
            <a:chOff x="3809880" y="4038480"/>
            <a:chExt cx="1066680" cy="1067040"/>
          </a:xfrm>
        </p:grpSpPr>
        <p:sp>
          <p:nvSpPr>
            <p:cNvPr id="1241" name=""/>
            <p:cNvSpPr/>
            <p:nvPr/>
          </p:nvSpPr>
          <p:spPr>
            <a:xfrm>
              <a:off x="3809880" y="4038480"/>
              <a:ext cx="10666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962160" y="4191120"/>
              <a:ext cx="762120" cy="7617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6400800" y="5486400"/>
            <a:ext cx="1066680" cy="1066680"/>
            <a:chOff x="6400800" y="5486400"/>
            <a:chExt cx="1066680" cy="1066680"/>
          </a:xfrm>
        </p:grpSpPr>
        <p:sp>
          <p:nvSpPr>
            <p:cNvPr id="1244" name=""/>
            <p:cNvSpPr/>
            <p:nvPr/>
          </p:nvSpPr>
          <p:spPr>
            <a:xfrm>
              <a:off x="6400800" y="54864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553080" y="5638680"/>
              <a:ext cx="761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q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1371600" y="533520"/>
            <a:ext cx="450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33520" y="1676520"/>
            <a:ext cx="838080" cy="838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172200" y="1676520"/>
            <a:ext cx="83808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4191120"/>
            <a:ext cx="838080" cy="838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e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172200" y="41911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1" name=""/>
          <p:cNvCxnSpPr>
            <a:stCxn id="1247" idx="5"/>
            <a:endCxn id="1252" idx="0"/>
          </p:cNvCxnSpPr>
          <p:nvPr/>
        </p:nvCxnSpPr>
        <p:spPr>
          <a:xfrm flipH="1" rot="16200000">
            <a:off x="1926000" y="1713960"/>
            <a:ext cx="515160" cy="1870920"/>
          </a:xfrm>
          <a:prstGeom prst="curvedConnector5">
            <a:avLst>
              <a:gd name="adj1" fmla="val 61678"/>
              <a:gd name="adj2" fmla="val 50000"/>
              <a:gd name="adj3" fmla="val 6167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53" name=""/>
          <p:cNvCxnSpPr>
            <a:stCxn id="1247" idx="0"/>
            <a:endCxn id="1254" idx="2"/>
          </p:cNvCxnSpPr>
          <p:nvPr/>
        </p:nvCxnSpPr>
        <p:spPr>
          <a:xfrm flipH="1" flipV="1" rot="5400000">
            <a:off x="1727640" y="40320"/>
            <a:ext cx="861120" cy="2412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4" name=""/>
          <p:cNvSpPr/>
          <p:nvPr/>
        </p:nvSpPr>
        <p:spPr>
          <a:xfrm>
            <a:off x="3363840" y="43956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5" name=""/>
          <p:cNvCxnSpPr>
            <a:stCxn id="1248" idx="0"/>
            <a:endCxn id="1254" idx="6"/>
          </p:cNvCxnSpPr>
          <p:nvPr/>
        </p:nvCxnSpPr>
        <p:spPr>
          <a:xfrm flipV="1" rot="16200000">
            <a:off x="4922280" y="7560"/>
            <a:ext cx="861120" cy="24771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6" name=""/>
          <p:cNvSpPr/>
          <p:nvPr/>
        </p:nvSpPr>
        <p:spPr>
          <a:xfrm>
            <a:off x="3314880" y="5562720"/>
            <a:ext cx="750600" cy="750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7" name=""/>
          <p:cNvCxnSpPr>
            <a:stCxn id="1249" idx="5"/>
            <a:endCxn id="1256" idx="2"/>
          </p:cNvCxnSpPr>
          <p:nvPr/>
        </p:nvCxnSpPr>
        <p:spPr>
          <a:xfrm flipH="1" rot="16200000">
            <a:off x="1765800" y="4389480"/>
            <a:ext cx="1032840" cy="20664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2" name=""/>
          <p:cNvSpPr/>
          <p:nvPr/>
        </p:nvSpPr>
        <p:spPr>
          <a:xfrm>
            <a:off x="2743200" y="290664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8" name=""/>
          <p:cNvCxnSpPr>
            <a:stCxn id="1252" idx="4"/>
            <a:endCxn id="1249" idx="0"/>
          </p:cNvCxnSpPr>
          <p:nvPr/>
        </p:nvCxnSpPr>
        <p:spPr>
          <a:xfrm rot="5400000">
            <a:off x="1768320" y="2840760"/>
            <a:ext cx="534240" cy="21675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9" name=""/>
          <p:cNvSpPr/>
          <p:nvPr/>
        </p:nvSpPr>
        <p:spPr>
          <a:xfrm>
            <a:off x="5116680" y="2906640"/>
            <a:ext cx="75060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0" name=""/>
          <p:cNvCxnSpPr>
            <a:stCxn id="1248" idx="4"/>
            <a:endCxn id="1259" idx="7"/>
          </p:cNvCxnSpPr>
          <p:nvPr/>
        </p:nvCxnSpPr>
        <p:spPr>
          <a:xfrm rot="5400000">
            <a:off x="5923080" y="2347920"/>
            <a:ext cx="501840" cy="834120"/>
          </a:xfrm>
          <a:prstGeom prst="curvedConnector5">
            <a:avLst>
              <a:gd name="adj1" fmla="val 38908"/>
              <a:gd name="adj2" fmla="val 50000"/>
              <a:gd name="adj3" fmla="val 3890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61" name=""/>
          <p:cNvSpPr/>
          <p:nvPr/>
        </p:nvSpPr>
        <p:spPr>
          <a:xfrm>
            <a:off x="1600200" y="291312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2" name=""/>
          <p:cNvCxnSpPr>
            <a:stCxn id="1247" idx="3"/>
            <a:endCxn id="1261" idx="1"/>
          </p:cNvCxnSpPr>
          <p:nvPr/>
        </p:nvCxnSpPr>
        <p:spPr>
          <a:xfrm flipH="1" rot="16200000">
            <a:off x="867240" y="2179800"/>
            <a:ext cx="631080" cy="1054800"/>
          </a:xfrm>
          <a:prstGeom prst="curvedConnector5">
            <a:avLst>
              <a:gd name="adj1" fmla="val 50856"/>
              <a:gd name="adj2" fmla="val 49982"/>
              <a:gd name="adj3" fmla="val 5085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63" name=""/>
          <p:cNvSpPr/>
          <p:nvPr/>
        </p:nvSpPr>
        <p:spPr>
          <a:xfrm>
            <a:off x="3886200" y="290664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4" name=""/>
          <p:cNvCxnSpPr>
            <a:stCxn id="1249" idx="7"/>
            <a:endCxn id="1263" idx="3"/>
          </p:cNvCxnSpPr>
          <p:nvPr/>
        </p:nvCxnSpPr>
        <p:spPr>
          <a:xfrm flipH="1" flipV="1" rot="5400000">
            <a:off x="2239560" y="2556720"/>
            <a:ext cx="765720" cy="2747160"/>
          </a:xfrm>
          <a:prstGeom prst="curvedConnector5">
            <a:avLst>
              <a:gd name="adj1" fmla="val 50799"/>
              <a:gd name="adj2" fmla="val 50000"/>
              <a:gd name="adj3" fmla="val 5079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65" name=""/>
          <p:cNvCxnSpPr>
            <a:stCxn id="1263" idx="7"/>
            <a:endCxn id="1248" idx="3"/>
          </p:cNvCxnSpPr>
          <p:nvPr/>
        </p:nvCxnSpPr>
        <p:spPr>
          <a:xfrm flipH="1" flipV="1" rot="5400000">
            <a:off x="5099040" y="1820160"/>
            <a:ext cx="624600" cy="1767600"/>
          </a:xfrm>
          <a:prstGeom prst="curvedConnector5">
            <a:avLst>
              <a:gd name="adj1" fmla="val 48846"/>
              <a:gd name="adj2" fmla="val 49989"/>
              <a:gd name="adj3" fmla="val 4884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66" name=""/>
          <p:cNvCxnSpPr>
            <a:stCxn id="1250" idx="3"/>
            <a:endCxn id="1256" idx="6"/>
          </p:cNvCxnSpPr>
          <p:nvPr/>
        </p:nvCxnSpPr>
        <p:spPr>
          <a:xfrm rot="5400000">
            <a:off x="4663440" y="4308120"/>
            <a:ext cx="1032840" cy="22298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67" name=""/>
          <p:cNvCxnSpPr>
            <a:stCxn id="1259" idx="6"/>
            <a:endCxn id="1250" idx="0"/>
          </p:cNvCxnSpPr>
          <p:nvPr/>
        </p:nvCxnSpPr>
        <p:spPr>
          <a:xfrm>
            <a:off x="5866920" y="3282480"/>
            <a:ext cx="724680" cy="909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68" name=""/>
          <p:cNvCxnSpPr>
            <a:stCxn id="1261" idx="5"/>
            <a:endCxn id="1250" idx="1"/>
          </p:cNvCxnSpPr>
          <p:nvPr/>
        </p:nvCxnSpPr>
        <p:spPr>
          <a:xfrm flipH="1" rot="16200000">
            <a:off x="3888720" y="1906920"/>
            <a:ext cx="759600" cy="4053600"/>
          </a:xfrm>
          <a:prstGeom prst="curvedConnector5">
            <a:avLst>
              <a:gd name="adj1" fmla="val 49122"/>
              <a:gd name="adj2" fmla="val 49995"/>
              <a:gd name="adj3" fmla="val 491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69" name=""/>
          <p:cNvSpPr txBox="1"/>
          <p:nvPr/>
        </p:nvSpPr>
        <p:spPr>
          <a:xfrm>
            <a:off x="6781680" y="2438280"/>
            <a:ext cx="1981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HRE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ROSSE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UNTIED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/>
          <p:nvPr/>
        </p:nvSpPr>
        <p:spPr>
          <a:xfrm>
            <a:off x="533520" y="685800"/>
            <a:ext cx="1447560" cy="1447920"/>
          </a:xfrm>
          <a:prstGeom prst="ellipse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086600" y="685800"/>
            <a:ext cx="1447920" cy="14479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33520" y="4800600"/>
            <a:ext cx="1447560" cy="1447920"/>
          </a:xfrm>
          <a:prstGeom prst="ellipse">
            <a:avLst/>
          </a:prstGeom>
          <a:solidFill>
            <a:srgbClr val="00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086600" y="4800600"/>
            <a:ext cx="1447920" cy="144792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4" name=""/>
          <p:cNvCxnSpPr>
            <a:stCxn id="1270" idx="4"/>
            <a:endCxn id="1275" idx="0"/>
          </p:cNvCxnSpPr>
          <p:nvPr/>
        </p:nvCxnSpPr>
        <p:spPr>
          <a:xfrm flipV="1" rot="10800000">
            <a:off x="1256760" y="2133360"/>
            <a:ext cx="1080" cy="7624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6" name=""/>
          <p:cNvCxnSpPr>
            <a:stCxn id="1270" idx="6"/>
            <a:endCxn id="1277" idx="2"/>
          </p:cNvCxnSpPr>
          <p:nvPr/>
        </p:nvCxnSpPr>
        <p:spPr>
          <a:xfrm>
            <a:off x="1981080" y="1409400"/>
            <a:ext cx="1982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7" name=""/>
          <p:cNvSpPr/>
          <p:nvPr/>
        </p:nvSpPr>
        <p:spPr>
          <a:xfrm>
            <a:off x="3962520" y="762120"/>
            <a:ext cx="1295280" cy="129528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8" name=""/>
          <p:cNvCxnSpPr>
            <a:stCxn id="1271" idx="2"/>
            <a:endCxn id="1277" idx="6"/>
          </p:cNvCxnSpPr>
          <p:nvPr/>
        </p:nvCxnSpPr>
        <p:spPr>
          <a:xfrm rot="10800000">
            <a:off x="5257080" y="1409040"/>
            <a:ext cx="18295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9" name=""/>
          <p:cNvSpPr/>
          <p:nvPr/>
        </p:nvSpPr>
        <p:spPr>
          <a:xfrm>
            <a:off x="3962520" y="4876920"/>
            <a:ext cx="1295280" cy="129528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0" name=""/>
          <p:cNvCxnSpPr>
            <a:stCxn id="1273" idx="2"/>
            <a:endCxn id="1279" idx="6"/>
          </p:cNvCxnSpPr>
          <p:nvPr/>
        </p:nvCxnSpPr>
        <p:spPr>
          <a:xfrm rot="10800000">
            <a:off x="5257080" y="5523840"/>
            <a:ext cx="18295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81" name=""/>
          <p:cNvCxnSpPr>
            <a:stCxn id="1272" idx="6"/>
            <a:endCxn id="1279" idx="2"/>
          </p:cNvCxnSpPr>
          <p:nvPr/>
        </p:nvCxnSpPr>
        <p:spPr>
          <a:xfrm>
            <a:off x="1981080" y="5524200"/>
            <a:ext cx="1982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5" name=""/>
          <p:cNvSpPr/>
          <p:nvPr/>
        </p:nvSpPr>
        <p:spPr>
          <a:xfrm>
            <a:off x="609480" y="2895480"/>
            <a:ext cx="1295640" cy="129564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2" name=""/>
          <p:cNvCxnSpPr>
            <a:stCxn id="1275" idx="4"/>
            <a:endCxn id="1272" idx="0"/>
          </p:cNvCxnSpPr>
          <p:nvPr/>
        </p:nvCxnSpPr>
        <p:spPr>
          <a:xfrm flipV="1" rot="10800000">
            <a:off x="1256760" y="4190760"/>
            <a:ext cx="108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3" name=""/>
          <p:cNvSpPr/>
          <p:nvPr/>
        </p:nvSpPr>
        <p:spPr>
          <a:xfrm>
            <a:off x="7162920" y="2895480"/>
            <a:ext cx="1295280" cy="129564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4" name=""/>
          <p:cNvCxnSpPr>
            <a:stCxn id="1271" idx="4"/>
            <a:endCxn id="1283" idx="0"/>
          </p:cNvCxnSpPr>
          <p:nvPr/>
        </p:nvCxnSpPr>
        <p:spPr>
          <a:xfrm flipV="1" rot="10800000">
            <a:off x="7809840" y="2133360"/>
            <a:ext cx="1080" cy="7624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85" name=""/>
          <p:cNvCxnSpPr>
            <a:stCxn id="1283" idx="4"/>
            <a:endCxn id="1273" idx="0"/>
          </p:cNvCxnSpPr>
          <p:nvPr/>
        </p:nvCxnSpPr>
        <p:spPr>
          <a:xfrm flipV="1" rot="10800000">
            <a:off x="7809840" y="4190760"/>
            <a:ext cx="108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6" name=""/>
          <p:cNvSpPr/>
          <p:nvPr/>
        </p:nvSpPr>
        <p:spPr>
          <a:xfrm>
            <a:off x="2895480" y="2895480"/>
            <a:ext cx="1295640" cy="129564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7" name=""/>
          <p:cNvCxnSpPr>
            <a:stCxn id="1270" idx="5"/>
            <a:endCxn id="1286" idx="1"/>
          </p:cNvCxnSpPr>
          <p:nvPr/>
        </p:nvCxnSpPr>
        <p:spPr>
          <a:xfrm flipH="1" rot="16200000">
            <a:off x="1844640" y="1844640"/>
            <a:ext cx="1164240" cy="1316520"/>
          </a:xfrm>
          <a:prstGeom prst="curvedConnector5">
            <a:avLst>
              <a:gd name="adj1" fmla="val 51005"/>
              <a:gd name="adj2" fmla="val 50000"/>
              <a:gd name="adj3" fmla="val 5100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88" name=""/>
          <p:cNvCxnSpPr>
            <a:stCxn id="1286" idx="5"/>
            <a:endCxn id="1273" idx="1"/>
          </p:cNvCxnSpPr>
          <p:nvPr/>
        </p:nvCxnSpPr>
        <p:spPr>
          <a:xfrm flipH="1" rot="16200000">
            <a:off x="5144040" y="2858760"/>
            <a:ext cx="1011960" cy="3297960"/>
          </a:xfrm>
          <a:prstGeom prst="curvedConnector5">
            <a:avLst>
              <a:gd name="adj1" fmla="val 48790"/>
              <a:gd name="adj2" fmla="val 50000"/>
              <a:gd name="adj3" fmla="val 487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9" name=""/>
          <p:cNvSpPr/>
          <p:nvPr/>
        </p:nvSpPr>
        <p:spPr>
          <a:xfrm>
            <a:off x="5029200" y="2895480"/>
            <a:ext cx="1295280" cy="129564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0" name=""/>
          <p:cNvCxnSpPr>
            <a:stCxn id="1272" idx="7"/>
            <a:endCxn id="1289" idx="3"/>
          </p:cNvCxnSpPr>
          <p:nvPr/>
        </p:nvCxnSpPr>
        <p:spPr>
          <a:xfrm flipH="1" flipV="1" rot="5400000">
            <a:off x="2987280" y="2782080"/>
            <a:ext cx="1011960" cy="3450600"/>
          </a:xfrm>
          <a:prstGeom prst="curvedConnector5">
            <a:avLst>
              <a:gd name="adj1" fmla="val 51174"/>
              <a:gd name="adj2" fmla="val 50000"/>
              <a:gd name="adj3" fmla="val 5117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91" name=""/>
          <p:cNvCxnSpPr>
            <a:stCxn id="1289" idx="7"/>
            <a:endCxn id="1271" idx="3"/>
          </p:cNvCxnSpPr>
          <p:nvPr/>
        </p:nvCxnSpPr>
        <p:spPr>
          <a:xfrm flipH="1" flipV="1" rot="5400000">
            <a:off x="6135480" y="1920600"/>
            <a:ext cx="1164240" cy="1164240"/>
          </a:xfrm>
          <a:prstGeom prst="curvedConnector5">
            <a:avLst>
              <a:gd name="adj1" fmla="val 48963"/>
              <a:gd name="adj2" fmla="val 49984"/>
              <a:gd name="adj3" fmla="val 4896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762120" y="2971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f this show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what we expec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astrology to cov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3" name=""/>
          <p:cNvGrpSpPr/>
          <p:nvPr/>
        </p:nvGrpSpPr>
        <p:grpSpPr>
          <a:xfrm>
            <a:off x="1676520" y="1523880"/>
            <a:ext cx="1066680" cy="1067040"/>
            <a:chOff x="1676520" y="1523880"/>
            <a:chExt cx="1066680" cy="1067040"/>
          </a:xfrm>
        </p:grpSpPr>
        <p:sp>
          <p:nvSpPr>
            <p:cNvPr id="1294" name=""/>
            <p:cNvSpPr/>
            <p:nvPr/>
          </p:nvSpPr>
          <p:spPr>
            <a:xfrm>
              <a:off x="1676520" y="1523880"/>
              <a:ext cx="1066680" cy="10670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752480" y="1600200"/>
              <a:ext cx="228240" cy="2286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4876920" y="4038480"/>
            <a:ext cx="1066680" cy="1067040"/>
            <a:chOff x="4876920" y="4038480"/>
            <a:chExt cx="1066680" cy="1067040"/>
          </a:xfrm>
        </p:grpSpPr>
        <p:sp>
          <p:nvSpPr>
            <p:cNvPr id="1297" name=""/>
            <p:cNvSpPr/>
            <p:nvPr/>
          </p:nvSpPr>
          <p:spPr>
            <a:xfrm>
              <a:off x="4876920" y="4038480"/>
              <a:ext cx="1066680" cy="10670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29200" y="4191120"/>
              <a:ext cx="762120" cy="76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7467480" y="5486400"/>
            <a:ext cx="1067040" cy="1066680"/>
            <a:chOff x="7467480" y="5486400"/>
            <a:chExt cx="1067040" cy="1066680"/>
          </a:xfrm>
        </p:grpSpPr>
        <p:sp>
          <p:nvSpPr>
            <p:cNvPr id="1300" name=""/>
            <p:cNvSpPr/>
            <p:nvPr/>
          </p:nvSpPr>
          <p:spPr>
            <a:xfrm>
              <a:off x="7467480" y="54864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620120" y="5638680"/>
              <a:ext cx="76176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6400800" y="380880"/>
            <a:ext cx="1066680" cy="1066680"/>
            <a:chOff x="6400800" y="380880"/>
            <a:chExt cx="1066680" cy="1066680"/>
          </a:xfrm>
        </p:grpSpPr>
        <p:sp>
          <p:nvSpPr>
            <p:cNvPr id="1303" name=""/>
            <p:cNvSpPr/>
            <p:nvPr/>
          </p:nvSpPr>
          <p:spPr>
            <a:xfrm>
              <a:off x="6400800" y="38088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553080" y="53316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2743200" y="1523880"/>
            <a:ext cx="1066680" cy="1067040"/>
            <a:chOff x="2743200" y="1523880"/>
            <a:chExt cx="1066680" cy="1067040"/>
          </a:xfrm>
        </p:grpSpPr>
        <p:sp>
          <p:nvSpPr>
            <p:cNvPr id="1306" name=""/>
            <p:cNvSpPr/>
            <p:nvPr/>
          </p:nvSpPr>
          <p:spPr>
            <a:xfrm>
              <a:off x="2743200" y="1523880"/>
              <a:ext cx="1066680" cy="10670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819160" y="1600200"/>
              <a:ext cx="22824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1676520" y="4038480"/>
            <a:ext cx="1066680" cy="1067040"/>
            <a:chOff x="1676520" y="4038480"/>
            <a:chExt cx="1066680" cy="1067040"/>
          </a:xfrm>
        </p:grpSpPr>
        <p:sp>
          <p:nvSpPr>
            <p:cNvPr id="1309" name=""/>
            <p:cNvSpPr/>
            <p:nvPr/>
          </p:nvSpPr>
          <p:spPr>
            <a:xfrm>
              <a:off x="1676520" y="4038480"/>
              <a:ext cx="1066680" cy="10670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828800" y="4191120"/>
              <a:ext cx="76212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2743200" y="4038480"/>
            <a:ext cx="1066680" cy="1067040"/>
            <a:chOff x="2743200" y="4038480"/>
            <a:chExt cx="1066680" cy="1067040"/>
          </a:xfrm>
        </p:grpSpPr>
        <p:sp>
          <p:nvSpPr>
            <p:cNvPr id="1312" name=""/>
            <p:cNvSpPr/>
            <p:nvPr/>
          </p:nvSpPr>
          <p:spPr>
            <a:xfrm>
              <a:off x="2743200" y="4038480"/>
              <a:ext cx="1066680" cy="1067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895480" y="4191120"/>
              <a:ext cx="762120" cy="7617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7467480" y="380880"/>
            <a:ext cx="1067040" cy="1067040"/>
            <a:chOff x="7467480" y="380880"/>
            <a:chExt cx="1067040" cy="1067040"/>
          </a:xfrm>
        </p:grpSpPr>
        <p:sp>
          <p:nvSpPr>
            <p:cNvPr id="1315" name=""/>
            <p:cNvSpPr/>
            <p:nvPr/>
          </p:nvSpPr>
          <p:spPr>
            <a:xfrm>
              <a:off x="7467480" y="380880"/>
              <a:ext cx="1067040" cy="1067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620120" y="533520"/>
              <a:ext cx="761760" cy="7617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3809880" y="1523880"/>
            <a:ext cx="1067040" cy="1066680"/>
            <a:chOff x="3809880" y="1523880"/>
            <a:chExt cx="1067040" cy="1066680"/>
          </a:xfrm>
        </p:grpSpPr>
        <p:sp>
          <p:nvSpPr>
            <p:cNvPr id="1318" name=""/>
            <p:cNvSpPr/>
            <p:nvPr/>
          </p:nvSpPr>
          <p:spPr>
            <a:xfrm>
              <a:off x="3809880" y="152388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886200" y="1600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4876920" y="1506600"/>
            <a:ext cx="1066680" cy="1066680"/>
            <a:chOff x="4876920" y="1506600"/>
            <a:chExt cx="1066680" cy="1066680"/>
          </a:xfrm>
        </p:grpSpPr>
        <p:sp>
          <p:nvSpPr>
            <p:cNvPr id="1321" name=""/>
            <p:cNvSpPr/>
            <p:nvPr/>
          </p:nvSpPr>
          <p:spPr>
            <a:xfrm>
              <a:off x="4876920" y="15066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952880" y="1582560"/>
              <a:ext cx="22824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3809880" y="4038480"/>
            <a:ext cx="1066680" cy="1067040"/>
            <a:chOff x="3809880" y="4038480"/>
            <a:chExt cx="1066680" cy="1067040"/>
          </a:xfrm>
        </p:grpSpPr>
        <p:sp>
          <p:nvSpPr>
            <p:cNvPr id="1324" name=""/>
            <p:cNvSpPr/>
            <p:nvPr/>
          </p:nvSpPr>
          <p:spPr>
            <a:xfrm>
              <a:off x="3809880" y="4038480"/>
              <a:ext cx="10666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962160" y="4191120"/>
              <a:ext cx="762120" cy="7617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400800" y="5486400"/>
            <a:ext cx="1066680" cy="1066680"/>
            <a:chOff x="6400800" y="5486400"/>
            <a:chExt cx="1066680" cy="1066680"/>
          </a:xfrm>
        </p:grpSpPr>
        <p:sp>
          <p:nvSpPr>
            <p:cNvPr id="1327" name=""/>
            <p:cNvSpPr/>
            <p:nvPr/>
          </p:nvSpPr>
          <p:spPr>
            <a:xfrm>
              <a:off x="6400800" y="54864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5638680"/>
              <a:ext cx="761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q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1371600" y="533520"/>
            <a:ext cx="450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33520" y="1676520"/>
            <a:ext cx="838080" cy="838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172200" y="1676520"/>
            <a:ext cx="83808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3520" y="4191120"/>
            <a:ext cx="838080" cy="838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e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172200" y="41911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4" name=""/>
          <p:cNvCxnSpPr>
            <a:stCxn id="1330" idx="5"/>
            <a:endCxn id="1335" idx="0"/>
          </p:cNvCxnSpPr>
          <p:nvPr/>
        </p:nvCxnSpPr>
        <p:spPr>
          <a:xfrm flipH="1" rot="16200000">
            <a:off x="1926000" y="1713960"/>
            <a:ext cx="515160" cy="1870920"/>
          </a:xfrm>
          <a:prstGeom prst="curvedConnector5">
            <a:avLst>
              <a:gd name="adj1" fmla="val 61678"/>
              <a:gd name="adj2" fmla="val 50000"/>
              <a:gd name="adj3" fmla="val 6167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36" name=""/>
          <p:cNvCxnSpPr>
            <a:stCxn id="1330" idx="0"/>
            <a:endCxn id="1337" idx="2"/>
          </p:cNvCxnSpPr>
          <p:nvPr/>
        </p:nvCxnSpPr>
        <p:spPr>
          <a:xfrm flipH="1" flipV="1" rot="5400000">
            <a:off x="1727640" y="40320"/>
            <a:ext cx="861120" cy="2412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7" name=""/>
          <p:cNvSpPr/>
          <p:nvPr/>
        </p:nvSpPr>
        <p:spPr>
          <a:xfrm>
            <a:off x="3363840" y="43956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1" idx="0"/>
            <a:endCxn id="1337" idx="6"/>
          </p:cNvCxnSpPr>
          <p:nvPr/>
        </p:nvCxnSpPr>
        <p:spPr>
          <a:xfrm flipV="1" rot="16200000">
            <a:off x="4922280" y="7560"/>
            <a:ext cx="861120" cy="24771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9" name=""/>
          <p:cNvSpPr/>
          <p:nvPr/>
        </p:nvSpPr>
        <p:spPr>
          <a:xfrm>
            <a:off x="3314880" y="5562720"/>
            <a:ext cx="750600" cy="750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0" name=""/>
          <p:cNvCxnSpPr>
            <a:stCxn id="1332" idx="5"/>
            <a:endCxn id="1339" idx="2"/>
          </p:cNvCxnSpPr>
          <p:nvPr/>
        </p:nvCxnSpPr>
        <p:spPr>
          <a:xfrm flipH="1" rot="16200000">
            <a:off x="1765800" y="4389480"/>
            <a:ext cx="1032840" cy="20664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5" name=""/>
          <p:cNvSpPr/>
          <p:nvPr/>
        </p:nvSpPr>
        <p:spPr>
          <a:xfrm>
            <a:off x="2743200" y="290664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1" name=""/>
          <p:cNvCxnSpPr>
            <a:stCxn id="1335" idx="4"/>
            <a:endCxn id="1332" idx="0"/>
          </p:cNvCxnSpPr>
          <p:nvPr/>
        </p:nvCxnSpPr>
        <p:spPr>
          <a:xfrm rot="5400000">
            <a:off x="1768320" y="2840760"/>
            <a:ext cx="534240" cy="21675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42" name=""/>
          <p:cNvSpPr/>
          <p:nvPr/>
        </p:nvSpPr>
        <p:spPr>
          <a:xfrm>
            <a:off x="5116680" y="2906640"/>
            <a:ext cx="75060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3" name=""/>
          <p:cNvCxnSpPr>
            <a:stCxn id="1331" idx="4"/>
            <a:endCxn id="1342" idx="7"/>
          </p:cNvCxnSpPr>
          <p:nvPr/>
        </p:nvCxnSpPr>
        <p:spPr>
          <a:xfrm rot="5400000">
            <a:off x="5923080" y="2347920"/>
            <a:ext cx="501840" cy="834120"/>
          </a:xfrm>
          <a:prstGeom prst="curvedConnector5">
            <a:avLst>
              <a:gd name="adj1" fmla="val 38908"/>
              <a:gd name="adj2" fmla="val 50000"/>
              <a:gd name="adj3" fmla="val 3890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44" name=""/>
          <p:cNvSpPr/>
          <p:nvPr/>
        </p:nvSpPr>
        <p:spPr>
          <a:xfrm>
            <a:off x="1600200" y="291312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5" name=""/>
          <p:cNvCxnSpPr>
            <a:stCxn id="1330" idx="3"/>
            <a:endCxn id="1344" idx="1"/>
          </p:cNvCxnSpPr>
          <p:nvPr/>
        </p:nvCxnSpPr>
        <p:spPr>
          <a:xfrm flipH="1" rot="16200000">
            <a:off x="867240" y="2179800"/>
            <a:ext cx="631080" cy="1054800"/>
          </a:xfrm>
          <a:prstGeom prst="curvedConnector5">
            <a:avLst>
              <a:gd name="adj1" fmla="val 50856"/>
              <a:gd name="adj2" fmla="val 49982"/>
              <a:gd name="adj3" fmla="val 5085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46" name=""/>
          <p:cNvSpPr/>
          <p:nvPr/>
        </p:nvSpPr>
        <p:spPr>
          <a:xfrm>
            <a:off x="3886200" y="290664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7" name=""/>
          <p:cNvCxnSpPr>
            <a:stCxn id="1332" idx="7"/>
            <a:endCxn id="1346" idx="3"/>
          </p:cNvCxnSpPr>
          <p:nvPr/>
        </p:nvCxnSpPr>
        <p:spPr>
          <a:xfrm flipH="1" flipV="1" rot="5400000">
            <a:off x="2239560" y="2556720"/>
            <a:ext cx="765720" cy="2747160"/>
          </a:xfrm>
          <a:prstGeom prst="curvedConnector5">
            <a:avLst>
              <a:gd name="adj1" fmla="val 50799"/>
              <a:gd name="adj2" fmla="val 50000"/>
              <a:gd name="adj3" fmla="val 5079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8" name=""/>
          <p:cNvCxnSpPr>
            <a:stCxn id="1346" idx="7"/>
            <a:endCxn id="1331" idx="3"/>
          </p:cNvCxnSpPr>
          <p:nvPr/>
        </p:nvCxnSpPr>
        <p:spPr>
          <a:xfrm flipH="1" flipV="1" rot="5400000">
            <a:off x="5099040" y="1820160"/>
            <a:ext cx="624600" cy="1767600"/>
          </a:xfrm>
          <a:prstGeom prst="curvedConnector5">
            <a:avLst>
              <a:gd name="adj1" fmla="val 48846"/>
              <a:gd name="adj2" fmla="val 49989"/>
              <a:gd name="adj3" fmla="val 4884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9" name=""/>
          <p:cNvCxnSpPr>
            <a:stCxn id="1333" idx="3"/>
            <a:endCxn id="1339" idx="6"/>
          </p:cNvCxnSpPr>
          <p:nvPr/>
        </p:nvCxnSpPr>
        <p:spPr>
          <a:xfrm rot="5400000">
            <a:off x="4663440" y="4308120"/>
            <a:ext cx="1032840" cy="22298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0" name=""/>
          <p:cNvCxnSpPr>
            <a:stCxn id="1342" idx="6"/>
            <a:endCxn id="1333" idx="0"/>
          </p:cNvCxnSpPr>
          <p:nvPr/>
        </p:nvCxnSpPr>
        <p:spPr>
          <a:xfrm>
            <a:off x="5866920" y="3282480"/>
            <a:ext cx="724680" cy="909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1" name=""/>
          <p:cNvCxnSpPr>
            <a:stCxn id="1344" idx="5"/>
            <a:endCxn id="1333" idx="1"/>
          </p:cNvCxnSpPr>
          <p:nvPr/>
        </p:nvCxnSpPr>
        <p:spPr>
          <a:xfrm flipH="1" rot="16200000">
            <a:off x="3888720" y="1906920"/>
            <a:ext cx="759600" cy="4053600"/>
          </a:xfrm>
          <a:prstGeom prst="curvedConnector5">
            <a:avLst>
              <a:gd name="adj1" fmla="val 49122"/>
              <a:gd name="adj2" fmla="val 49995"/>
              <a:gd name="adj3" fmla="val 491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2" name=""/>
          <p:cNvSpPr txBox="1"/>
          <p:nvPr/>
        </p:nvSpPr>
        <p:spPr>
          <a:xfrm>
            <a:off x="6781680" y="2819520"/>
            <a:ext cx="1981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nd thi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nswer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Then stay tuned!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ts se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what el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we can learn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33520" y="685800"/>
            <a:ext cx="144756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086600" y="685800"/>
            <a:ext cx="1447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33520" y="4800600"/>
            <a:ext cx="144756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086600" y="48006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0" name=""/>
          <p:cNvCxnSpPr>
            <a:stCxn id="1356" idx="4"/>
            <a:endCxn id="1361" idx="0"/>
          </p:cNvCxnSpPr>
          <p:nvPr/>
        </p:nvCxnSpPr>
        <p:spPr>
          <a:xfrm flipV="1" rot="10800000">
            <a:off x="1256760" y="2133360"/>
            <a:ext cx="108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2" name=""/>
          <p:cNvCxnSpPr>
            <a:stCxn id="1356" idx="6"/>
            <a:endCxn id="1363" idx="2"/>
          </p:cNvCxnSpPr>
          <p:nvPr/>
        </p:nvCxnSpPr>
        <p:spPr>
          <a:xfrm>
            <a:off x="1981080" y="1409400"/>
            <a:ext cx="4579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3" name=""/>
          <p:cNvSpPr/>
          <p:nvPr/>
        </p:nvSpPr>
        <p:spPr>
          <a:xfrm>
            <a:off x="2438280" y="7621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4" name=""/>
          <p:cNvCxnSpPr>
            <a:stCxn id="1357" idx="2"/>
            <a:endCxn id="1363" idx="6"/>
          </p:cNvCxnSpPr>
          <p:nvPr/>
        </p:nvCxnSpPr>
        <p:spPr>
          <a:xfrm rot="10800000">
            <a:off x="3733200" y="1409040"/>
            <a:ext cx="3353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5" name=""/>
          <p:cNvSpPr/>
          <p:nvPr/>
        </p:nvSpPr>
        <p:spPr>
          <a:xfrm>
            <a:off x="2438280" y="48769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6" name=""/>
          <p:cNvCxnSpPr>
            <a:stCxn id="1359" idx="2"/>
            <a:endCxn id="1365" idx="6"/>
          </p:cNvCxnSpPr>
          <p:nvPr/>
        </p:nvCxnSpPr>
        <p:spPr>
          <a:xfrm rot="10800000">
            <a:off x="3733200" y="5523840"/>
            <a:ext cx="3353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7" name=""/>
          <p:cNvCxnSpPr>
            <a:stCxn id="1358" idx="6"/>
            <a:endCxn id="1365" idx="2"/>
          </p:cNvCxnSpPr>
          <p:nvPr/>
        </p:nvCxnSpPr>
        <p:spPr>
          <a:xfrm>
            <a:off x="1981080" y="5524200"/>
            <a:ext cx="4579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1" name=""/>
          <p:cNvSpPr/>
          <p:nvPr/>
        </p:nvSpPr>
        <p:spPr>
          <a:xfrm>
            <a:off x="609480" y="32004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8" name=""/>
          <p:cNvCxnSpPr>
            <a:stCxn id="1361" idx="4"/>
            <a:endCxn id="1358" idx="0"/>
          </p:cNvCxnSpPr>
          <p:nvPr/>
        </p:nvCxnSpPr>
        <p:spPr>
          <a:xfrm flipV="1" rot="10800000">
            <a:off x="1256760" y="4495320"/>
            <a:ext cx="10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9" name=""/>
          <p:cNvSpPr/>
          <p:nvPr/>
        </p:nvSpPr>
        <p:spPr>
          <a:xfrm>
            <a:off x="7162920" y="320040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0" name=""/>
          <p:cNvCxnSpPr>
            <a:stCxn id="1357" idx="4"/>
            <a:endCxn id="1369" idx="0"/>
          </p:cNvCxnSpPr>
          <p:nvPr/>
        </p:nvCxnSpPr>
        <p:spPr>
          <a:xfrm flipV="1" rot="10800000">
            <a:off x="7809840" y="2133360"/>
            <a:ext cx="108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1" name=""/>
          <p:cNvCxnSpPr>
            <a:stCxn id="1369" idx="4"/>
            <a:endCxn id="1359" idx="0"/>
          </p:cNvCxnSpPr>
          <p:nvPr/>
        </p:nvCxnSpPr>
        <p:spPr>
          <a:xfrm flipV="1" rot="10800000">
            <a:off x="7809840" y="4495320"/>
            <a:ext cx="10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72" name=""/>
          <p:cNvSpPr/>
          <p:nvPr/>
        </p:nvSpPr>
        <p:spPr>
          <a:xfrm>
            <a:off x="3809880" y="21337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3" name=""/>
          <p:cNvCxnSpPr>
            <a:stCxn id="1356" idx="5"/>
            <a:endCxn id="1372" idx="3"/>
          </p:cNvCxnSpPr>
          <p:nvPr/>
        </p:nvCxnSpPr>
        <p:spPr>
          <a:xfrm flipH="1" rot="16200000">
            <a:off x="2224080" y="1465200"/>
            <a:ext cx="1319760" cy="2230920"/>
          </a:xfrm>
          <a:prstGeom prst="curvedConnector5">
            <a:avLst>
              <a:gd name="adj1" fmla="val 131623"/>
              <a:gd name="adj2" fmla="val 50000"/>
              <a:gd name="adj3" fmla="val 13162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4" name=""/>
          <p:cNvCxnSpPr>
            <a:stCxn id="1372" idx="5"/>
            <a:endCxn id="1359" idx="1"/>
          </p:cNvCxnSpPr>
          <p:nvPr/>
        </p:nvCxnSpPr>
        <p:spPr>
          <a:xfrm flipH="1" rot="16200000">
            <a:off x="5220360" y="2935080"/>
            <a:ext cx="1774080" cy="2383560"/>
          </a:xfrm>
          <a:prstGeom prst="curvedConnector5">
            <a:avLst>
              <a:gd name="adj1" fmla="val 49320"/>
              <a:gd name="adj2" fmla="val 50000"/>
              <a:gd name="adj3" fmla="val 4932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75" name=""/>
          <p:cNvSpPr/>
          <p:nvPr/>
        </p:nvSpPr>
        <p:spPr>
          <a:xfrm>
            <a:off x="5943600" y="21337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6" name=""/>
          <p:cNvCxnSpPr>
            <a:stCxn id="1358" idx="7"/>
            <a:endCxn id="1375" idx="3"/>
          </p:cNvCxnSpPr>
          <p:nvPr/>
        </p:nvCxnSpPr>
        <p:spPr>
          <a:xfrm flipH="1" flipV="1" rot="5400000">
            <a:off x="3063240" y="1944000"/>
            <a:ext cx="1774080" cy="4365000"/>
          </a:xfrm>
          <a:prstGeom prst="curvedConnector5">
            <a:avLst>
              <a:gd name="adj1" fmla="val 50659"/>
              <a:gd name="adj2" fmla="val 50000"/>
              <a:gd name="adj3" fmla="val 5065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7" name=""/>
          <p:cNvCxnSpPr>
            <a:stCxn id="1375" idx="6"/>
            <a:endCxn id="1357" idx="3"/>
          </p:cNvCxnSpPr>
          <p:nvPr/>
        </p:nvCxnSpPr>
        <p:spPr>
          <a:xfrm flipV="1">
            <a:off x="7238880" y="1920600"/>
            <a:ext cx="61200" cy="861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78" name=""/>
          <p:cNvSpPr/>
          <p:nvPr/>
        </p:nvSpPr>
        <p:spPr>
          <a:xfrm>
            <a:off x="2971800" y="2057400"/>
            <a:ext cx="304920" cy="2819520"/>
          </a:xfrm>
          <a:prstGeom prst="upDownArrow">
            <a:avLst>
              <a:gd name="adj1" fmla="val 50000"/>
              <a:gd name="adj2" fmla="val 18407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905120" y="3657600"/>
            <a:ext cx="5257800" cy="304920"/>
          </a:xfrm>
          <a:prstGeom prst="leftRightArrow">
            <a:avLst>
              <a:gd name="adj1" fmla="val 50000"/>
              <a:gd name="adj2" fmla="val 3432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105520" y="2666880"/>
            <a:ext cx="838080" cy="152640"/>
          </a:xfrm>
          <a:prstGeom prst="leftRightArrow">
            <a:avLst>
              <a:gd name="adj1" fmla="val 50000"/>
              <a:gd name="adj2" fmla="val 10930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720600" y="4191120"/>
            <a:ext cx="328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Connec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2</a:t>
            </a:r>
            <a:r>
              <a:rPr b="0" lang="en-US" sz="2400" spc="-1" strike="noStrike" baseline="30000">
                <a:solidFill>
                  <a:srgbClr val="b2b2b2"/>
                </a:solidFill>
                <a:latin typeface="Arial Black"/>
              </a:rPr>
              <a:t>nd</a:t>
            </a: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 gen Comp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we must put some arrows in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3733560" y="3045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s focus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‘in betweens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438280" y="7621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438280" y="48769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09480" y="32004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162920" y="320040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971800" y="2057400"/>
            <a:ext cx="304920" cy="2819520"/>
          </a:xfrm>
          <a:prstGeom prst="upDownArrow">
            <a:avLst>
              <a:gd name="adj1" fmla="val 50000"/>
              <a:gd name="adj2" fmla="val 18407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5120" y="3657600"/>
            <a:ext cx="5257800" cy="304920"/>
          </a:xfrm>
          <a:prstGeom prst="leftRightArrow">
            <a:avLst>
              <a:gd name="adj1" fmla="val 50000"/>
              <a:gd name="adj2" fmla="val 3432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458960" y="4648320"/>
            <a:ext cx="301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Now Vie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Only Intersectio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2</a:t>
            </a:r>
            <a:r>
              <a:rPr b="0" lang="en-US" sz="2400" spc="-1" strike="noStrike" baseline="30000">
                <a:solidFill>
                  <a:srgbClr val="b2b2b2"/>
                </a:solidFill>
                <a:latin typeface="Arial Black"/>
              </a:rPr>
              <a:t>nd</a:t>
            </a: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 gen deriv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809880" y="21337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943600" y="21337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105520" y="2666880"/>
            <a:ext cx="838080" cy="152640"/>
          </a:xfrm>
          <a:prstGeom prst="leftRightArrow">
            <a:avLst>
              <a:gd name="adj1" fmla="val 50000"/>
              <a:gd name="adj2" fmla="val 10930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can arran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m at will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 any big, ol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mological id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438280" y="7621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514600" y="48769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80880" y="32767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495680" y="32767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371600" y="21337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505320" y="21337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971800" y="2057400"/>
            <a:ext cx="304920" cy="2819520"/>
          </a:xfrm>
          <a:prstGeom prst="upDownArrow">
            <a:avLst>
              <a:gd name="adj1" fmla="val 50000"/>
              <a:gd name="adj2" fmla="val 18407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676520" y="3733920"/>
            <a:ext cx="2819160" cy="304560"/>
          </a:xfrm>
          <a:prstGeom prst="leftRightArrow">
            <a:avLst>
              <a:gd name="adj1" fmla="val 50000"/>
              <a:gd name="adj2" fmla="val 1842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666880" y="274320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/>
          <p:nvPr/>
        </p:nvSpPr>
        <p:spPr>
          <a:xfrm>
            <a:off x="2438280" y="16002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438280" y="41911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295280" y="35812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581280" y="35812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295280" y="22860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581280" y="22860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438280" y="2895480"/>
            <a:ext cx="1295640" cy="1295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ta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724280" y="91440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can arran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m at will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 any big, ol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mological id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2438280" y="16002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295280" y="35812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295280" y="22860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581280" y="22860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38280" y="2895480"/>
            <a:ext cx="1295640" cy="1295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ta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724280" y="91440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can arran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m at will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 any big, ol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mological id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508040" y="50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581280" y="35812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438280" y="41911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5172120" y="3395520"/>
            <a:ext cx="3438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but its all jus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ROJEC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914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457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609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76520" y="160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3880" y="3048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4419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10080" y="5334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5562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5334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1680" y="2362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3429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00800" y="4419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52640" y="1676520"/>
            <a:ext cx="3395880" cy="350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581280" y="2133720"/>
            <a:ext cx="1847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Zodiac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d the signs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THEY 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LATE?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2438280" y="16002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295280" y="35812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295280" y="22860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22860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38280" y="2895480"/>
            <a:ext cx="1295640" cy="1295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ta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724280" y="91440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can arran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m at will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 any big, ol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mological id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508040" y="50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581280" y="35812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438280" y="41911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5172120" y="3395520"/>
            <a:ext cx="3438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but its all jus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ROJEC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619200" y="2459160"/>
            <a:ext cx="5095800" cy="17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ITS PRETTY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"/>
          <p:cNvSpPr/>
          <p:nvPr/>
        </p:nvSpPr>
        <p:spPr>
          <a:xfrm>
            <a:off x="2438280" y="16002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295280" y="35812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295280" y="22860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1280" y="22860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438280" y="2895480"/>
            <a:ext cx="1295640" cy="1295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ta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572000" y="91440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ARE W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JECT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08040" y="50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581280" y="35812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438280" y="41911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5172120" y="2362320"/>
            <a:ext cx="343836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its ALL jus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ROJEC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2171880" y="4952880"/>
            <a:ext cx="4991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remember the cav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GEB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GEB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712520" y="469728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 Black"/>
              </a:rPr>
              <a:t>It’s built-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314240" y="1344600"/>
            <a:ext cx="37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 Black"/>
              </a:rPr>
              <a:t>‘</a:t>
            </a:r>
            <a:r>
              <a:rPr b="1" lang="en-US" sz="2400" spc="-1" strike="noStrike">
                <a:solidFill>
                  <a:srgbClr val="ccccff"/>
                </a:solidFill>
                <a:latin typeface="Arial Black"/>
              </a:rPr>
              <a:t>unspoiled by opinions!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13080" y="1954080"/>
            <a:ext cx="590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 Black"/>
              </a:rPr>
              <a:t>Eternal.. Its been there from the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5880" y="510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073840" y="533412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 Black"/>
              </a:rPr>
              <a:t>‘</a:t>
            </a:r>
            <a:r>
              <a:rPr b="1" lang="en-US" sz="2400" spc="-1" strike="noStrike">
                <a:solidFill>
                  <a:srgbClr val="808080"/>
                </a:solidFill>
                <a:latin typeface="Arial Black"/>
              </a:rPr>
              <a:t>the user manua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ts go ba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the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-between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438280" y="7621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514600" y="48769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80880" y="32767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95680" y="32767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371600" y="21337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505320" y="21337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971800" y="2057400"/>
            <a:ext cx="304920" cy="2819520"/>
          </a:xfrm>
          <a:prstGeom prst="upDownArrow">
            <a:avLst>
              <a:gd name="adj1" fmla="val 50000"/>
              <a:gd name="adj2" fmla="val 18407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676520" y="3733920"/>
            <a:ext cx="2819160" cy="304560"/>
          </a:xfrm>
          <a:prstGeom prst="leftRightArrow">
            <a:avLst>
              <a:gd name="adj1" fmla="val 50000"/>
              <a:gd name="adj2" fmla="val 1842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274320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4038480" y="4800600"/>
            <a:ext cx="480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8003c"/>
                  </a:outerShdw>
                </a:effectLst>
                <a:latin typeface="Arial Black"/>
              </a:rPr>
              <a:t>the question is: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800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8003c"/>
                  </a:outerShdw>
                </a:effectLst>
                <a:latin typeface="Arial Black"/>
              </a:rPr>
              <a:t>how does astrology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800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8003c"/>
                  </a:outerShdw>
                </a:effectLst>
                <a:latin typeface="Arial Black"/>
              </a:rPr>
              <a:t>represent this?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8003c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723920" y="11426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trology has so many branches.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.. what’s th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ebra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tune tell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438280" y="7621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514600" y="48769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80880" y="32767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495680" y="32767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371600" y="21337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505320" y="21337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971800" y="2057400"/>
            <a:ext cx="304920" cy="2819520"/>
          </a:xfrm>
          <a:prstGeom prst="upDownArrow">
            <a:avLst>
              <a:gd name="adj1" fmla="val 50000"/>
              <a:gd name="adj2" fmla="val 18407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676520" y="3733920"/>
            <a:ext cx="2819160" cy="304560"/>
          </a:xfrm>
          <a:prstGeom prst="leftRightArrow">
            <a:avLst>
              <a:gd name="adj1" fmla="val 50000"/>
              <a:gd name="adj2" fmla="val 1842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666880" y="274320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4038480" y="4800600"/>
            <a:ext cx="480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8003c"/>
                  </a:outerShdw>
                </a:effectLst>
                <a:latin typeface="Arial Black"/>
              </a:rPr>
              <a:t>the question is: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800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8003c"/>
                  </a:outerShdw>
                </a:effectLst>
                <a:latin typeface="Arial Black"/>
              </a:rPr>
              <a:t>how does astrology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800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8003c"/>
                  </a:outerShdw>
                </a:effectLst>
                <a:latin typeface="Arial Black"/>
              </a:rPr>
              <a:t>represent this?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8003c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495320" y="9140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ts look at h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est of the world does thing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438280" y="7621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514600" y="48769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80880" y="32767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495680" y="32767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371600" y="21337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505320" y="21337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971800" y="2057400"/>
            <a:ext cx="304920" cy="2819520"/>
          </a:xfrm>
          <a:prstGeom prst="upDownArrow">
            <a:avLst>
              <a:gd name="adj1" fmla="val 50000"/>
              <a:gd name="adj2" fmla="val 18407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676520" y="3733920"/>
            <a:ext cx="2819160" cy="304560"/>
          </a:xfrm>
          <a:prstGeom prst="leftRightArrow">
            <a:avLst>
              <a:gd name="adj1" fmla="val 50000"/>
              <a:gd name="adj2" fmla="val 1842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666880" y="274320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4038480" y="4800600"/>
            <a:ext cx="480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8003c"/>
                  </a:outerShdw>
                </a:effectLst>
                <a:latin typeface="Arial Black"/>
              </a:rPr>
              <a:t>the question is: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800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8003c"/>
                  </a:outerShdw>
                </a:effectLst>
                <a:latin typeface="Arial Black"/>
              </a:rPr>
              <a:t>how does astrology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800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8003c"/>
                  </a:outerShdw>
                </a:effectLst>
                <a:latin typeface="Arial Black"/>
              </a:rPr>
              <a:t>represent this?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8003c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trology is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SPECTIVE on wh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ything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Substant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’s not the same a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Systema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62720" y="838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19720" y="380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5335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1523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2971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00200" y="4343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1447920"/>
            <a:ext cx="3809880" cy="3809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5257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486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5257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2286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4480" y="4343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76680" y="1600200"/>
            <a:ext cx="3395520" cy="350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429000" y="2438280"/>
            <a:ext cx="2133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</a:rPr>
              <a:t>RELAT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</a:rPr>
              <a:t>how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k, mayb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it would have to be a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Qualitative Substantive System’s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undamentall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al perspective.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lgebra 1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Algebra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Each field has 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990720"/>
            <a:ext cx="1447920" cy="14475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ythag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648320" y="2819520"/>
            <a:ext cx="144756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666880" y="137160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 J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105520" y="5029200"/>
            <a:ext cx="144756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7" name=""/>
          <p:cNvCxnSpPr>
            <a:stCxn id="1494" idx="1"/>
            <a:endCxn id="1495" idx="5"/>
          </p:cNvCxnSpPr>
          <p:nvPr/>
        </p:nvCxnSpPr>
        <p:spPr>
          <a:xfrm flipH="1" flipV="1">
            <a:off x="3901680" y="2606400"/>
            <a:ext cx="9597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98" name=""/>
          <p:cNvCxnSpPr>
            <a:stCxn id="1494" idx="4"/>
            <a:endCxn id="1496" idx="0"/>
          </p:cNvCxnSpPr>
          <p:nvPr/>
        </p:nvCxnSpPr>
        <p:spPr>
          <a:xfrm>
            <a:off x="5372280" y="4266720"/>
            <a:ext cx="457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99" name=""/>
          <p:cNvCxnSpPr>
            <a:stCxn id="1493" idx="3"/>
            <a:endCxn id="1494" idx="7"/>
          </p:cNvCxnSpPr>
          <p:nvPr/>
        </p:nvCxnSpPr>
        <p:spPr>
          <a:xfrm flipH="1">
            <a:off x="5882760" y="2225160"/>
            <a:ext cx="502560" cy="80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00" name=""/>
          <p:cNvCxnSpPr>
            <a:stCxn id="1493" idx="2"/>
            <a:endCxn id="1495" idx="6"/>
          </p:cNvCxnSpPr>
          <p:nvPr/>
        </p:nvCxnSpPr>
        <p:spPr>
          <a:xfrm flipH="1">
            <a:off x="4114440" y="1714680"/>
            <a:ext cx="20577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01" name=""/>
          <p:cNvCxnSpPr>
            <a:stCxn id="1493" idx="4"/>
            <a:endCxn id="1496" idx="7"/>
          </p:cNvCxnSpPr>
          <p:nvPr/>
        </p:nvCxnSpPr>
        <p:spPr>
          <a:xfrm flipH="1">
            <a:off x="6339960" y="2438280"/>
            <a:ext cx="556560" cy="280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02" name=""/>
          <p:cNvCxnSpPr>
            <a:stCxn id="1495" idx="4"/>
            <a:endCxn id="1496" idx="1"/>
          </p:cNvCxnSpPr>
          <p:nvPr/>
        </p:nvCxnSpPr>
        <p:spPr>
          <a:xfrm>
            <a:off x="3390840" y="2819160"/>
            <a:ext cx="1928160" cy="242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03" name=""/>
          <p:cNvSpPr txBox="1"/>
          <p:nvPr/>
        </p:nvSpPr>
        <p:spPr>
          <a:xfrm>
            <a:off x="228600" y="3733920"/>
            <a:ext cx="42670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even though th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fundamentals ofte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match, 'everyone ha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their own system'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</p:txBody>
      </p:sp>
      <p:sp>
        <p:nvSpPr>
          <p:cNvPr id="1504" name=""/>
          <p:cNvSpPr/>
          <p:nvPr/>
        </p:nvSpPr>
        <p:spPr>
          <a:xfrm>
            <a:off x="6248520" y="3809880"/>
            <a:ext cx="281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lik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log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19760" y="580716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ach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spec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we’re all made of the same stuf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172200" y="990720"/>
            <a:ext cx="1447920" cy="14475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648320" y="2819520"/>
            <a:ext cx="144756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666880" y="137160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105520" y="5029200"/>
            <a:ext cx="144756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1" name=""/>
          <p:cNvCxnSpPr>
            <a:stCxn id="1508" idx="1"/>
            <a:endCxn id="1509" idx="5"/>
          </p:cNvCxnSpPr>
          <p:nvPr/>
        </p:nvCxnSpPr>
        <p:spPr>
          <a:xfrm flipH="1" flipV="1">
            <a:off x="3901680" y="2606400"/>
            <a:ext cx="9597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2" name=""/>
          <p:cNvCxnSpPr>
            <a:stCxn id="1508" idx="4"/>
            <a:endCxn id="1510" idx="0"/>
          </p:cNvCxnSpPr>
          <p:nvPr/>
        </p:nvCxnSpPr>
        <p:spPr>
          <a:xfrm>
            <a:off x="5372280" y="4266720"/>
            <a:ext cx="457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3" name=""/>
          <p:cNvCxnSpPr>
            <a:stCxn id="1507" idx="3"/>
            <a:endCxn id="1508" idx="7"/>
          </p:cNvCxnSpPr>
          <p:nvPr/>
        </p:nvCxnSpPr>
        <p:spPr>
          <a:xfrm flipH="1">
            <a:off x="5882760" y="2225160"/>
            <a:ext cx="502560" cy="80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4" name=""/>
          <p:cNvCxnSpPr>
            <a:stCxn id="1507" idx="2"/>
            <a:endCxn id="1509" idx="6"/>
          </p:cNvCxnSpPr>
          <p:nvPr/>
        </p:nvCxnSpPr>
        <p:spPr>
          <a:xfrm flipH="1">
            <a:off x="4114440" y="1714680"/>
            <a:ext cx="20577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5" name=""/>
          <p:cNvCxnSpPr>
            <a:stCxn id="1507" idx="4"/>
            <a:endCxn id="1510" idx="7"/>
          </p:cNvCxnSpPr>
          <p:nvPr/>
        </p:nvCxnSpPr>
        <p:spPr>
          <a:xfrm flipH="1">
            <a:off x="6339960" y="2438280"/>
            <a:ext cx="556560" cy="280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6" name=""/>
          <p:cNvCxnSpPr>
            <a:stCxn id="1509" idx="4"/>
            <a:endCxn id="1510" idx="1"/>
          </p:cNvCxnSpPr>
          <p:nvPr/>
        </p:nvCxnSpPr>
        <p:spPr>
          <a:xfrm>
            <a:off x="3390840" y="2819160"/>
            <a:ext cx="1928160" cy="242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17" name=""/>
          <p:cNvSpPr txBox="1"/>
          <p:nvPr/>
        </p:nvSpPr>
        <p:spPr>
          <a:xfrm>
            <a:off x="152280" y="3276720"/>
            <a:ext cx="41148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th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extrinsic law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of nature hav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intrinsi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realities 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applica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</p:txBody>
      </p:sp>
      <p:sp>
        <p:nvSpPr>
          <p:cNvPr id="1518" name=""/>
          <p:cNvSpPr/>
          <p:nvPr/>
        </p:nvSpPr>
        <p:spPr>
          <a:xfrm>
            <a:off x="304920" y="2133720"/>
            <a:ext cx="167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s ju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atter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in front of yo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ll have ‘algebra’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ll areas of lif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we constant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compute’ the fu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look at h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LOG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‘life-computations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we’ve forgotten,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i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now m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 we did 2500 years a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590920" y="2590920"/>
            <a:ext cx="3657600" cy="13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They relat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m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 sages from the pa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ges from the past reported certain things to be beyond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hings are beyond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t we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th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which there o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no word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2647800" y="2454120"/>
            <a:ext cx="38484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ts re-vis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classic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gredients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… the 4 ele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ir 6 edge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819520" y="2133720"/>
            <a:ext cx="1447560" cy="14475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800600" y="2133720"/>
            <a:ext cx="144792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819520" y="4114800"/>
            <a:ext cx="144756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800600" y="41148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5" name=""/>
          <p:cNvCxnSpPr>
            <a:stCxn id="1531" idx="4"/>
            <a:endCxn id="1533" idx="0"/>
          </p:cNvCxnSpPr>
          <p:nvPr/>
        </p:nvCxnSpPr>
        <p:spPr>
          <a:xfrm flipV="1" rot="10800000">
            <a:off x="3542760" y="358092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36" name=""/>
          <p:cNvCxnSpPr/>
          <p:nvPr/>
        </p:nvCxnSpPr>
        <p:spPr>
          <a:xfrm>
            <a:off x="4267080" y="278100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37" name=""/>
          <p:cNvCxnSpPr>
            <a:stCxn id="1532" idx="4"/>
            <a:endCxn id="1534" idx="0"/>
          </p:cNvCxnSpPr>
          <p:nvPr/>
        </p:nvCxnSpPr>
        <p:spPr>
          <a:xfrm flipV="1" rot="10800000">
            <a:off x="5523840" y="358092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38" name=""/>
          <p:cNvCxnSpPr>
            <a:stCxn id="1533" idx="6"/>
            <a:endCxn id="1534" idx="2"/>
          </p:cNvCxnSpPr>
          <p:nvPr/>
        </p:nvCxnSpPr>
        <p:spPr>
          <a:xfrm>
            <a:off x="4267080" y="483840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39" name=""/>
          <p:cNvCxnSpPr>
            <a:stCxn id="1533" idx="7"/>
            <a:endCxn id="1532" idx="3"/>
          </p:cNvCxnSpPr>
          <p:nvPr/>
        </p:nvCxnSpPr>
        <p:spPr>
          <a:xfrm flipV="1">
            <a:off x="4054320" y="3368160"/>
            <a:ext cx="959760" cy="9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0" name=""/>
          <p:cNvCxnSpPr>
            <a:stCxn id="1531" idx="5"/>
            <a:endCxn id="1534" idx="1"/>
          </p:cNvCxnSpPr>
          <p:nvPr/>
        </p:nvCxnSpPr>
        <p:spPr>
          <a:xfrm>
            <a:off x="4054320" y="3368520"/>
            <a:ext cx="959760" cy="9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s give them ro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33520" y="685800"/>
            <a:ext cx="144756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086600" y="685800"/>
            <a:ext cx="1447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33520" y="4800600"/>
            <a:ext cx="144756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086600" y="48006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6" name=""/>
          <p:cNvCxnSpPr>
            <a:stCxn id="1542" idx="4"/>
            <a:endCxn id="1544" idx="0"/>
          </p:cNvCxnSpPr>
          <p:nvPr/>
        </p:nvCxnSpPr>
        <p:spPr>
          <a:xfrm flipV="1" rot="10800000">
            <a:off x="1256760" y="2133720"/>
            <a:ext cx="1080" cy="2667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7" name=""/>
          <p:cNvCxnSpPr>
            <a:stCxn id="1542" idx="6"/>
            <a:endCxn id="1543" idx="2"/>
          </p:cNvCxnSpPr>
          <p:nvPr/>
        </p:nvCxnSpPr>
        <p:spPr>
          <a:xfrm>
            <a:off x="1981080" y="1409400"/>
            <a:ext cx="5106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8" name=""/>
          <p:cNvCxnSpPr>
            <a:stCxn id="1543" idx="4"/>
            <a:endCxn id="1545" idx="0"/>
          </p:cNvCxnSpPr>
          <p:nvPr/>
        </p:nvCxnSpPr>
        <p:spPr>
          <a:xfrm flipV="1" rot="10800000">
            <a:off x="7809840" y="2133720"/>
            <a:ext cx="1080" cy="2667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9" name=""/>
          <p:cNvCxnSpPr>
            <a:stCxn id="1544" idx="6"/>
            <a:endCxn id="1545" idx="2"/>
          </p:cNvCxnSpPr>
          <p:nvPr/>
        </p:nvCxnSpPr>
        <p:spPr>
          <a:xfrm>
            <a:off x="1981080" y="5524200"/>
            <a:ext cx="5106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50" name=""/>
          <p:cNvCxnSpPr>
            <a:stCxn id="1544" idx="7"/>
            <a:endCxn id="1543" idx="3"/>
          </p:cNvCxnSpPr>
          <p:nvPr/>
        </p:nvCxnSpPr>
        <p:spPr>
          <a:xfrm flipV="1">
            <a:off x="1768320" y="1920600"/>
            <a:ext cx="5531760" cy="309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51" name=""/>
          <p:cNvCxnSpPr>
            <a:stCxn id="1542" idx="5"/>
            <a:endCxn id="1545" idx="1"/>
          </p:cNvCxnSpPr>
          <p:nvPr/>
        </p:nvCxnSpPr>
        <p:spPr>
          <a:xfrm>
            <a:off x="1768320" y="1920960"/>
            <a:ext cx="5531760" cy="309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‘name’ the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-betw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33520" y="685800"/>
            <a:ext cx="144756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086600" y="685800"/>
            <a:ext cx="1447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33520" y="4800600"/>
            <a:ext cx="144756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086600" y="4800600"/>
            <a:ext cx="1447920" cy="1447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8" name=""/>
          <p:cNvCxnSpPr>
            <a:stCxn id="1554" idx="4"/>
            <a:endCxn id="1559" idx="0"/>
          </p:cNvCxnSpPr>
          <p:nvPr/>
        </p:nvCxnSpPr>
        <p:spPr>
          <a:xfrm flipV="1" rot="10800000">
            <a:off x="1256760" y="2133360"/>
            <a:ext cx="1080" cy="7624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60" name=""/>
          <p:cNvCxnSpPr>
            <a:stCxn id="1554" idx="6"/>
            <a:endCxn id="1561" idx="2"/>
          </p:cNvCxnSpPr>
          <p:nvPr/>
        </p:nvCxnSpPr>
        <p:spPr>
          <a:xfrm>
            <a:off x="1981080" y="1409400"/>
            <a:ext cx="1982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61" name=""/>
          <p:cNvSpPr/>
          <p:nvPr/>
        </p:nvSpPr>
        <p:spPr>
          <a:xfrm>
            <a:off x="3962520" y="7621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55" idx="2"/>
            <a:endCxn id="1561" idx="6"/>
          </p:cNvCxnSpPr>
          <p:nvPr/>
        </p:nvCxnSpPr>
        <p:spPr>
          <a:xfrm rot="10800000">
            <a:off x="5257080" y="1409040"/>
            <a:ext cx="18295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63" name=""/>
          <p:cNvSpPr/>
          <p:nvPr/>
        </p:nvSpPr>
        <p:spPr>
          <a:xfrm>
            <a:off x="3962520" y="48769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4" name=""/>
          <p:cNvCxnSpPr>
            <a:stCxn id="1557" idx="2"/>
            <a:endCxn id="1563" idx="6"/>
          </p:cNvCxnSpPr>
          <p:nvPr/>
        </p:nvCxnSpPr>
        <p:spPr>
          <a:xfrm rot="10800000">
            <a:off x="5257080" y="5523840"/>
            <a:ext cx="18295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65" name=""/>
          <p:cNvCxnSpPr>
            <a:stCxn id="1556" idx="6"/>
            <a:endCxn id="1563" idx="2"/>
          </p:cNvCxnSpPr>
          <p:nvPr/>
        </p:nvCxnSpPr>
        <p:spPr>
          <a:xfrm>
            <a:off x="1981080" y="5524200"/>
            <a:ext cx="1982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59" name=""/>
          <p:cNvSpPr/>
          <p:nvPr/>
        </p:nvSpPr>
        <p:spPr>
          <a:xfrm>
            <a:off x="609480" y="28954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6" name=""/>
          <p:cNvCxnSpPr>
            <a:stCxn id="1559" idx="4"/>
            <a:endCxn id="1556" idx="0"/>
          </p:cNvCxnSpPr>
          <p:nvPr/>
        </p:nvCxnSpPr>
        <p:spPr>
          <a:xfrm flipV="1" rot="10800000">
            <a:off x="1256760" y="4190760"/>
            <a:ext cx="108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67" name=""/>
          <p:cNvSpPr/>
          <p:nvPr/>
        </p:nvSpPr>
        <p:spPr>
          <a:xfrm>
            <a:off x="7162920" y="2895480"/>
            <a:ext cx="129528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8" name=""/>
          <p:cNvCxnSpPr>
            <a:stCxn id="1555" idx="4"/>
            <a:endCxn id="1567" idx="0"/>
          </p:cNvCxnSpPr>
          <p:nvPr/>
        </p:nvCxnSpPr>
        <p:spPr>
          <a:xfrm flipV="1" rot="10800000">
            <a:off x="7809840" y="2133360"/>
            <a:ext cx="1080" cy="7624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69" name=""/>
          <p:cNvCxnSpPr>
            <a:stCxn id="1567" idx="4"/>
            <a:endCxn id="1557" idx="0"/>
          </p:cNvCxnSpPr>
          <p:nvPr/>
        </p:nvCxnSpPr>
        <p:spPr>
          <a:xfrm flipV="1" rot="10800000">
            <a:off x="7809840" y="4190760"/>
            <a:ext cx="108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70" name=""/>
          <p:cNvSpPr/>
          <p:nvPr/>
        </p:nvSpPr>
        <p:spPr>
          <a:xfrm>
            <a:off x="2895480" y="28954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1" name=""/>
          <p:cNvCxnSpPr>
            <a:stCxn id="1554" idx="5"/>
            <a:endCxn id="1570" idx="1"/>
          </p:cNvCxnSpPr>
          <p:nvPr/>
        </p:nvCxnSpPr>
        <p:spPr>
          <a:xfrm flipH="1" rot="16200000">
            <a:off x="1844640" y="1844640"/>
            <a:ext cx="1164240" cy="1316520"/>
          </a:xfrm>
          <a:prstGeom prst="curvedConnector5">
            <a:avLst>
              <a:gd name="adj1" fmla="val 51005"/>
              <a:gd name="adj2" fmla="val 50000"/>
              <a:gd name="adj3" fmla="val 5100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2" name=""/>
          <p:cNvCxnSpPr>
            <a:stCxn id="1570" idx="5"/>
            <a:endCxn id="1557" idx="1"/>
          </p:cNvCxnSpPr>
          <p:nvPr/>
        </p:nvCxnSpPr>
        <p:spPr>
          <a:xfrm flipH="1" rot="16200000">
            <a:off x="5144040" y="2858760"/>
            <a:ext cx="1011960" cy="3297960"/>
          </a:xfrm>
          <a:prstGeom prst="curvedConnector5">
            <a:avLst>
              <a:gd name="adj1" fmla="val 48790"/>
              <a:gd name="adj2" fmla="val 50000"/>
              <a:gd name="adj3" fmla="val 487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73" name=""/>
          <p:cNvSpPr/>
          <p:nvPr/>
        </p:nvSpPr>
        <p:spPr>
          <a:xfrm>
            <a:off x="5029200" y="2895480"/>
            <a:ext cx="129528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4" name=""/>
          <p:cNvCxnSpPr>
            <a:stCxn id="1556" idx="7"/>
            <a:endCxn id="1573" idx="3"/>
          </p:cNvCxnSpPr>
          <p:nvPr/>
        </p:nvCxnSpPr>
        <p:spPr>
          <a:xfrm flipH="1" flipV="1" rot="5400000">
            <a:off x="2987280" y="2782080"/>
            <a:ext cx="1011960" cy="3450600"/>
          </a:xfrm>
          <a:prstGeom prst="curvedConnector5">
            <a:avLst>
              <a:gd name="adj1" fmla="val 51174"/>
              <a:gd name="adj2" fmla="val 50000"/>
              <a:gd name="adj3" fmla="val 5117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5" name=""/>
          <p:cNvCxnSpPr>
            <a:stCxn id="1573" idx="7"/>
            <a:endCxn id="1555" idx="3"/>
          </p:cNvCxnSpPr>
          <p:nvPr/>
        </p:nvCxnSpPr>
        <p:spPr>
          <a:xfrm flipH="1" flipV="1" rot="5400000">
            <a:off x="6135480" y="1920600"/>
            <a:ext cx="1164240" cy="1164240"/>
          </a:xfrm>
          <a:prstGeom prst="curvedConnector5">
            <a:avLst>
              <a:gd name="adj1" fmla="val 48963"/>
              <a:gd name="adj2" fmla="val 49984"/>
              <a:gd name="adj3" fmla="val 4896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s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33520" y="685800"/>
            <a:ext cx="144756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086600" y="685800"/>
            <a:ext cx="1447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33520" y="4800600"/>
            <a:ext cx="144756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086600" y="4800600"/>
            <a:ext cx="1447920" cy="1447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3" name=""/>
          <p:cNvCxnSpPr>
            <a:stCxn id="1579" idx="4"/>
            <a:endCxn id="1584" idx="0"/>
          </p:cNvCxnSpPr>
          <p:nvPr/>
        </p:nvCxnSpPr>
        <p:spPr>
          <a:xfrm flipV="1" rot="10800000">
            <a:off x="1256760" y="2133360"/>
            <a:ext cx="108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5" name=""/>
          <p:cNvCxnSpPr>
            <a:stCxn id="1579" idx="6"/>
            <a:endCxn id="1586" idx="2"/>
          </p:cNvCxnSpPr>
          <p:nvPr/>
        </p:nvCxnSpPr>
        <p:spPr>
          <a:xfrm>
            <a:off x="1981080" y="1409400"/>
            <a:ext cx="4579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86" name=""/>
          <p:cNvSpPr/>
          <p:nvPr/>
        </p:nvSpPr>
        <p:spPr>
          <a:xfrm>
            <a:off x="2438280" y="7621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7" name=""/>
          <p:cNvCxnSpPr>
            <a:stCxn id="1580" idx="2"/>
            <a:endCxn id="1586" idx="6"/>
          </p:cNvCxnSpPr>
          <p:nvPr/>
        </p:nvCxnSpPr>
        <p:spPr>
          <a:xfrm rot="10800000">
            <a:off x="3733200" y="1409040"/>
            <a:ext cx="3353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88" name=""/>
          <p:cNvSpPr/>
          <p:nvPr/>
        </p:nvSpPr>
        <p:spPr>
          <a:xfrm>
            <a:off x="2438280" y="48769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82" idx="2"/>
            <a:endCxn id="1588" idx="6"/>
          </p:cNvCxnSpPr>
          <p:nvPr/>
        </p:nvCxnSpPr>
        <p:spPr>
          <a:xfrm rot="10800000">
            <a:off x="3733200" y="5523840"/>
            <a:ext cx="33534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0" name=""/>
          <p:cNvCxnSpPr>
            <a:stCxn id="1581" idx="6"/>
            <a:endCxn id="1588" idx="2"/>
          </p:cNvCxnSpPr>
          <p:nvPr/>
        </p:nvCxnSpPr>
        <p:spPr>
          <a:xfrm>
            <a:off x="1981080" y="5524200"/>
            <a:ext cx="4579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84" name=""/>
          <p:cNvSpPr/>
          <p:nvPr/>
        </p:nvSpPr>
        <p:spPr>
          <a:xfrm>
            <a:off x="609480" y="32004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1" name=""/>
          <p:cNvCxnSpPr>
            <a:stCxn id="1584" idx="4"/>
            <a:endCxn id="1581" idx="0"/>
          </p:cNvCxnSpPr>
          <p:nvPr/>
        </p:nvCxnSpPr>
        <p:spPr>
          <a:xfrm flipV="1" rot="10800000">
            <a:off x="1256760" y="4495320"/>
            <a:ext cx="10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92" name=""/>
          <p:cNvSpPr/>
          <p:nvPr/>
        </p:nvSpPr>
        <p:spPr>
          <a:xfrm>
            <a:off x="7162920" y="320040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3" name=""/>
          <p:cNvCxnSpPr>
            <a:stCxn id="1580" idx="4"/>
            <a:endCxn id="1592" idx="0"/>
          </p:cNvCxnSpPr>
          <p:nvPr/>
        </p:nvCxnSpPr>
        <p:spPr>
          <a:xfrm flipV="1" rot="10800000">
            <a:off x="7809840" y="2133360"/>
            <a:ext cx="108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4" name=""/>
          <p:cNvCxnSpPr>
            <a:stCxn id="1592" idx="4"/>
            <a:endCxn id="1582" idx="0"/>
          </p:cNvCxnSpPr>
          <p:nvPr/>
        </p:nvCxnSpPr>
        <p:spPr>
          <a:xfrm flipV="1" rot="10800000">
            <a:off x="7809840" y="4495320"/>
            <a:ext cx="10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95" name=""/>
          <p:cNvSpPr/>
          <p:nvPr/>
        </p:nvSpPr>
        <p:spPr>
          <a:xfrm>
            <a:off x="3809880" y="18288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6" name=""/>
          <p:cNvCxnSpPr>
            <a:stCxn id="1579" idx="5"/>
            <a:endCxn id="1595" idx="3"/>
          </p:cNvCxnSpPr>
          <p:nvPr/>
        </p:nvCxnSpPr>
        <p:spPr>
          <a:xfrm flipH="1" rot="16200000">
            <a:off x="2376360" y="1312920"/>
            <a:ext cx="1015200" cy="2230920"/>
          </a:xfrm>
          <a:prstGeom prst="curvedConnector5">
            <a:avLst>
              <a:gd name="adj1" fmla="val 141149"/>
              <a:gd name="adj2" fmla="val 50000"/>
              <a:gd name="adj3" fmla="val 14114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7" name=""/>
          <p:cNvCxnSpPr>
            <a:stCxn id="1595" idx="5"/>
            <a:endCxn id="1582" idx="1"/>
          </p:cNvCxnSpPr>
          <p:nvPr/>
        </p:nvCxnSpPr>
        <p:spPr>
          <a:xfrm flipH="1" rot="16200000">
            <a:off x="5068080" y="2782800"/>
            <a:ext cx="2078640" cy="2383560"/>
          </a:xfrm>
          <a:prstGeom prst="curvedConnector5">
            <a:avLst>
              <a:gd name="adj1" fmla="val 49419"/>
              <a:gd name="adj2" fmla="val 50000"/>
              <a:gd name="adj3" fmla="val 4941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98" name=""/>
          <p:cNvSpPr/>
          <p:nvPr/>
        </p:nvSpPr>
        <p:spPr>
          <a:xfrm>
            <a:off x="5943600" y="182880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9" name=""/>
          <p:cNvCxnSpPr>
            <a:stCxn id="1581" idx="7"/>
            <a:endCxn id="1598" idx="3"/>
          </p:cNvCxnSpPr>
          <p:nvPr/>
        </p:nvCxnSpPr>
        <p:spPr>
          <a:xfrm flipH="1" flipV="1" rot="5400000">
            <a:off x="2910960" y="1791720"/>
            <a:ext cx="2078640" cy="4365000"/>
          </a:xfrm>
          <a:prstGeom prst="curvedConnector5">
            <a:avLst>
              <a:gd name="adj1" fmla="val 50562"/>
              <a:gd name="adj2" fmla="val 50000"/>
              <a:gd name="adj3" fmla="val 5056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0" name=""/>
          <p:cNvCxnSpPr>
            <a:stCxn id="1598" idx="6"/>
            <a:endCxn id="1580" idx="3"/>
          </p:cNvCxnSpPr>
          <p:nvPr/>
        </p:nvCxnSpPr>
        <p:spPr>
          <a:xfrm flipV="1">
            <a:off x="7238880" y="1920240"/>
            <a:ext cx="61200" cy="5562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01" name=""/>
          <p:cNvSpPr/>
          <p:nvPr/>
        </p:nvSpPr>
        <p:spPr>
          <a:xfrm>
            <a:off x="2971800" y="2057400"/>
            <a:ext cx="304920" cy="2819520"/>
          </a:xfrm>
          <a:prstGeom prst="upDownArrow">
            <a:avLst>
              <a:gd name="adj1" fmla="val 50000"/>
              <a:gd name="adj2" fmla="val 18407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905120" y="3657600"/>
            <a:ext cx="5257800" cy="304920"/>
          </a:xfrm>
          <a:prstGeom prst="leftRightArrow">
            <a:avLst>
              <a:gd name="adj1" fmla="val 50000"/>
              <a:gd name="adj2" fmla="val 3432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5520" y="2438280"/>
            <a:ext cx="838080" cy="152640"/>
          </a:xfrm>
          <a:prstGeom prst="leftRightArrow">
            <a:avLst>
              <a:gd name="adj1" fmla="val 50000"/>
              <a:gd name="adj2" fmla="val 10930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onnec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438280" y="7621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438280" y="48769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09480" y="32004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7162920" y="320040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809880" y="18288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5943600" y="182880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971800" y="2057400"/>
            <a:ext cx="304920" cy="2819520"/>
          </a:xfrm>
          <a:prstGeom prst="upDownArrow">
            <a:avLst>
              <a:gd name="adj1" fmla="val 50000"/>
              <a:gd name="adj2" fmla="val 18407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905120" y="3657600"/>
            <a:ext cx="5257800" cy="304920"/>
          </a:xfrm>
          <a:prstGeom prst="leftRightArrow">
            <a:avLst>
              <a:gd name="adj1" fmla="val 50000"/>
              <a:gd name="adj2" fmla="val 3432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105520" y="2438280"/>
            <a:ext cx="838080" cy="152640"/>
          </a:xfrm>
          <a:prstGeom prst="leftRightArrow">
            <a:avLst>
              <a:gd name="adj1" fmla="val 50000"/>
              <a:gd name="adj2" fmla="val 10930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914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457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609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160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3048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6520" y="4419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10080" y="5334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3400" y="5562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5334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81680" y="2362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34320" y="3429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00800" y="4419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52640" y="1676520"/>
            <a:ext cx="3395880" cy="350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62520" y="3086280"/>
            <a:ext cx="131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 Black"/>
              </a:rPr>
              <a:t>how?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 Black"/>
              <a:ea typeface="Arial Blac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590920" y="1763640"/>
            <a:ext cx="3657600" cy="13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They relat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419720" y="456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re-arr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438280" y="7621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514600" y="48769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80880" y="32767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495680" y="32767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371600" y="21337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505320" y="21337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971800" y="2057400"/>
            <a:ext cx="304920" cy="2819520"/>
          </a:xfrm>
          <a:prstGeom prst="upDownArrow">
            <a:avLst>
              <a:gd name="adj1" fmla="val 50000"/>
              <a:gd name="adj2" fmla="val 18407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676520" y="3733920"/>
            <a:ext cx="2819160" cy="304560"/>
          </a:xfrm>
          <a:prstGeom prst="leftRightArrow">
            <a:avLst>
              <a:gd name="adj1" fmla="val 50000"/>
              <a:gd name="adj2" fmla="val 1842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666880" y="274320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4290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ll we’re projec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retty pictu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438280" y="16002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295280" y="35812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295280" y="22860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581280" y="22860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438280" y="2895480"/>
            <a:ext cx="1295640" cy="1295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ta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581280" y="35812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438280" y="41911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622840" y="317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612400" y="378288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n’t you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troniz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3809520" y="281916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Reality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finds simultaneity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omplexity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.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e need… a better model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752480" y="2286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09480" y="22096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09480" y="9144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895480" y="91440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752480" y="1523880"/>
            <a:ext cx="1295640" cy="1295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ta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895480" y="22096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752480" y="2819520"/>
            <a:ext cx="129564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odel which does not disconnect from 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7" name=""/>
          <p:cNvGrpSpPr/>
          <p:nvPr/>
        </p:nvGrpSpPr>
        <p:grpSpPr>
          <a:xfrm>
            <a:off x="1676520" y="1523880"/>
            <a:ext cx="1066680" cy="1067040"/>
            <a:chOff x="1676520" y="1523880"/>
            <a:chExt cx="1066680" cy="1067040"/>
          </a:xfrm>
        </p:grpSpPr>
        <p:sp>
          <p:nvSpPr>
            <p:cNvPr id="1648" name=""/>
            <p:cNvSpPr/>
            <p:nvPr/>
          </p:nvSpPr>
          <p:spPr>
            <a:xfrm>
              <a:off x="1676520" y="1523880"/>
              <a:ext cx="1066680" cy="106704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A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752480" y="1600200"/>
              <a:ext cx="228240" cy="22860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4876920" y="4038480"/>
            <a:ext cx="1066680" cy="1067040"/>
            <a:chOff x="4876920" y="4038480"/>
            <a:chExt cx="1066680" cy="1067040"/>
          </a:xfrm>
        </p:grpSpPr>
        <p:sp>
          <p:nvSpPr>
            <p:cNvPr id="1651" name=""/>
            <p:cNvSpPr/>
            <p:nvPr/>
          </p:nvSpPr>
          <p:spPr>
            <a:xfrm>
              <a:off x="4876920" y="4038480"/>
              <a:ext cx="1066680" cy="106704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029200" y="4191120"/>
              <a:ext cx="762120" cy="76176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G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3" name=""/>
          <p:cNvGrpSpPr/>
          <p:nvPr/>
        </p:nvGrpSpPr>
        <p:grpSpPr>
          <a:xfrm>
            <a:off x="7467480" y="5486400"/>
            <a:ext cx="1067040" cy="1066680"/>
            <a:chOff x="7467480" y="5486400"/>
            <a:chExt cx="1067040" cy="1066680"/>
          </a:xfrm>
        </p:grpSpPr>
        <p:sp>
          <p:nvSpPr>
            <p:cNvPr id="1654" name=""/>
            <p:cNvSpPr/>
            <p:nvPr/>
          </p:nvSpPr>
          <p:spPr>
            <a:xfrm>
              <a:off x="7467480" y="5486400"/>
              <a:ext cx="1067040" cy="1066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620120" y="5638680"/>
              <a:ext cx="761760" cy="7614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T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6400800" y="380880"/>
            <a:ext cx="1066680" cy="1066680"/>
            <a:chOff x="6400800" y="380880"/>
            <a:chExt cx="1066680" cy="1066680"/>
          </a:xfrm>
        </p:grpSpPr>
        <p:sp>
          <p:nvSpPr>
            <p:cNvPr id="1657" name=""/>
            <p:cNvSpPr/>
            <p:nvPr/>
          </p:nvSpPr>
          <p:spPr>
            <a:xfrm>
              <a:off x="6400800" y="380880"/>
              <a:ext cx="1066680" cy="1066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553080" y="533160"/>
              <a:ext cx="761400" cy="76212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L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2743200" y="1523880"/>
            <a:ext cx="1066680" cy="1067040"/>
            <a:chOff x="2743200" y="1523880"/>
            <a:chExt cx="1066680" cy="1067040"/>
          </a:xfrm>
        </p:grpSpPr>
        <p:sp>
          <p:nvSpPr>
            <p:cNvPr id="1660" name=""/>
            <p:cNvSpPr/>
            <p:nvPr/>
          </p:nvSpPr>
          <p:spPr>
            <a:xfrm>
              <a:off x="2743200" y="1523880"/>
              <a:ext cx="1066680" cy="106704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C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819160" y="1600200"/>
              <a:ext cx="228240" cy="2286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1676520" y="4038480"/>
            <a:ext cx="1066680" cy="1067040"/>
            <a:chOff x="1676520" y="4038480"/>
            <a:chExt cx="1066680" cy="1067040"/>
          </a:xfrm>
        </p:grpSpPr>
        <p:sp>
          <p:nvSpPr>
            <p:cNvPr id="1663" name=""/>
            <p:cNvSpPr/>
            <p:nvPr/>
          </p:nvSpPr>
          <p:spPr>
            <a:xfrm>
              <a:off x="1676520" y="4038480"/>
              <a:ext cx="1066680" cy="106704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828800" y="4191120"/>
              <a:ext cx="762120" cy="7617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V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2743200" y="4038480"/>
            <a:ext cx="1066680" cy="1067040"/>
            <a:chOff x="2743200" y="4038480"/>
            <a:chExt cx="1066680" cy="1067040"/>
          </a:xfrm>
        </p:grpSpPr>
        <p:sp>
          <p:nvSpPr>
            <p:cNvPr id="1666" name=""/>
            <p:cNvSpPr/>
            <p:nvPr/>
          </p:nvSpPr>
          <p:spPr>
            <a:xfrm>
              <a:off x="2743200" y="4038480"/>
              <a:ext cx="1066680" cy="1067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895480" y="4191120"/>
              <a:ext cx="762120" cy="76176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S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380880"/>
            <a:ext cx="1067040" cy="1067040"/>
            <a:chOff x="7467480" y="380880"/>
            <a:chExt cx="1067040" cy="1067040"/>
          </a:xfrm>
        </p:grpSpPr>
        <p:sp>
          <p:nvSpPr>
            <p:cNvPr id="1669" name=""/>
            <p:cNvSpPr/>
            <p:nvPr/>
          </p:nvSpPr>
          <p:spPr>
            <a:xfrm>
              <a:off x="7467480" y="380880"/>
              <a:ext cx="1067040" cy="1067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533520"/>
              <a:ext cx="761760" cy="761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S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3809880" y="1523880"/>
            <a:ext cx="1067040" cy="1066680"/>
            <a:chOff x="3809880" y="1523880"/>
            <a:chExt cx="1067040" cy="1066680"/>
          </a:xfrm>
        </p:grpSpPr>
        <p:sp>
          <p:nvSpPr>
            <p:cNvPr id="1672" name=""/>
            <p:cNvSpPr/>
            <p:nvPr/>
          </p:nvSpPr>
          <p:spPr>
            <a:xfrm>
              <a:off x="3809880" y="1523880"/>
              <a:ext cx="106704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886200" y="1600200"/>
              <a:ext cx="228600" cy="2286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4876920" y="1506600"/>
            <a:ext cx="1066680" cy="1066680"/>
            <a:chOff x="4876920" y="1506600"/>
            <a:chExt cx="1066680" cy="1066680"/>
          </a:xfrm>
        </p:grpSpPr>
        <p:sp>
          <p:nvSpPr>
            <p:cNvPr id="1675" name=""/>
            <p:cNvSpPr/>
            <p:nvPr/>
          </p:nvSpPr>
          <p:spPr>
            <a:xfrm>
              <a:off x="4876920" y="1506600"/>
              <a:ext cx="1066680" cy="1066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C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952880" y="1582560"/>
              <a:ext cx="228240" cy="22860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7" name=""/>
          <p:cNvGrpSpPr/>
          <p:nvPr/>
        </p:nvGrpSpPr>
        <p:grpSpPr>
          <a:xfrm>
            <a:off x="3809880" y="4038480"/>
            <a:ext cx="1066680" cy="1067040"/>
            <a:chOff x="3809880" y="4038480"/>
            <a:chExt cx="1066680" cy="1067040"/>
          </a:xfrm>
        </p:grpSpPr>
        <p:sp>
          <p:nvSpPr>
            <p:cNvPr id="1678" name=""/>
            <p:cNvSpPr/>
            <p:nvPr/>
          </p:nvSpPr>
          <p:spPr>
            <a:xfrm>
              <a:off x="3809880" y="4038480"/>
              <a:ext cx="1066680" cy="1067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962160" y="4191120"/>
              <a:ext cx="762120" cy="761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P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400800" y="5486400"/>
            <a:ext cx="1066680" cy="1066680"/>
            <a:chOff x="6400800" y="5486400"/>
            <a:chExt cx="1066680" cy="1066680"/>
          </a:xfrm>
        </p:grpSpPr>
        <p:sp>
          <p:nvSpPr>
            <p:cNvPr id="1681" name=""/>
            <p:cNvSpPr/>
            <p:nvPr/>
          </p:nvSpPr>
          <p:spPr>
            <a:xfrm>
              <a:off x="6400800" y="5486400"/>
              <a:ext cx="1066680" cy="1066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553080" y="5638680"/>
              <a:ext cx="761400" cy="7621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Aq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3" name=""/>
          <p:cNvSpPr/>
          <p:nvPr/>
        </p:nvSpPr>
        <p:spPr>
          <a:xfrm>
            <a:off x="1371600" y="533520"/>
            <a:ext cx="450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33520" y="1676520"/>
            <a:ext cx="838080" cy="838080"/>
          </a:xfrm>
          <a:prstGeom prst="ellipse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Fire</a:t>
            </a:r>
            <a:br>
              <a:rPr sz="1600"/>
            </a:b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Life</a:t>
            </a:r>
            <a:br>
              <a:rPr sz="1600"/>
            </a:b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Eter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172200" y="1676520"/>
            <a:ext cx="838080" cy="83808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Air</a:t>
            </a:r>
            <a:br>
              <a:rPr sz="1600"/>
            </a:b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Mind</a:t>
            </a:r>
            <a:br>
              <a:rPr sz="1600"/>
            </a:b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33520" y="4191120"/>
            <a:ext cx="838080" cy="838080"/>
          </a:xfrm>
          <a:prstGeom prst="ellipse">
            <a:avLst/>
          </a:prstGeom>
          <a:solidFill>
            <a:srgbClr val="00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Water</a:t>
            </a:r>
            <a:br>
              <a:rPr sz="1600"/>
            </a:b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Meaning</a:t>
            </a:r>
            <a:br>
              <a:rPr sz="1600"/>
            </a:b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 Pre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172200" y="4191120"/>
            <a:ext cx="838080" cy="83808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Earth</a:t>
            </a:r>
            <a:br>
              <a:rPr sz="1600"/>
            </a:b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Matter</a:t>
            </a:r>
            <a:br>
              <a:rPr sz="1600"/>
            </a:b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8" name=""/>
          <p:cNvCxnSpPr>
            <a:stCxn id="1684" idx="5"/>
            <a:endCxn id="1689" idx="0"/>
          </p:cNvCxnSpPr>
          <p:nvPr/>
        </p:nvCxnSpPr>
        <p:spPr>
          <a:xfrm flipH="1" rot="16200000">
            <a:off x="1926000" y="1713960"/>
            <a:ext cx="515160" cy="1870920"/>
          </a:xfrm>
          <a:prstGeom prst="curvedConnector5">
            <a:avLst>
              <a:gd name="adj1" fmla="val 61678"/>
              <a:gd name="adj2" fmla="val 50000"/>
              <a:gd name="adj3" fmla="val 6167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0" name=""/>
          <p:cNvCxnSpPr>
            <a:stCxn id="1684" idx="0"/>
            <a:endCxn id="1691" idx="2"/>
          </p:cNvCxnSpPr>
          <p:nvPr/>
        </p:nvCxnSpPr>
        <p:spPr>
          <a:xfrm flipH="1" flipV="1" rot="5400000">
            <a:off x="1727640" y="40320"/>
            <a:ext cx="861120" cy="2412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91" name=""/>
          <p:cNvSpPr/>
          <p:nvPr/>
        </p:nvSpPr>
        <p:spPr>
          <a:xfrm>
            <a:off x="3363840" y="439560"/>
            <a:ext cx="750960" cy="75096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E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2" name=""/>
          <p:cNvCxnSpPr>
            <a:stCxn id="1685" idx="0"/>
            <a:endCxn id="1691" idx="6"/>
          </p:cNvCxnSpPr>
          <p:nvPr/>
        </p:nvCxnSpPr>
        <p:spPr>
          <a:xfrm flipV="1" rot="16200000">
            <a:off x="4922280" y="7560"/>
            <a:ext cx="861120" cy="24771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93" name=""/>
          <p:cNvSpPr/>
          <p:nvPr/>
        </p:nvSpPr>
        <p:spPr>
          <a:xfrm>
            <a:off x="3314880" y="5562720"/>
            <a:ext cx="750600" cy="75060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4" name=""/>
          <p:cNvCxnSpPr>
            <a:stCxn id="1686" idx="5"/>
            <a:endCxn id="1693" idx="2"/>
          </p:cNvCxnSpPr>
          <p:nvPr/>
        </p:nvCxnSpPr>
        <p:spPr>
          <a:xfrm flipH="1" rot="16200000">
            <a:off x="1765800" y="4389480"/>
            <a:ext cx="1032840" cy="20664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89" name=""/>
          <p:cNvSpPr/>
          <p:nvPr/>
        </p:nvSpPr>
        <p:spPr>
          <a:xfrm>
            <a:off x="2743200" y="2906640"/>
            <a:ext cx="750960" cy="75096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E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5" name=""/>
          <p:cNvCxnSpPr>
            <a:stCxn id="1689" idx="4"/>
            <a:endCxn id="1686" idx="0"/>
          </p:cNvCxnSpPr>
          <p:nvPr/>
        </p:nvCxnSpPr>
        <p:spPr>
          <a:xfrm rot="5400000">
            <a:off x="1768320" y="2840760"/>
            <a:ext cx="534240" cy="21675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96" name=""/>
          <p:cNvSpPr/>
          <p:nvPr/>
        </p:nvSpPr>
        <p:spPr>
          <a:xfrm>
            <a:off x="5116680" y="2906640"/>
            <a:ext cx="750600" cy="75096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Future</a:t>
            </a:r>
            <a:br>
              <a:rPr sz="1600"/>
            </a:b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7" name=""/>
          <p:cNvCxnSpPr>
            <a:stCxn id="1685" idx="4"/>
            <a:endCxn id="1696" idx="7"/>
          </p:cNvCxnSpPr>
          <p:nvPr/>
        </p:nvCxnSpPr>
        <p:spPr>
          <a:xfrm rot="5400000">
            <a:off x="5923080" y="2347920"/>
            <a:ext cx="501840" cy="834120"/>
          </a:xfrm>
          <a:prstGeom prst="curvedConnector5">
            <a:avLst>
              <a:gd name="adj1" fmla="val 38908"/>
              <a:gd name="adj2" fmla="val 50000"/>
              <a:gd name="adj3" fmla="val 3890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98" name=""/>
          <p:cNvSpPr/>
          <p:nvPr/>
        </p:nvSpPr>
        <p:spPr>
          <a:xfrm>
            <a:off x="1600200" y="2913120"/>
            <a:ext cx="750960" cy="75096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Eternal</a:t>
            </a:r>
            <a:br>
              <a:rPr sz="1600"/>
            </a:b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9" name=""/>
          <p:cNvCxnSpPr>
            <a:stCxn id="1684" idx="3"/>
            <a:endCxn id="1698" idx="1"/>
          </p:cNvCxnSpPr>
          <p:nvPr/>
        </p:nvCxnSpPr>
        <p:spPr>
          <a:xfrm flipH="1" rot="16200000">
            <a:off x="867240" y="2179800"/>
            <a:ext cx="631080" cy="1054800"/>
          </a:xfrm>
          <a:prstGeom prst="curvedConnector5">
            <a:avLst>
              <a:gd name="adj1" fmla="val 50856"/>
              <a:gd name="adj2" fmla="val 49982"/>
              <a:gd name="adj3" fmla="val 5085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0" name=""/>
          <p:cNvSpPr/>
          <p:nvPr/>
        </p:nvSpPr>
        <p:spPr>
          <a:xfrm>
            <a:off x="3886200" y="2906640"/>
            <a:ext cx="750960" cy="75096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Future</a:t>
            </a:r>
            <a:br>
              <a:rPr sz="1600"/>
            </a:b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1" name=""/>
          <p:cNvCxnSpPr>
            <a:stCxn id="1686" idx="7"/>
            <a:endCxn id="1700" idx="3"/>
          </p:cNvCxnSpPr>
          <p:nvPr/>
        </p:nvCxnSpPr>
        <p:spPr>
          <a:xfrm flipH="1" flipV="1" rot="5400000">
            <a:off x="2239560" y="2556720"/>
            <a:ext cx="765720" cy="2747160"/>
          </a:xfrm>
          <a:prstGeom prst="curvedConnector5">
            <a:avLst>
              <a:gd name="adj1" fmla="val 50799"/>
              <a:gd name="adj2" fmla="val 50000"/>
              <a:gd name="adj3" fmla="val 5079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02" name=""/>
          <p:cNvCxnSpPr>
            <a:stCxn id="1700" idx="7"/>
            <a:endCxn id="1685" idx="3"/>
          </p:cNvCxnSpPr>
          <p:nvPr/>
        </p:nvCxnSpPr>
        <p:spPr>
          <a:xfrm flipH="1" flipV="1" rot="5400000">
            <a:off x="5099040" y="1820160"/>
            <a:ext cx="624600" cy="1767600"/>
          </a:xfrm>
          <a:prstGeom prst="curvedConnector5">
            <a:avLst>
              <a:gd name="adj1" fmla="val 48846"/>
              <a:gd name="adj2" fmla="val 49989"/>
              <a:gd name="adj3" fmla="val 4884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03" name=""/>
          <p:cNvCxnSpPr>
            <a:stCxn id="1687" idx="3"/>
            <a:endCxn id="1693" idx="6"/>
          </p:cNvCxnSpPr>
          <p:nvPr/>
        </p:nvCxnSpPr>
        <p:spPr>
          <a:xfrm rot="5400000">
            <a:off x="4663440" y="4308120"/>
            <a:ext cx="1032840" cy="22298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04" name=""/>
          <p:cNvCxnSpPr>
            <a:stCxn id="1696" idx="6"/>
            <a:endCxn id="1687" idx="0"/>
          </p:cNvCxnSpPr>
          <p:nvPr/>
        </p:nvCxnSpPr>
        <p:spPr>
          <a:xfrm>
            <a:off x="5866920" y="3282480"/>
            <a:ext cx="724680" cy="909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05" name=""/>
          <p:cNvCxnSpPr>
            <a:stCxn id="1698" idx="5"/>
            <a:endCxn id="1687" idx="1"/>
          </p:cNvCxnSpPr>
          <p:nvPr/>
        </p:nvCxnSpPr>
        <p:spPr>
          <a:xfrm flipH="1" rot="16200000">
            <a:off x="3888720" y="1906920"/>
            <a:ext cx="759600" cy="4053600"/>
          </a:xfrm>
          <a:prstGeom prst="curvedConnector5">
            <a:avLst>
              <a:gd name="adj1" fmla="val 49122"/>
              <a:gd name="adj2" fmla="val 49995"/>
              <a:gd name="adj3" fmla="val 491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6" name=""/>
          <p:cNvSpPr txBox="1"/>
          <p:nvPr/>
        </p:nvSpPr>
        <p:spPr>
          <a:xfrm>
            <a:off x="6781680" y="2438280"/>
            <a:ext cx="1981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>
                    <a:alpha val="50000"/>
                  </a:srgbClr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HREE</a:t>
            </a:r>
            <a:endParaRPr b="0" lang="en-US" sz="2400" spc="1" strike="noStrike">
              <a:ln w="0">
                <a:noFill/>
              </a:ln>
              <a:solidFill>
                <a:srgbClr val="336699">
                  <a:alpha val="50000"/>
                </a:srgbClr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>
                    <a:alpha val="50000"/>
                  </a:srgbClr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ROSSES</a:t>
            </a:r>
            <a:endParaRPr b="0" lang="en-US" sz="2400" spc="1" strike="noStrike">
              <a:ln w="0">
                <a:noFill/>
              </a:ln>
              <a:solidFill>
                <a:srgbClr val="336699">
                  <a:alpha val="50000"/>
                </a:srgbClr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>
                    <a:alpha val="50000"/>
                  </a:srgbClr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UNTIED-</a:t>
            </a:r>
            <a:endParaRPr b="0" lang="en-US" sz="2400" spc="1" strike="noStrike">
              <a:ln w="0">
                <a:noFill/>
              </a:ln>
              <a:solidFill>
                <a:srgbClr val="336699">
                  <a:alpha val="50000"/>
                </a:srgbClr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752400" y="304920"/>
            <a:ext cx="763920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JUST ANOTH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RETTY PICTUR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odel which ari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the quintess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"/>
          <p:cNvSpPr txBox="1"/>
          <p:nvPr/>
        </p:nvSpPr>
        <p:spPr>
          <a:xfrm>
            <a:off x="785880" y="3102120"/>
            <a:ext cx="7572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-nay to the life-less doctri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cred’ Geometry is a study of dead things. It has no lif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1412280" y="5257800"/>
            <a:ext cx="651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GEOMETRY is projected. Its not ‘primary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A cause in its own right, it remains an effe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viously’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re still missing someth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O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962520" y="4329000"/>
            <a:ext cx="342900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cienc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895480" y="1981080"/>
            <a:ext cx="342900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atur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981080" y="380880"/>
            <a:ext cx="4648320" cy="15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 Black"/>
              </a:rPr>
              <a:t>They relat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 Black"/>
              <a:ea typeface="Arial Blac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524400" y="3543480"/>
            <a:ext cx="2800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Zodiac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371600" y="2666880"/>
            <a:ext cx="961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re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523880" y="3467160"/>
            <a:ext cx="962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ir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676520" y="434340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ter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286000" y="5143680"/>
            <a:ext cx="129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arth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638680" y="5867280"/>
            <a:ext cx="1952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l one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Om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 presence of eternit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Om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 intrinsic ton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presence is right under our nos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trology ought to use 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 simple FORMULA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80880" y="1981080"/>
            <a:ext cx="144792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362320" y="1981080"/>
            <a:ext cx="144756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80880" y="3962520"/>
            <a:ext cx="1447920" cy="14475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362320" y="3962520"/>
            <a:ext cx="1447560" cy="1447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4" name=""/>
          <p:cNvCxnSpPr>
            <a:stCxn id="1720" idx="4"/>
            <a:endCxn id="1722" idx="0"/>
          </p:cNvCxnSpPr>
          <p:nvPr/>
        </p:nvCxnSpPr>
        <p:spPr>
          <a:xfrm flipV="1" rot="10800000">
            <a:off x="1104120" y="342864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5" name=""/>
          <p:cNvCxnSpPr>
            <a:stCxn id="1720" idx="6"/>
            <a:endCxn id="1721" idx="2"/>
          </p:cNvCxnSpPr>
          <p:nvPr/>
        </p:nvCxnSpPr>
        <p:spPr>
          <a:xfrm>
            <a:off x="1828800" y="270468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6" name=""/>
          <p:cNvCxnSpPr>
            <a:stCxn id="1721" idx="4"/>
            <a:endCxn id="1723" idx="0"/>
          </p:cNvCxnSpPr>
          <p:nvPr/>
        </p:nvCxnSpPr>
        <p:spPr>
          <a:xfrm flipV="1" rot="10800000">
            <a:off x="3085560" y="342864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7" name=""/>
          <p:cNvCxnSpPr>
            <a:stCxn id="1722" idx="6"/>
            <a:endCxn id="1723" idx="2"/>
          </p:cNvCxnSpPr>
          <p:nvPr/>
        </p:nvCxnSpPr>
        <p:spPr>
          <a:xfrm>
            <a:off x="1828800" y="468612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8" name=""/>
          <p:cNvCxnSpPr>
            <a:stCxn id="1722" idx="7"/>
            <a:endCxn id="1721" idx="3"/>
          </p:cNvCxnSpPr>
          <p:nvPr/>
        </p:nvCxnSpPr>
        <p:spPr>
          <a:xfrm flipV="1">
            <a:off x="1616040" y="3215880"/>
            <a:ext cx="959760" cy="9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9" name=""/>
          <p:cNvCxnSpPr>
            <a:stCxn id="1720" idx="5"/>
            <a:endCxn id="1723" idx="1"/>
          </p:cNvCxnSpPr>
          <p:nvPr/>
        </p:nvCxnSpPr>
        <p:spPr>
          <a:xfrm>
            <a:off x="1616040" y="3216240"/>
            <a:ext cx="959760" cy="9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0" name=""/>
          <p:cNvSpPr/>
          <p:nvPr/>
        </p:nvSpPr>
        <p:spPr>
          <a:xfrm>
            <a:off x="6019920" y="1523880"/>
            <a:ext cx="144756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019920" y="3276720"/>
            <a:ext cx="144756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572000" y="411480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467480" y="41148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4" name=""/>
          <p:cNvCxnSpPr>
            <a:stCxn id="1731" idx="2"/>
            <a:endCxn id="1732" idx="7"/>
          </p:cNvCxnSpPr>
          <p:nvPr/>
        </p:nvCxnSpPr>
        <p:spPr>
          <a:xfrm flipH="1">
            <a:off x="5806440" y="4000680"/>
            <a:ext cx="21348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35" name=""/>
          <p:cNvCxnSpPr>
            <a:stCxn id="1731" idx="6"/>
            <a:endCxn id="1733" idx="1"/>
          </p:cNvCxnSpPr>
          <p:nvPr/>
        </p:nvCxnSpPr>
        <p:spPr>
          <a:xfrm>
            <a:off x="7467120" y="4000680"/>
            <a:ext cx="21348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36" name=""/>
          <p:cNvCxnSpPr>
            <a:stCxn id="1730" idx="4"/>
            <a:endCxn id="1731" idx="0"/>
          </p:cNvCxnSpPr>
          <p:nvPr/>
        </p:nvCxnSpPr>
        <p:spPr>
          <a:xfrm>
            <a:off x="6743520" y="29714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37" name=""/>
          <p:cNvCxnSpPr>
            <a:stCxn id="1730" idx="3"/>
            <a:endCxn id="1732" idx="0"/>
          </p:cNvCxnSpPr>
          <p:nvPr/>
        </p:nvCxnSpPr>
        <p:spPr>
          <a:xfrm flipH="1">
            <a:off x="5295600" y="2759040"/>
            <a:ext cx="93744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38" name=""/>
          <p:cNvCxnSpPr>
            <a:stCxn id="1730" idx="5"/>
            <a:endCxn id="1733" idx="0"/>
          </p:cNvCxnSpPr>
          <p:nvPr/>
        </p:nvCxnSpPr>
        <p:spPr>
          <a:xfrm>
            <a:off x="7254720" y="2759040"/>
            <a:ext cx="93744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39" name=""/>
          <p:cNvCxnSpPr>
            <a:stCxn id="1732" idx="6"/>
            <a:endCxn id="1733" idx="2"/>
          </p:cNvCxnSpPr>
          <p:nvPr/>
        </p:nvCxnSpPr>
        <p:spPr>
          <a:xfrm>
            <a:off x="6019560" y="483840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40" name=""/>
          <p:cNvSpPr/>
          <p:nvPr/>
        </p:nvSpPr>
        <p:spPr>
          <a:xfrm>
            <a:off x="3886200" y="2971800"/>
            <a:ext cx="1600200" cy="685800"/>
          </a:xfrm>
          <a:prstGeom prst="leftRightArrow">
            <a:avLst>
              <a:gd name="adj1" fmla="val 50000"/>
              <a:gd name="adj2" fmla="val 464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4038480" y="3124080"/>
            <a:ext cx="1295640" cy="2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he same</a:t>
            </a:r>
            <a:endParaRPr b="0" lang="en-US" sz="2400" spc="1" strike="noStrike">
              <a:ln w="0">
                <a:noFill/>
              </a:ln>
              <a:solidFill>
                <a:srgbClr val="cccc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2" name=""/>
          <p:cNvSpPr txBox="1"/>
          <p:nvPr/>
        </p:nvSpPr>
        <p:spPr>
          <a:xfrm>
            <a:off x="457200" y="533520"/>
            <a:ext cx="800100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 Black"/>
              </a:rPr>
              <a:t>Since 1827 we can express this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 Black"/>
              <a:ea typeface="Arial Black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diagrams we sa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WO FORMU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762120" y="2209680"/>
            <a:ext cx="22003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ring fr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46" name=""/>
          <p:cNvSpPr/>
          <p:nvPr/>
        </p:nvSpPr>
        <p:spPr>
          <a:xfrm>
            <a:off x="2027160" y="50785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atch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160080" y="4114800"/>
            <a:ext cx="502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Black"/>
              </a:rPr>
              <a:t>They have ‘structural identity!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Black"/>
              </a:rPr>
              <a:t>‘</a:t>
            </a:r>
            <a:r>
              <a:rPr b="1" lang="en-US" sz="2400" spc="-1" strike="noStrike">
                <a:solidFill>
                  <a:srgbClr val="ffcc66"/>
                </a:solidFill>
                <a:latin typeface="Arial Black"/>
              </a:rPr>
              <a:t>fundamentally the same thing!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762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iagrams we sa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24360" y="243828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WO FORMU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152280" y="3962520"/>
            <a:ext cx="8839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KNOWN UNTIL 1827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762120" y="3123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WO FORMU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6505560" y="380880"/>
            <a:ext cx="1419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4" name=""/>
          <p:cNvSpPr/>
          <p:nvPr/>
        </p:nvSpPr>
        <p:spPr>
          <a:xfrm>
            <a:off x="6717960" y="175248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866880" y="4114800"/>
            <a:ext cx="1419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6" name=""/>
          <p:cNvSpPr/>
          <p:nvPr/>
        </p:nvSpPr>
        <p:spPr>
          <a:xfrm>
            <a:off x="1048680" y="548640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457200" y="2324160"/>
            <a:ext cx="59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RE = AIR * WATER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2819520" y="4076640"/>
            <a:ext cx="59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IR = EARTH * WATER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5181480" y="5257800"/>
            <a:ext cx="141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4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0" name=""/>
          <p:cNvSpPr/>
          <p:nvPr/>
        </p:nvSpPr>
        <p:spPr>
          <a:xfrm>
            <a:off x="5291640" y="601992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 txBox="1"/>
          <p:nvPr/>
        </p:nvSpPr>
        <p:spPr>
          <a:xfrm>
            <a:off x="685800" y="304920"/>
            <a:ext cx="914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2" name=""/>
          <p:cNvSpPr/>
          <p:nvPr/>
        </p:nvSpPr>
        <p:spPr>
          <a:xfrm>
            <a:off x="1094400" y="16765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Ohm’s Law says, is the product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ir and Wa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laying nicely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1600200" y="3772080"/>
            <a:ext cx="59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FIRE = AIR * WATER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986280" y="3102120"/>
            <a:ext cx="117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ES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638680" y="5867280"/>
            <a:ext cx="1952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l one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i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Ohm’s Law says, is the product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arth and Wa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laying nice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1600200" y="3772080"/>
            <a:ext cx="59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IR = EARTH * WATER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3962520" y="2209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hm’s law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lly delineate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s us 12 formulas for 4 elemen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905120" y="1295280"/>
            <a:ext cx="144756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1905120" y="3048120"/>
            <a:ext cx="144756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57200" y="388620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352680" y="38862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2" name=""/>
          <p:cNvCxnSpPr>
            <a:stCxn id="1769" idx="2"/>
            <a:endCxn id="1770" idx="7"/>
          </p:cNvCxnSpPr>
          <p:nvPr/>
        </p:nvCxnSpPr>
        <p:spPr>
          <a:xfrm flipH="1">
            <a:off x="1691640" y="3772080"/>
            <a:ext cx="213480" cy="327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73" name=""/>
          <p:cNvCxnSpPr>
            <a:stCxn id="1769" idx="6"/>
            <a:endCxn id="1771" idx="1"/>
          </p:cNvCxnSpPr>
          <p:nvPr/>
        </p:nvCxnSpPr>
        <p:spPr>
          <a:xfrm>
            <a:off x="3352320" y="3772080"/>
            <a:ext cx="21348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74" name=""/>
          <p:cNvCxnSpPr>
            <a:stCxn id="1768" idx="4"/>
            <a:endCxn id="1769" idx="0"/>
          </p:cNvCxnSpPr>
          <p:nvPr/>
        </p:nvCxnSpPr>
        <p:spPr>
          <a:xfrm>
            <a:off x="2628720" y="27428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75" name=""/>
          <p:cNvCxnSpPr>
            <a:stCxn id="1768" idx="3"/>
            <a:endCxn id="1770" idx="0"/>
          </p:cNvCxnSpPr>
          <p:nvPr/>
        </p:nvCxnSpPr>
        <p:spPr>
          <a:xfrm flipH="1">
            <a:off x="1180800" y="2530440"/>
            <a:ext cx="93744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76" name=""/>
          <p:cNvCxnSpPr>
            <a:stCxn id="1768" idx="5"/>
            <a:endCxn id="1771" idx="0"/>
          </p:cNvCxnSpPr>
          <p:nvPr/>
        </p:nvCxnSpPr>
        <p:spPr>
          <a:xfrm>
            <a:off x="3139920" y="2530440"/>
            <a:ext cx="93744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77" name=""/>
          <p:cNvCxnSpPr>
            <a:stCxn id="1770" idx="6"/>
            <a:endCxn id="1771" idx="2"/>
          </p:cNvCxnSpPr>
          <p:nvPr/>
        </p:nvCxnSpPr>
        <p:spPr>
          <a:xfrm>
            <a:off x="1904760" y="4609800"/>
            <a:ext cx="1448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78" name=""/>
          <p:cNvSpPr txBox="1"/>
          <p:nvPr/>
        </p:nvSpPr>
        <p:spPr>
          <a:xfrm>
            <a:off x="457200" y="5676840"/>
            <a:ext cx="59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IR = EARTH * WATE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2895480" y="343080"/>
            <a:ext cx="59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FIRE = AIR * WATE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 flashlight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1523880" y="1790640"/>
            <a:ext cx="6096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FIRE == MANIFEST PO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1847880" y="2895480"/>
            <a:ext cx="57722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 air^2 / earth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 air * water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 earth * water^2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 flashlight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1457280" y="1790640"/>
            <a:ext cx="6162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IR == VOLTAGE PRESS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1752480" y="2971800"/>
            <a:ext cx="57722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 fire / water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 earth * water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 sqrt( fire * earth)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 flashlight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1447920" y="1790640"/>
            <a:ext cx="6162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WATER == CURRENT FL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1838160" y="2895480"/>
            <a:ext cx="57722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 sqrt( fire / earth )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 fire / air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 air / earth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 flashlight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1219320" y="179064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EARTH == RESISTANCE TO FL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2209680" y="2895480"/>
            <a:ext cx="57722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 air / water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 air^/ fire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 fire / water^2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 flashlight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1752480" y="1600200"/>
            <a:ext cx="6096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FIRE == MANIFEST PO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1685880" y="2590920"/>
            <a:ext cx="6162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IR == VOLTAGE PRESS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1685880" y="3619440"/>
            <a:ext cx="6162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WATER == CURRENT FL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1371600" y="461016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EARTH == RESISTANCE TO FL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1797" name=""/>
          <p:cNvSpPr/>
          <p:nvPr/>
        </p:nvSpPr>
        <p:spPr>
          <a:xfrm>
            <a:off x="3671640" y="56880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4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INTESS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ever is behind it 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intessence manifes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‘impure combin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hm’s Law exhaustive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scribes the non-qlipothi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bin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676520" y="2438280"/>
            <a:ext cx="601956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trology tells us so.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862560" y="50652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 Black"/>
              </a:rPr>
              <a:t>HERMETIC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35280" y="149688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 Black"/>
              </a:rPr>
              <a:t>MYS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41400" y="462132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 Black"/>
              </a:rPr>
              <a:t>Cosm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65720" y="446868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 Black"/>
              </a:rPr>
              <a:t>Philoso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need to keep that in mi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s take a quick look at psycholog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re is the Myers Briggs System plugged into the Tatwas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809880" y="2895480"/>
            <a:ext cx="1067040" cy="1067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4876920" y="1828800"/>
            <a:ext cx="106668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876920" y="2895480"/>
            <a:ext cx="1066680" cy="1067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3048120"/>
            <a:ext cx="761760" cy="761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J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5029200" y="19810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5029200" y="3048120"/>
            <a:ext cx="7621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809880" y="4191120"/>
            <a:ext cx="106704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876920" y="419112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876920" y="52578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962520" y="4343400"/>
            <a:ext cx="76176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F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029200" y="434340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029200" y="5410080"/>
            <a:ext cx="7621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F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72200" y="18288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172200" y="2895480"/>
            <a:ext cx="106668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238880" y="2895480"/>
            <a:ext cx="106704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324480" y="198108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J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324480" y="3048120"/>
            <a:ext cx="762120" cy="761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391520" y="3048120"/>
            <a:ext cx="7617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172200" y="4191120"/>
            <a:ext cx="10666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172200" y="5257800"/>
            <a:ext cx="10666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238880" y="4191120"/>
            <a:ext cx="10670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6324480" y="434340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324480" y="5410080"/>
            <a:ext cx="762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F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391520" y="4343400"/>
            <a:ext cx="76176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8" name=""/>
          <p:cNvGrpSpPr/>
          <p:nvPr/>
        </p:nvGrpSpPr>
        <p:grpSpPr>
          <a:xfrm>
            <a:off x="3809880" y="1828800"/>
            <a:ext cx="4496040" cy="4495680"/>
            <a:chOff x="3809880" y="1828800"/>
            <a:chExt cx="4496040" cy="4495680"/>
          </a:xfrm>
        </p:grpSpPr>
        <p:sp>
          <p:nvSpPr>
            <p:cNvPr id="1829" name=""/>
            <p:cNvSpPr/>
            <p:nvPr/>
          </p:nvSpPr>
          <p:spPr>
            <a:xfrm>
              <a:off x="3809880" y="18288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962520" y="1981080"/>
              <a:ext cx="76176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809880" y="5257800"/>
              <a:ext cx="106704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962520" y="5410080"/>
              <a:ext cx="76176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238880" y="182880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391520" y="1981080"/>
              <a:ext cx="761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238880" y="52578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91520" y="5410080"/>
              <a:ext cx="76176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 txBox="1"/>
          <p:nvPr/>
        </p:nvSpPr>
        <p:spPr>
          <a:xfrm>
            <a:off x="533520" y="2133720"/>
            <a:ext cx="2514600" cy="20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his roughl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harts the scop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of the think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behind psycho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trology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85680" y="4648320"/>
            <a:ext cx="357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o/Introversion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 nei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logy nor the Tat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- thus its fol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diagra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9" name=""/>
          <p:cNvGrpSpPr/>
          <p:nvPr/>
        </p:nvGrpSpPr>
        <p:grpSpPr>
          <a:xfrm>
            <a:off x="3809880" y="1828800"/>
            <a:ext cx="4496040" cy="4495680"/>
            <a:chOff x="3809880" y="1828800"/>
            <a:chExt cx="4496040" cy="4495680"/>
          </a:xfrm>
        </p:grpSpPr>
        <p:sp>
          <p:nvSpPr>
            <p:cNvPr id="1840" name=""/>
            <p:cNvSpPr/>
            <p:nvPr/>
          </p:nvSpPr>
          <p:spPr>
            <a:xfrm>
              <a:off x="3809880" y="1828800"/>
              <a:ext cx="1067040" cy="1066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962520" y="1981080"/>
              <a:ext cx="761760" cy="76212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809880" y="5257800"/>
              <a:ext cx="1067040" cy="1066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962520" y="5410080"/>
              <a:ext cx="761760" cy="7621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238880" y="1828800"/>
              <a:ext cx="106704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391520" y="1981080"/>
              <a:ext cx="761760" cy="7621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238880" y="5257800"/>
              <a:ext cx="1067040" cy="1066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391520" y="5410080"/>
              <a:ext cx="761760" cy="762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trology does not consider the pure elements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809880" y="2895480"/>
            <a:ext cx="1067040" cy="1067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876920" y="1828800"/>
            <a:ext cx="106668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876920" y="2895480"/>
            <a:ext cx="1066680" cy="1067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962520" y="3048120"/>
            <a:ext cx="761760" cy="761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J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029200" y="19810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029200" y="3048120"/>
            <a:ext cx="7621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809880" y="4191120"/>
            <a:ext cx="106704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876920" y="419112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876920" y="52578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962520" y="4343400"/>
            <a:ext cx="76176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F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5029200" y="434340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5029200" y="5410080"/>
            <a:ext cx="7621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F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172200" y="18288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72200" y="2895480"/>
            <a:ext cx="106668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238880" y="2895480"/>
            <a:ext cx="106704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324480" y="198108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J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324480" y="3048120"/>
            <a:ext cx="762120" cy="761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391520" y="3048120"/>
            <a:ext cx="7617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6172200" y="4191120"/>
            <a:ext cx="10666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172200" y="5257800"/>
            <a:ext cx="10666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4191120"/>
            <a:ext cx="10670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324480" y="434340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324480" y="5410080"/>
            <a:ext cx="762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F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391520" y="4343400"/>
            <a:ext cx="76176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90320" y="3063960"/>
            <a:ext cx="23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Yet it incl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 ‘?’ i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34080" y="4197240"/>
            <a:ext cx="29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ers Briggs do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6 edges, they ignore 2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2819520" y="1371600"/>
            <a:ext cx="144756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2819520" y="3429000"/>
            <a:ext cx="144756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914400" y="495288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267080" y="495288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0" name=""/>
          <p:cNvCxnSpPr>
            <a:stCxn id="1876" idx="4"/>
            <a:endCxn id="1877" idx="0"/>
          </p:cNvCxnSpPr>
          <p:nvPr/>
        </p:nvCxnSpPr>
        <p:spPr>
          <a:xfrm>
            <a:off x="3543120" y="28191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1" name=""/>
          <p:cNvCxnSpPr>
            <a:stCxn id="1877" idx="6"/>
            <a:endCxn id="1879" idx="1"/>
          </p:cNvCxnSpPr>
          <p:nvPr/>
        </p:nvCxnSpPr>
        <p:spPr>
          <a:xfrm>
            <a:off x="4266720" y="4152600"/>
            <a:ext cx="213480" cy="10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2" name=""/>
          <p:cNvCxnSpPr>
            <a:stCxn id="1878" idx="7"/>
            <a:endCxn id="1877" idx="2"/>
          </p:cNvCxnSpPr>
          <p:nvPr/>
        </p:nvCxnSpPr>
        <p:spPr>
          <a:xfrm flipV="1">
            <a:off x="2149200" y="4152240"/>
            <a:ext cx="670680" cy="1013400"/>
          </a:xfrm>
          <a:prstGeom prst="straightConnector1">
            <a:avLst/>
          </a:prstGeom>
          <a:ln w="7632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883" name=""/>
          <p:cNvCxnSpPr>
            <a:stCxn id="1876" idx="2"/>
          </p:cNvCxnSpPr>
          <p:nvPr/>
        </p:nvCxnSpPr>
        <p:spPr>
          <a:xfrm flipH="1">
            <a:off x="1713960" y="2095200"/>
            <a:ext cx="1105560" cy="285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4" name=""/>
          <p:cNvCxnSpPr>
            <a:stCxn id="1876" idx="5"/>
            <a:endCxn id="1879" idx="0"/>
          </p:cNvCxnSpPr>
          <p:nvPr/>
        </p:nvCxnSpPr>
        <p:spPr>
          <a:xfrm>
            <a:off x="4054320" y="2606400"/>
            <a:ext cx="937440" cy="2346840"/>
          </a:xfrm>
          <a:prstGeom prst="straightConnector1">
            <a:avLst/>
          </a:prstGeom>
          <a:ln w="7632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885" name=""/>
          <p:cNvCxnSpPr>
            <a:stCxn id="1878" idx="6"/>
            <a:endCxn id="1879" idx="2"/>
          </p:cNvCxnSpPr>
          <p:nvPr/>
        </p:nvCxnSpPr>
        <p:spPr>
          <a:xfrm>
            <a:off x="2361960" y="5676480"/>
            <a:ext cx="19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86" name=""/>
          <p:cNvSpPr txBox="1"/>
          <p:nvPr/>
        </p:nvSpPr>
        <p:spPr>
          <a:xfrm>
            <a:off x="5334120" y="1371600"/>
            <a:ext cx="31240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Myers Brigg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exclude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ideas includ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by Science 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Astrolog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1887" name=""/>
          <p:cNvSpPr txBox="1"/>
          <p:nvPr/>
        </p:nvSpPr>
        <p:spPr>
          <a:xfrm>
            <a:off x="5410080" y="4038480"/>
            <a:ext cx="2971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he 16 boxes of MB ar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barely related to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he 4 elements!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8" name=""/>
          <p:cNvSpPr txBox="1"/>
          <p:nvPr/>
        </p:nvSpPr>
        <p:spPr>
          <a:xfrm>
            <a:off x="5781600" y="6118200"/>
            <a:ext cx="2295720" cy="2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tails in a couple of pages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16 Tatwas are better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981080" y="1447920"/>
            <a:ext cx="106704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981080" y="2514600"/>
            <a:ext cx="106704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048120" y="1447920"/>
            <a:ext cx="106668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048120" y="2514600"/>
            <a:ext cx="106668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133720" y="1600200"/>
            <a:ext cx="76176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2133720" y="2666880"/>
            <a:ext cx="76176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200400" y="160020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200400" y="2666880"/>
            <a:ext cx="7621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981080" y="3809880"/>
            <a:ext cx="1067040" cy="1067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981080" y="4876920"/>
            <a:ext cx="106704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048120" y="3809880"/>
            <a:ext cx="1066680" cy="1067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048120" y="487692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133720" y="3962520"/>
            <a:ext cx="761760" cy="7617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133720" y="5029200"/>
            <a:ext cx="76176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200400" y="3962520"/>
            <a:ext cx="7621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3200400" y="5029200"/>
            <a:ext cx="7621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4343400" y="144792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4343400" y="25146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5410080" y="1447920"/>
            <a:ext cx="106704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5410080" y="2514600"/>
            <a:ext cx="106704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4495680" y="160020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495680" y="2666880"/>
            <a:ext cx="762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5562720" y="1600200"/>
            <a:ext cx="76176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5562720" y="2666880"/>
            <a:ext cx="761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343400" y="3809880"/>
            <a:ext cx="106668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4343400" y="4876920"/>
            <a:ext cx="10666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5410080" y="4876920"/>
            <a:ext cx="10670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4495680" y="3962520"/>
            <a:ext cx="762120" cy="7617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495680" y="5029200"/>
            <a:ext cx="762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5562720" y="3962520"/>
            <a:ext cx="76176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5562720" y="5029200"/>
            <a:ext cx="761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 txBox="1"/>
          <p:nvPr/>
        </p:nvSpPr>
        <p:spPr>
          <a:xfrm>
            <a:off x="6672240" y="1978200"/>
            <a:ext cx="2090880" cy="29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atwas are 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ometrically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rrect!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y help you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nse and 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tuit into the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aternity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23" name=""/>
          <p:cNvSpPr txBox="1"/>
          <p:nvPr/>
        </p:nvSpPr>
        <p:spPr>
          <a:xfrm>
            <a:off x="152280" y="6324480"/>
            <a:ext cx="86868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at this level its about the 4x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tending the MB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114800" y="2819520"/>
            <a:ext cx="106668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181480" y="1752480"/>
            <a:ext cx="1067040" cy="1067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114800" y="1752480"/>
            <a:ext cx="1066680" cy="1067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4267080" y="2971800"/>
            <a:ext cx="762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J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5334120" y="1905120"/>
            <a:ext cx="76176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4267080" y="1905120"/>
            <a:ext cx="7621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S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N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114800" y="41148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114800" y="5181480"/>
            <a:ext cx="1066680" cy="1067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181480" y="5181480"/>
            <a:ext cx="1067040" cy="1067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267080" y="426708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F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267080" y="5334120"/>
            <a:ext cx="7621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TF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334120" y="5334120"/>
            <a:ext cx="7617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F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477120" y="1752480"/>
            <a:ext cx="106668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543800" y="1752480"/>
            <a:ext cx="106668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7543800" y="281952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629400" y="1905120"/>
            <a:ext cx="762120" cy="7617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J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696080" y="1905120"/>
            <a:ext cx="762120" cy="761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F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T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96080" y="2971800"/>
            <a:ext cx="7621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7543800" y="5181480"/>
            <a:ext cx="106668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477120" y="5181480"/>
            <a:ext cx="106668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7543800" y="4114800"/>
            <a:ext cx="10666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7696080" y="5334120"/>
            <a:ext cx="762120" cy="7617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NS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5334120"/>
            <a:ext cx="762120" cy="761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F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696080" y="42670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09480" y="1752480"/>
            <a:ext cx="45720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9480" y="2209680"/>
            <a:ext cx="45720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066680" y="1752480"/>
            <a:ext cx="45720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066680" y="2209680"/>
            <a:ext cx="45720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85800" y="1828800"/>
            <a:ext cx="326880" cy="326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85800" y="2286000"/>
            <a:ext cx="326880" cy="3268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FJ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NF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1143000" y="1828800"/>
            <a:ext cx="326880" cy="32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TP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NT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1143000" y="2286000"/>
            <a:ext cx="326880" cy="326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09480" y="2743200"/>
            <a:ext cx="457200" cy="4572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3200400"/>
            <a:ext cx="457200" cy="4572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066680" y="2743200"/>
            <a:ext cx="457200" cy="4572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066680" y="3200400"/>
            <a:ext cx="457200" cy="4572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685800" y="2819520"/>
            <a:ext cx="326880" cy="326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F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NF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85800" y="3276720"/>
            <a:ext cx="326880" cy="3268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1143000" y="2819520"/>
            <a:ext cx="326880" cy="32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143000" y="3276720"/>
            <a:ext cx="326880" cy="326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SF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SF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600200" y="175248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600200" y="220968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057400" y="175248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057400" y="220968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676520" y="1828800"/>
            <a:ext cx="326880" cy="326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TJ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NT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676520" y="2286000"/>
            <a:ext cx="326880" cy="3268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2133720" y="1828800"/>
            <a:ext cx="326880" cy="32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133720" y="2286000"/>
            <a:ext cx="326880" cy="326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ST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ST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600200" y="27432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600200" y="32004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057400" y="27432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057400" y="32004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676520" y="2819520"/>
            <a:ext cx="326880" cy="326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676520" y="3276720"/>
            <a:ext cx="326880" cy="3268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SF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SF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2133720" y="2819520"/>
            <a:ext cx="326880" cy="32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ST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ST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133720" y="3276720"/>
            <a:ext cx="326880" cy="326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143000" y="4800600"/>
            <a:ext cx="45720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1600200" y="4343400"/>
            <a:ext cx="45720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1143000" y="4343400"/>
            <a:ext cx="45720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219320" y="4876920"/>
            <a:ext cx="326880" cy="3268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FJ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NF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676520" y="4419720"/>
            <a:ext cx="326880" cy="32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TP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NT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219320" y="4419720"/>
            <a:ext cx="326880" cy="326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1143000" y="5334120"/>
            <a:ext cx="457200" cy="4572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5791320"/>
            <a:ext cx="457200" cy="4572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1600200" y="5791320"/>
            <a:ext cx="457200" cy="4572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219320" y="5410080"/>
            <a:ext cx="326880" cy="3272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F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NF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1219320" y="5867280"/>
            <a:ext cx="326880" cy="327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676520" y="5867280"/>
            <a:ext cx="326880" cy="32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SF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SF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133720" y="43434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590920" y="43434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590920" y="48006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209680" y="4419720"/>
            <a:ext cx="327240" cy="326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TJ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NT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666880" y="4419720"/>
            <a:ext cx="327240" cy="3268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2666880" y="4876920"/>
            <a:ext cx="327240" cy="326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ST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ST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590920" y="57913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2133720" y="57913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590920" y="5334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666880" y="5867280"/>
            <a:ext cx="327240" cy="3272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209680" y="5867280"/>
            <a:ext cx="327240" cy="3272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SF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SF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666880" y="5410080"/>
            <a:ext cx="327240" cy="327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ST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ST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600200" y="3809880"/>
            <a:ext cx="380880" cy="38124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5337000" y="2971800"/>
            <a:ext cx="2054520" cy="2057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-Introver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-Extrover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N-iNtuiti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-Think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F-Feel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-Sens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-Judg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-Perceiv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228600" y="8380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aking it the same shape as astrology has to b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dding these Piec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9" name=""/>
          <p:cNvGrpSpPr/>
          <p:nvPr/>
        </p:nvGrpSpPr>
        <p:grpSpPr>
          <a:xfrm>
            <a:off x="762120" y="2514600"/>
            <a:ext cx="990360" cy="990720"/>
            <a:chOff x="762120" y="2514600"/>
            <a:chExt cx="990360" cy="990720"/>
          </a:xfrm>
        </p:grpSpPr>
        <p:sp>
          <p:nvSpPr>
            <p:cNvPr id="2010" name=""/>
            <p:cNvSpPr/>
            <p:nvPr/>
          </p:nvSpPr>
          <p:spPr>
            <a:xfrm>
              <a:off x="762120" y="2514600"/>
              <a:ext cx="990360" cy="99072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903600" y="2655720"/>
              <a:ext cx="706680" cy="707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1828800" y="1447920"/>
            <a:ext cx="990720" cy="990360"/>
            <a:chOff x="1828800" y="1447920"/>
            <a:chExt cx="990720" cy="990360"/>
          </a:xfrm>
        </p:grpSpPr>
        <p:sp>
          <p:nvSpPr>
            <p:cNvPr id="2013" name=""/>
            <p:cNvSpPr/>
            <p:nvPr/>
          </p:nvSpPr>
          <p:spPr>
            <a:xfrm>
              <a:off x="1828800" y="1447920"/>
              <a:ext cx="990720" cy="99036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969920" y="1589400"/>
              <a:ext cx="707760" cy="70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609480" y="1295280"/>
            <a:ext cx="1067040" cy="1067040"/>
            <a:chOff x="609480" y="1295280"/>
            <a:chExt cx="1067040" cy="1067040"/>
          </a:xfrm>
        </p:grpSpPr>
        <p:sp>
          <p:nvSpPr>
            <p:cNvPr id="2016" name=""/>
            <p:cNvSpPr/>
            <p:nvPr/>
          </p:nvSpPr>
          <p:spPr>
            <a:xfrm>
              <a:off x="609480" y="1295280"/>
              <a:ext cx="1067040" cy="10670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62120" y="1447920"/>
              <a:ext cx="76176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762120" y="3581280"/>
            <a:ext cx="990360" cy="990720"/>
            <a:chOff x="762120" y="3581280"/>
            <a:chExt cx="990360" cy="990720"/>
          </a:xfrm>
        </p:grpSpPr>
        <p:sp>
          <p:nvSpPr>
            <p:cNvPr id="2019" name=""/>
            <p:cNvSpPr/>
            <p:nvPr/>
          </p:nvSpPr>
          <p:spPr>
            <a:xfrm>
              <a:off x="762120" y="3581280"/>
              <a:ext cx="990360" cy="9907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03600" y="3722400"/>
              <a:ext cx="706680" cy="70776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609480" y="4724280"/>
            <a:ext cx="1067040" cy="1067040"/>
            <a:chOff x="609480" y="4724280"/>
            <a:chExt cx="1067040" cy="1067040"/>
          </a:xfrm>
        </p:grpSpPr>
        <p:sp>
          <p:nvSpPr>
            <p:cNvPr id="2022" name=""/>
            <p:cNvSpPr/>
            <p:nvPr/>
          </p:nvSpPr>
          <p:spPr>
            <a:xfrm>
              <a:off x="609480" y="4724280"/>
              <a:ext cx="1067040" cy="10670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62120" y="4876920"/>
              <a:ext cx="761760" cy="76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1828800" y="4724280"/>
            <a:ext cx="990720" cy="990720"/>
            <a:chOff x="1828800" y="4724280"/>
            <a:chExt cx="990720" cy="990720"/>
          </a:xfrm>
        </p:grpSpPr>
        <p:sp>
          <p:nvSpPr>
            <p:cNvPr id="2025" name=""/>
            <p:cNvSpPr/>
            <p:nvPr/>
          </p:nvSpPr>
          <p:spPr>
            <a:xfrm>
              <a:off x="1828800" y="4724280"/>
              <a:ext cx="990720" cy="9907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969920" y="4865760"/>
              <a:ext cx="707760" cy="707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2895480" y="1447920"/>
            <a:ext cx="990720" cy="990360"/>
            <a:chOff x="2895480" y="1447920"/>
            <a:chExt cx="990720" cy="990360"/>
          </a:xfrm>
        </p:grpSpPr>
        <p:sp>
          <p:nvSpPr>
            <p:cNvPr id="2028" name=""/>
            <p:cNvSpPr/>
            <p:nvPr/>
          </p:nvSpPr>
          <p:spPr>
            <a:xfrm>
              <a:off x="2895480" y="1447920"/>
              <a:ext cx="990720" cy="99036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036600" y="1589400"/>
              <a:ext cx="707760" cy="706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4038480" y="1295280"/>
            <a:ext cx="1067040" cy="1067040"/>
            <a:chOff x="4038480" y="1295280"/>
            <a:chExt cx="1067040" cy="1067040"/>
          </a:xfrm>
        </p:grpSpPr>
        <p:sp>
          <p:nvSpPr>
            <p:cNvPr id="2031" name=""/>
            <p:cNvSpPr/>
            <p:nvPr/>
          </p:nvSpPr>
          <p:spPr>
            <a:xfrm>
              <a:off x="4038480" y="1295280"/>
              <a:ext cx="1067040" cy="1067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191120" y="1447920"/>
              <a:ext cx="761760" cy="7617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3962520" y="2514600"/>
            <a:ext cx="990360" cy="990720"/>
            <a:chOff x="3962520" y="2514600"/>
            <a:chExt cx="990360" cy="990720"/>
          </a:xfrm>
        </p:grpSpPr>
        <p:sp>
          <p:nvSpPr>
            <p:cNvPr id="2034" name=""/>
            <p:cNvSpPr/>
            <p:nvPr/>
          </p:nvSpPr>
          <p:spPr>
            <a:xfrm>
              <a:off x="3962520" y="2514600"/>
              <a:ext cx="990360" cy="9907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104000" y="2655720"/>
              <a:ext cx="706680" cy="70776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6" name=""/>
          <p:cNvGrpSpPr/>
          <p:nvPr/>
        </p:nvGrpSpPr>
        <p:grpSpPr>
          <a:xfrm>
            <a:off x="4038480" y="4724280"/>
            <a:ext cx="1067040" cy="1067040"/>
            <a:chOff x="4038480" y="4724280"/>
            <a:chExt cx="1067040" cy="1067040"/>
          </a:xfrm>
        </p:grpSpPr>
        <p:sp>
          <p:nvSpPr>
            <p:cNvPr id="2037" name=""/>
            <p:cNvSpPr/>
            <p:nvPr/>
          </p:nvSpPr>
          <p:spPr>
            <a:xfrm>
              <a:off x="4038480" y="4724280"/>
              <a:ext cx="106704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191120" y="4876920"/>
              <a:ext cx="761760" cy="7617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9" name=""/>
          <p:cNvGrpSpPr/>
          <p:nvPr/>
        </p:nvGrpSpPr>
        <p:grpSpPr>
          <a:xfrm>
            <a:off x="2895480" y="4724280"/>
            <a:ext cx="990720" cy="990720"/>
            <a:chOff x="2895480" y="4724280"/>
            <a:chExt cx="990720" cy="990720"/>
          </a:xfrm>
        </p:grpSpPr>
        <p:sp>
          <p:nvSpPr>
            <p:cNvPr id="2040" name=""/>
            <p:cNvSpPr/>
            <p:nvPr/>
          </p:nvSpPr>
          <p:spPr>
            <a:xfrm>
              <a:off x="2895480" y="4724280"/>
              <a:ext cx="990720" cy="9907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036600" y="4865760"/>
              <a:ext cx="707760" cy="70704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3962520" y="3581280"/>
            <a:ext cx="990360" cy="990720"/>
            <a:chOff x="3962520" y="3581280"/>
            <a:chExt cx="990360" cy="990720"/>
          </a:xfrm>
        </p:grpSpPr>
        <p:sp>
          <p:nvSpPr>
            <p:cNvPr id="2043" name=""/>
            <p:cNvSpPr/>
            <p:nvPr/>
          </p:nvSpPr>
          <p:spPr>
            <a:xfrm>
              <a:off x="3962520" y="3581280"/>
              <a:ext cx="990360" cy="9907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104000" y="3722400"/>
              <a:ext cx="706680" cy="70776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334120" y="457200"/>
            <a:ext cx="32763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6" name=""/>
          <p:cNvGrpSpPr/>
          <p:nvPr/>
        </p:nvGrpSpPr>
        <p:grpSpPr>
          <a:xfrm>
            <a:off x="6095880" y="2438280"/>
            <a:ext cx="1067040" cy="1067040"/>
            <a:chOff x="6095880" y="2438280"/>
            <a:chExt cx="1067040" cy="1067040"/>
          </a:xfrm>
        </p:grpSpPr>
        <p:sp>
          <p:nvSpPr>
            <p:cNvPr id="2047" name=""/>
            <p:cNvSpPr/>
            <p:nvPr/>
          </p:nvSpPr>
          <p:spPr>
            <a:xfrm>
              <a:off x="6095880" y="2438280"/>
              <a:ext cx="1067040" cy="10670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248520" y="2590920"/>
              <a:ext cx="76176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7315200" y="5257800"/>
            <a:ext cx="1066680" cy="1066680"/>
            <a:chOff x="7315200" y="5257800"/>
            <a:chExt cx="1066680" cy="1066680"/>
          </a:xfrm>
        </p:grpSpPr>
        <p:sp>
          <p:nvSpPr>
            <p:cNvPr id="2050" name=""/>
            <p:cNvSpPr/>
            <p:nvPr/>
          </p:nvSpPr>
          <p:spPr>
            <a:xfrm>
              <a:off x="7315200" y="52578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467480" y="5410080"/>
              <a:ext cx="76140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6095880" y="5257800"/>
            <a:ext cx="1067040" cy="1066680"/>
            <a:chOff x="6095880" y="5257800"/>
            <a:chExt cx="1067040" cy="1066680"/>
          </a:xfrm>
        </p:grpSpPr>
        <p:sp>
          <p:nvSpPr>
            <p:cNvPr id="2053" name=""/>
            <p:cNvSpPr/>
            <p:nvPr/>
          </p:nvSpPr>
          <p:spPr>
            <a:xfrm>
              <a:off x="6095880" y="525780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248520" y="5410080"/>
              <a:ext cx="76176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7315200" y="2438280"/>
            <a:ext cx="1066680" cy="1067040"/>
            <a:chOff x="7315200" y="2438280"/>
            <a:chExt cx="1066680" cy="1067040"/>
          </a:xfrm>
        </p:grpSpPr>
        <p:sp>
          <p:nvSpPr>
            <p:cNvPr id="2056" name=""/>
            <p:cNvSpPr/>
            <p:nvPr/>
          </p:nvSpPr>
          <p:spPr>
            <a:xfrm>
              <a:off x="7315200" y="2438280"/>
              <a:ext cx="10666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467480" y="2590920"/>
              <a:ext cx="761400" cy="7617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8" name=""/>
          <p:cNvSpPr txBox="1"/>
          <p:nvPr/>
        </p:nvSpPr>
        <p:spPr>
          <a:xfrm>
            <a:off x="5572080" y="990720"/>
            <a:ext cx="3267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ntuitive Sensing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nsing Intuitive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5562720" y="388620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inking Feel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eeling Think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0" name=""/>
          <p:cNvSpPr txBox="1"/>
          <p:nvPr/>
        </p:nvSpPr>
        <p:spPr>
          <a:xfrm>
            <a:off x="1832040" y="2514600"/>
            <a:ext cx="2054160" cy="2057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nclud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lemental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mplement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get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2" name=""/>
          <p:cNvGrpSpPr/>
          <p:nvPr/>
        </p:nvGrpSpPr>
        <p:grpSpPr>
          <a:xfrm>
            <a:off x="609480" y="2362320"/>
            <a:ext cx="1067040" cy="1066680"/>
            <a:chOff x="609480" y="2362320"/>
            <a:chExt cx="1067040" cy="1066680"/>
          </a:xfrm>
        </p:grpSpPr>
        <p:sp>
          <p:nvSpPr>
            <p:cNvPr id="2063" name=""/>
            <p:cNvSpPr/>
            <p:nvPr/>
          </p:nvSpPr>
          <p:spPr>
            <a:xfrm>
              <a:off x="609480" y="236232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62120" y="2514600"/>
              <a:ext cx="76176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5" name=""/>
          <p:cNvGrpSpPr/>
          <p:nvPr/>
        </p:nvGrpSpPr>
        <p:grpSpPr>
          <a:xfrm>
            <a:off x="1676520" y="1295280"/>
            <a:ext cx="1066680" cy="1067040"/>
            <a:chOff x="1676520" y="1295280"/>
            <a:chExt cx="1066680" cy="1067040"/>
          </a:xfrm>
        </p:grpSpPr>
        <p:sp>
          <p:nvSpPr>
            <p:cNvPr id="2066" name=""/>
            <p:cNvSpPr/>
            <p:nvPr/>
          </p:nvSpPr>
          <p:spPr>
            <a:xfrm>
              <a:off x="1676520" y="1295280"/>
              <a:ext cx="1066680" cy="10670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828800" y="1447920"/>
              <a:ext cx="762120" cy="76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609480" y="1295280"/>
            <a:ext cx="1067040" cy="1067040"/>
            <a:chOff x="609480" y="1295280"/>
            <a:chExt cx="1067040" cy="1067040"/>
          </a:xfrm>
        </p:grpSpPr>
        <p:sp>
          <p:nvSpPr>
            <p:cNvPr id="2069" name=""/>
            <p:cNvSpPr/>
            <p:nvPr/>
          </p:nvSpPr>
          <p:spPr>
            <a:xfrm>
              <a:off x="609480" y="1295280"/>
              <a:ext cx="1067040" cy="10670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62120" y="1447920"/>
              <a:ext cx="76176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1" name=""/>
          <p:cNvGrpSpPr/>
          <p:nvPr/>
        </p:nvGrpSpPr>
        <p:grpSpPr>
          <a:xfrm>
            <a:off x="609480" y="3657600"/>
            <a:ext cx="1067040" cy="1066680"/>
            <a:chOff x="609480" y="3657600"/>
            <a:chExt cx="1067040" cy="1066680"/>
          </a:xfrm>
        </p:grpSpPr>
        <p:sp>
          <p:nvSpPr>
            <p:cNvPr id="2072" name=""/>
            <p:cNvSpPr/>
            <p:nvPr/>
          </p:nvSpPr>
          <p:spPr>
            <a:xfrm>
              <a:off x="609480" y="3657600"/>
              <a:ext cx="106704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62120" y="3809880"/>
              <a:ext cx="76176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609480" y="4724280"/>
            <a:ext cx="1067040" cy="1067040"/>
            <a:chOff x="609480" y="4724280"/>
            <a:chExt cx="1067040" cy="1067040"/>
          </a:xfrm>
        </p:grpSpPr>
        <p:sp>
          <p:nvSpPr>
            <p:cNvPr id="2075" name=""/>
            <p:cNvSpPr/>
            <p:nvPr/>
          </p:nvSpPr>
          <p:spPr>
            <a:xfrm>
              <a:off x="609480" y="4724280"/>
              <a:ext cx="1067040" cy="10670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62120" y="4876920"/>
              <a:ext cx="761760" cy="76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7" name=""/>
          <p:cNvGrpSpPr/>
          <p:nvPr/>
        </p:nvGrpSpPr>
        <p:grpSpPr>
          <a:xfrm>
            <a:off x="1676520" y="4724280"/>
            <a:ext cx="1066680" cy="1067040"/>
            <a:chOff x="1676520" y="4724280"/>
            <a:chExt cx="1066680" cy="1067040"/>
          </a:xfrm>
        </p:grpSpPr>
        <p:sp>
          <p:nvSpPr>
            <p:cNvPr id="2078" name=""/>
            <p:cNvSpPr/>
            <p:nvPr/>
          </p:nvSpPr>
          <p:spPr>
            <a:xfrm>
              <a:off x="1676520" y="4724280"/>
              <a:ext cx="1066680" cy="10670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828800" y="4876920"/>
              <a:ext cx="76212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0" name=""/>
          <p:cNvGrpSpPr/>
          <p:nvPr/>
        </p:nvGrpSpPr>
        <p:grpSpPr>
          <a:xfrm>
            <a:off x="2971800" y="1295280"/>
            <a:ext cx="1066680" cy="1067040"/>
            <a:chOff x="2971800" y="1295280"/>
            <a:chExt cx="1066680" cy="1067040"/>
          </a:xfrm>
        </p:grpSpPr>
        <p:sp>
          <p:nvSpPr>
            <p:cNvPr id="2081" name=""/>
            <p:cNvSpPr/>
            <p:nvPr/>
          </p:nvSpPr>
          <p:spPr>
            <a:xfrm>
              <a:off x="2971800" y="1295280"/>
              <a:ext cx="1066680" cy="1067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124080" y="1447920"/>
              <a:ext cx="762120" cy="7617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3" name=""/>
          <p:cNvGrpSpPr/>
          <p:nvPr/>
        </p:nvGrpSpPr>
        <p:grpSpPr>
          <a:xfrm>
            <a:off x="4038480" y="1295280"/>
            <a:ext cx="1067040" cy="1067040"/>
            <a:chOff x="4038480" y="1295280"/>
            <a:chExt cx="1067040" cy="1067040"/>
          </a:xfrm>
        </p:grpSpPr>
        <p:sp>
          <p:nvSpPr>
            <p:cNvPr id="2084" name=""/>
            <p:cNvSpPr/>
            <p:nvPr/>
          </p:nvSpPr>
          <p:spPr>
            <a:xfrm>
              <a:off x="4038480" y="1295280"/>
              <a:ext cx="1067040" cy="1067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191120" y="1447920"/>
              <a:ext cx="761760" cy="7617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6" name=""/>
          <p:cNvGrpSpPr/>
          <p:nvPr/>
        </p:nvGrpSpPr>
        <p:grpSpPr>
          <a:xfrm>
            <a:off x="4038480" y="2362320"/>
            <a:ext cx="1067040" cy="1066680"/>
            <a:chOff x="4038480" y="2362320"/>
            <a:chExt cx="1067040" cy="1066680"/>
          </a:xfrm>
        </p:grpSpPr>
        <p:sp>
          <p:nvSpPr>
            <p:cNvPr id="2087" name=""/>
            <p:cNvSpPr/>
            <p:nvPr/>
          </p:nvSpPr>
          <p:spPr>
            <a:xfrm>
              <a:off x="4038480" y="236232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191120" y="2514600"/>
              <a:ext cx="76176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9" name=""/>
          <p:cNvGrpSpPr/>
          <p:nvPr/>
        </p:nvGrpSpPr>
        <p:grpSpPr>
          <a:xfrm>
            <a:off x="4038480" y="4724280"/>
            <a:ext cx="1067040" cy="1067040"/>
            <a:chOff x="4038480" y="4724280"/>
            <a:chExt cx="1067040" cy="1067040"/>
          </a:xfrm>
        </p:grpSpPr>
        <p:sp>
          <p:nvSpPr>
            <p:cNvPr id="2090" name=""/>
            <p:cNvSpPr/>
            <p:nvPr/>
          </p:nvSpPr>
          <p:spPr>
            <a:xfrm>
              <a:off x="4038480" y="4724280"/>
              <a:ext cx="106704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91120" y="4876920"/>
              <a:ext cx="761760" cy="7617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2" name=""/>
          <p:cNvGrpSpPr/>
          <p:nvPr/>
        </p:nvGrpSpPr>
        <p:grpSpPr>
          <a:xfrm>
            <a:off x="2971800" y="4724280"/>
            <a:ext cx="1066680" cy="1067040"/>
            <a:chOff x="2971800" y="4724280"/>
            <a:chExt cx="1066680" cy="1067040"/>
          </a:xfrm>
        </p:grpSpPr>
        <p:sp>
          <p:nvSpPr>
            <p:cNvPr id="2093" name=""/>
            <p:cNvSpPr/>
            <p:nvPr/>
          </p:nvSpPr>
          <p:spPr>
            <a:xfrm>
              <a:off x="2971800" y="4724280"/>
              <a:ext cx="10666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124080" y="4876920"/>
              <a:ext cx="762120" cy="7617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5" name=""/>
          <p:cNvGrpSpPr/>
          <p:nvPr/>
        </p:nvGrpSpPr>
        <p:grpSpPr>
          <a:xfrm>
            <a:off x="4038480" y="3657600"/>
            <a:ext cx="1067040" cy="1066680"/>
            <a:chOff x="4038480" y="3657600"/>
            <a:chExt cx="1067040" cy="1066680"/>
          </a:xfrm>
        </p:grpSpPr>
        <p:sp>
          <p:nvSpPr>
            <p:cNvPr id="2096" name=""/>
            <p:cNvSpPr/>
            <p:nvPr/>
          </p:nvSpPr>
          <p:spPr>
            <a:xfrm>
              <a:off x="4038480" y="36576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191120" y="3809880"/>
              <a:ext cx="761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8" name=""/>
          <p:cNvSpPr txBox="1"/>
          <p:nvPr/>
        </p:nvSpPr>
        <p:spPr>
          <a:xfrm>
            <a:off x="1832040" y="2514600"/>
            <a:ext cx="2054160" cy="2057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-Introver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-Extrover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N-iNtuiti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-Think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F-Feel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-Sens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-Judg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-Perceiv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5410080" y="533520"/>
            <a:ext cx="3276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rypt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twa-esqu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y-Inspire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OF INGREDIENT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12 ‘signs’ going 2 ways.. Introverted and Extrove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chemical Ingredi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188520" y="477360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or 24 half-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rt of every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676520" y="2438280"/>
            <a:ext cx="601956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trology tells us so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4" name=""/>
          <p:cNvSpPr/>
          <p:nvPr/>
        </p:nvSpPr>
        <p:spPr>
          <a:xfrm>
            <a:off x="2591280" y="106668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 Black"/>
              </a:rPr>
              <a:t>HERMETIC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64000" y="205740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 Black"/>
              </a:rPr>
              <a:t>MYS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70120" y="518148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 Black"/>
              </a:rPr>
              <a:t>Cosm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94440" y="502920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 Black"/>
              </a:rPr>
              <a:t>Philoso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oteric and Exoteric Persp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2286000" y="2286000"/>
            <a:ext cx="1066680" cy="1066680"/>
            <a:chOff x="2286000" y="2286000"/>
            <a:chExt cx="1066680" cy="1066680"/>
          </a:xfrm>
        </p:grpSpPr>
        <p:sp>
          <p:nvSpPr>
            <p:cNvPr id="2104" name=""/>
            <p:cNvSpPr/>
            <p:nvPr/>
          </p:nvSpPr>
          <p:spPr>
            <a:xfrm>
              <a:off x="2286000" y="22860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438280" y="2438280"/>
              <a:ext cx="76140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6" name=""/>
          <p:cNvGrpSpPr/>
          <p:nvPr/>
        </p:nvGrpSpPr>
        <p:grpSpPr>
          <a:xfrm>
            <a:off x="3352680" y="1219320"/>
            <a:ext cx="1066680" cy="1066680"/>
            <a:chOff x="3352680" y="1219320"/>
            <a:chExt cx="1066680" cy="1066680"/>
          </a:xfrm>
        </p:grpSpPr>
        <p:sp>
          <p:nvSpPr>
            <p:cNvPr id="2107" name=""/>
            <p:cNvSpPr/>
            <p:nvPr/>
          </p:nvSpPr>
          <p:spPr>
            <a:xfrm>
              <a:off x="3352680" y="121932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504960" y="137160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9" name=""/>
          <p:cNvGrpSpPr/>
          <p:nvPr/>
        </p:nvGrpSpPr>
        <p:grpSpPr>
          <a:xfrm>
            <a:off x="2286000" y="1219320"/>
            <a:ext cx="1066680" cy="1066680"/>
            <a:chOff x="2286000" y="1219320"/>
            <a:chExt cx="1066680" cy="1066680"/>
          </a:xfrm>
        </p:grpSpPr>
        <p:sp>
          <p:nvSpPr>
            <p:cNvPr id="2110" name=""/>
            <p:cNvSpPr/>
            <p:nvPr/>
          </p:nvSpPr>
          <p:spPr>
            <a:xfrm>
              <a:off x="2286000" y="121932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438280" y="1371600"/>
              <a:ext cx="76140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2" name=""/>
          <p:cNvGrpSpPr/>
          <p:nvPr/>
        </p:nvGrpSpPr>
        <p:grpSpPr>
          <a:xfrm>
            <a:off x="2286000" y="3581280"/>
            <a:ext cx="1066680" cy="1066680"/>
            <a:chOff x="2286000" y="3581280"/>
            <a:chExt cx="1066680" cy="1066680"/>
          </a:xfrm>
        </p:grpSpPr>
        <p:sp>
          <p:nvSpPr>
            <p:cNvPr id="2113" name=""/>
            <p:cNvSpPr/>
            <p:nvPr/>
          </p:nvSpPr>
          <p:spPr>
            <a:xfrm>
              <a:off x="2286000" y="358128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438280" y="373356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5" name=""/>
          <p:cNvGrpSpPr/>
          <p:nvPr/>
        </p:nvGrpSpPr>
        <p:grpSpPr>
          <a:xfrm>
            <a:off x="2286000" y="4648320"/>
            <a:ext cx="1066680" cy="1066680"/>
            <a:chOff x="2286000" y="4648320"/>
            <a:chExt cx="1066680" cy="1066680"/>
          </a:xfrm>
        </p:grpSpPr>
        <p:sp>
          <p:nvSpPr>
            <p:cNvPr id="2116" name=""/>
            <p:cNvSpPr/>
            <p:nvPr/>
          </p:nvSpPr>
          <p:spPr>
            <a:xfrm>
              <a:off x="2286000" y="46483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438280" y="4800600"/>
              <a:ext cx="76140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"/>
          <p:cNvGrpSpPr/>
          <p:nvPr/>
        </p:nvGrpSpPr>
        <p:grpSpPr>
          <a:xfrm>
            <a:off x="3352680" y="4648320"/>
            <a:ext cx="1066680" cy="1066680"/>
            <a:chOff x="3352680" y="4648320"/>
            <a:chExt cx="1066680" cy="1066680"/>
          </a:xfrm>
        </p:grpSpPr>
        <p:sp>
          <p:nvSpPr>
            <p:cNvPr id="2119" name=""/>
            <p:cNvSpPr/>
            <p:nvPr/>
          </p:nvSpPr>
          <p:spPr>
            <a:xfrm>
              <a:off x="3352680" y="46483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504960" y="480060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1" name=""/>
          <p:cNvGrpSpPr/>
          <p:nvPr/>
        </p:nvGrpSpPr>
        <p:grpSpPr>
          <a:xfrm>
            <a:off x="4648320" y="1219320"/>
            <a:ext cx="1066680" cy="1066680"/>
            <a:chOff x="4648320" y="1219320"/>
            <a:chExt cx="1066680" cy="1066680"/>
          </a:xfrm>
        </p:grpSpPr>
        <p:sp>
          <p:nvSpPr>
            <p:cNvPr id="2122" name=""/>
            <p:cNvSpPr/>
            <p:nvPr/>
          </p:nvSpPr>
          <p:spPr>
            <a:xfrm>
              <a:off x="4648320" y="12193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800600" y="137160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4" name=""/>
          <p:cNvGrpSpPr/>
          <p:nvPr/>
        </p:nvGrpSpPr>
        <p:grpSpPr>
          <a:xfrm>
            <a:off x="5715000" y="1219320"/>
            <a:ext cx="1066680" cy="1066680"/>
            <a:chOff x="5715000" y="1219320"/>
            <a:chExt cx="1066680" cy="1066680"/>
          </a:xfrm>
        </p:grpSpPr>
        <p:sp>
          <p:nvSpPr>
            <p:cNvPr id="2125" name=""/>
            <p:cNvSpPr/>
            <p:nvPr/>
          </p:nvSpPr>
          <p:spPr>
            <a:xfrm>
              <a:off x="5715000" y="12193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867280" y="137160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7" name=""/>
          <p:cNvGrpSpPr/>
          <p:nvPr/>
        </p:nvGrpSpPr>
        <p:grpSpPr>
          <a:xfrm>
            <a:off x="5715000" y="2286000"/>
            <a:ext cx="1066680" cy="1066680"/>
            <a:chOff x="5715000" y="2286000"/>
            <a:chExt cx="1066680" cy="1066680"/>
          </a:xfrm>
        </p:grpSpPr>
        <p:sp>
          <p:nvSpPr>
            <p:cNvPr id="2128" name=""/>
            <p:cNvSpPr/>
            <p:nvPr/>
          </p:nvSpPr>
          <p:spPr>
            <a:xfrm>
              <a:off x="5715000" y="22860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867280" y="2438280"/>
              <a:ext cx="7614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0" name=""/>
          <p:cNvGrpSpPr/>
          <p:nvPr/>
        </p:nvGrpSpPr>
        <p:grpSpPr>
          <a:xfrm>
            <a:off x="5715000" y="4648320"/>
            <a:ext cx="1066680" cy="1066680"/>
            <a:chOff x="5715000" y="4648320"/>
            <a:chExt cx="1066680" cy="1066680"/>
          </a:xfrm>
        </p:grpSpPr>
        <p:sp>
          <p:nvSpPr>
            <p:cNvPr id="2131" name=""/>
            <p:cNvSpPr/>
            <p:nvPr/>
          </p:nvSpPr>
          <p:spPr>
            <a:xfrm>
              <a:off x="5715000" y="464832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867280" y="4800600"/>
              <a:ext cx="76140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3" name=""/>
          <p:cNvGrpSpPr/>
          <p:nvPr/>
        </p:nvGrpSpPr>
        <p:grpSpPr>
          <a:xfrm>
            <a:off x="4648320" y="4648320"/>
            <a:ext cx="1066680" cy="1066680"/>
            <a:chOff x="4648320" y="4648320"/>
            <a:chExt cx="1066680" cy="1066680"/>
          </a:xfrm>
        </p:grpSpPr>
        <p:sp>
          <p:nvSpPr>
            <p:cNvPr id="2134" name=""/>
            <p:cNvSpPr/>
            <p:nvPr/>
          </p:nvSpPr>
          <p:spPr>
            <a:xfrm>
              <a:off x="4648320" y="464832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800600" y="480060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6" name=""/>
          <p:cNvGrpSpPr/>
          <p:nvPr/>
        </p:nvGrpSpPr>
        <p:grpSpPr>
          <a:xfrm>
            <a:off x="5715000" y="3581280"/>
            <a:ext cx="1066680" cy="1066680"/>
            <a:chOff x="5715000" y="3581280"/>
            <a:chExt cx="1066680" cy="1066680"/>
          </a:xfrm>
        </p:grpSpPr>
        <p:sp>
          <p:nvSpPr>
            <p:cNvPr id="2137" name=""/>
            <p:cNvSpPr/>
            <p:nvPr/>
          </p:nvSpPr>
          <p:spPr>
            <a:xfrm>
              <a:off x="5715000" y="358128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867280" y="3733560"/>
              <a:ext cx="761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9" name=""/>
          <p:cNvSpPr txBox="1"/>
          <p:nvPr/>
        </p:nvSpPr>
        <p:spPr>
          <a:xfrm>
            <a:off x="3508200" y="2438280"/>
            <a:ext cx="2054520" cy="2057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SOTERIC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0" name=""/>
          <p:cNvGrpSpPr/>
          <p:nvPr/>
        </p:nvGrpSpPr>
        <p:grpSpPr>
          <a:xfrm>
            <a:off x="2286000" y="2286000"/>
            <a:ext cx="1066680" cy="1066680"/>
            <a:chOff x="2286000" y="2286000"/>
            <a:chExt cx="1066680" cy="1066680"/>
          </a:xfrm>
        </p:grpSpPr>
        <p:sp>
          <p:nvSpPr>
            <p:cNvPr id="2141" name=""/>
            <p:cNvSpPr/>
            <p:nvPr/>
          </p:nvSpPr>
          <p:spPr>
            <a:xfrm>
              <a:off x="2286000" y="22860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438280" y="2438280"/>
              <a:ext cx="76140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3" name=""/>
          <p:cNvGrpSpPr/>
          <p:nvPr/>
        </p:nvGrpSpPr>
        <p:grpSpPr>
          <a:xfrm>
            <a:off x="3352680" y="1219320"/>
            <a:ext cx="1066680" cy="1066680"/>
            <a:chOff x="3352680" y="1219320"/>
            <a:chExt cx="1066680" cy="1066680"/>
          </a:xfrm>
        </p:grpSpPr>
        <p:sp>
          <p:nvSpPr>
            <p:cNvPr id="2144" name=""/>
            <p:cNvSpPr/>
            <p:nvPr/>
          </p:nvSpPr>
          <p:spPr>
            <a:xfrm>
              <a:off x="3352680" y="121932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504960" y="137160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2286000" y="1219320"/>
            <a:ext cx="1066680" cy="1066680"/>
            <a:chOff x="2286000" y="1219320"/>
            <a:chExt cx="1066680" cy="1066680"/>
          </a:xfrm>
        </p:grpSpPr>
        <p:sp>
          <p:nvSpPr>
            <p:cNvPr id="2147" name=""/>
            <p:cNvSpPr/>
            <p:nvPr/>
          </p:nvSpPr>
          <p:spPr>
            <a:xfrm>
              <a:off x="2286000" y="121932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438280" y="1371600"/>
              <a:ext cx="76140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9" name=""/>
          <p:cNvGrpSpPr/>
          <p:nvPr/>
        </p:nvGrpSpPr>
        <p:grpSpPr>
          <a:xfrm>
            <a:off x="2286000" y="3581280"/>
            <a:ext cx="1066680" cy="1066680"/>
            <a:chOff x="2286000" y="3581280"/>
            <a:chExt cx="1066680" cy="1066680"/>
          </a:xfrm>
        </p:grpSpPr>
        <p:sp>
          <p:nvSpPr>
            <p:cNvPr id="2150" name=""/>
            <p:cNvSpPr/>
            <p:nvPr/>
          </p:nvSpPr>
          <p:spPr>
            <a:xfrm>
              <a:off x="2286000" y="358128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438280" y="373356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2" name=""/>
          <p:cNvGrpSpPr/>
          <p:nvPr/>
        </p:nvGrpSpPr>
        <p:grpSpPr>
          <a:xfrm>
            <a:off x="2286000" y="4648320"/>
            <a:ext cx="1066680" cy="1066680"/>
            <a:chOff x="2286000" y="4648320"/>
            <a:chExt cx="1066680" cy="1066680"/>
          </a:xfrm>
        </p:grpSpPr>
        <p:sp>
          <p:nvSpPr>
            <p:cNvPr id="2153" name=""/>
            <p:cNvSpPr/>
            <p:nvPr/>
          </p:nvSpPr>
          <p:spPr>
            <a:xfrm>
              <a:off x="2286000" y="46483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438280" y="4800600"/>
              <a:ext cx="76140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5" name=""/>
          <p:cNvGrpSpPr/>
          <p:nvPr/>
        </p:nvGrpSpPr>
        <p:grpSpPr>
          <a:xfrm>
            <a:off x="3352680" y="4648320"/>
            <a:ext cx="1066680" cy="1066680"/>
            <a:chOff x="3352680" y="4648320"/>
            <a:chExt cx="1066680" cy="1066680"/>
          </a:xfrm>
        </p:grpSpPr>
        <p:sp>
          <p:nvSpPr>
            <p:cNvPr id="2156" name=""/>
            <p:cNvSpPr/>
            <p:nvPr/>
          </p:nvSpPr>
          <p:spPr>
            <a:xfrm>
              <a:off x="3352680" y="46483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504960" y="480060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8" name=""/>
          <p:cNvGrpSpPr/>
          <p:nvPr/>
        </p:nvGrpSpPr>
        <p:grpSpPr>
          <a:xfrm>
            <a:off x="4648320" y="1219320"/>
            <a:ext cx="1066680" cy="1066680"/>
            <a:chOff x="4648320" y="1219320"/>
            <a:chExt cx="1066680" cy="1066680"/>
          </a:xfrm>
        </p:grpSpPr>
        <p:sp>
          <p:nvSpPr>
            <p:cNvPr id="2159" name=""/>
            <p:cNvSpPr/>
            <p:nvPr/>
          </p:nvSpPr>
          <p:spPr>
            <a:xfrm>
              <a:off x="4648320" y="12193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800600" y="137160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1" name=""/>
          <p:cNvGrpSpPr/>
          <p:nvPr/>
        </p:nvGrpSpPr>
        <p:grpSpPr>
          <a:xfrm>
            <a:off x="5715000" y="1219320"/>
            <a:ext cx="1066680" cy="1066680"/>
            <a:chOff x="5715000" y="1219320"/>
            <a:chExt cx="1066680" cy="1066680"/>
          </a:xfrm>
        </p:grpSpPr>
        <p:sp>
          <p:nvSpPr>
            <p:cNvPr id="2162" name=""/>
            <p:cNvSpPr/>
            <p:nvPr/>
          </p:nvSpPr>
          <p:spPr>
            <a:xfrm>
              <a:off x="5715000" y="12193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867280" y="137160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4" name=""/>
          <p:cNvGrpSpPr/>
          <p:nvPr/>
        </p:nvGrpSpPr>
        <p:grpSpPr>
          <a:xfrm>
            <a:off x="5715000" y="2286000"/>
            <a:ext cx="1066680" cy="1066680"/>
            <a:chOff x="5715000" y="2286000"/>
            <a:chExt cx="1066680" cy="1066680"/>
          </a:xfrm>
        </p:grpSpPr>
        <p:sp>
          <p:nvSpPr>
            <p:cNvPr id="2165" name=""/>
            <p:cNvSpPr/>
            <p:nvPr/>
          </p:nvSpPr>
          <p:spPr>
            <a:xfrm>
              <a:off x="5715000" y="22860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867280" y="2438280"/>
              <a:ext cx="7614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7" name=""/>
          <p:cNvGrpSpPr/>
          <p:nvPr/>
        </p:nvGrpSpPr>
        <p:grpSpPr>
          <a:xfrm>
            <a:off x="5715000" y="4648320"/>
            <a:ext cx="1066680" cy="1066680"/>
            <a:chOff x="5715000" y="4648320"/>
            <a:chExt cx="1066680" cy="1066680"/>
          </a:xfrm>
        </p:grpSpPr>
        <p:sp>
          <p:nvSpPr>
            <p:cNvPr id="2168" name=""/>
            <p:cNvSpPr/>
            <p:nvPr/>
          </p:nvSpPr>
          <p:spPr>
            <a:xfrm>
              <a:off x="5715000" y="464832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867280" y="4800600"/>
              <a:ext cx="76140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0" name=""/>
          <p:cNvGrpSpPr/>
          <p:nvPr/>
        </p:nvGrpSpPr>
        <p:grpSpPr>
          <a:xfrm>
            <a:off x="4648320" y="4648320"/>
            <a:ext cx="1066680" cy="1066680"/>
            <a:chOff x="4648320" y="4648320"/>
            <a:chExt cx="1066680" cy="1066680"/>
          </a:xfrm>
        </p:grpSpPr>
        <p:sp>
          <p:nvSpPr>
            <p:cNvPr id="2171" name=""/>
            <p:cNvSpPr/>
            <p:nvPr/>
          </p:nvSpPr>
          <p:spPr>
            <a:xfrm>
              <a:off x="4648320" y="464832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800600" y="480060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3" name=""/>
          <p:cNvGrpSpPr/>
          <p:nvPr/>
        </p:nvGrpSpPr>
        <p:grpSpPr>
          <a:xfrm>
            <a:off x="5715000" y="3581280"/>
            <a:ext cx="1066680" cy="1066680"/>
            <a:chOff x="5715000" y="3581280"/>
            <a:chExt cx="1066680" cy="1066680"/>
          </a:xfrm>
        </p:grpSpPr>
        <p:sp>
          <p:nvSpPr>
            <p:cNvPr id="2174" name=""/>
            <p:cNvSpPr/>
            <p:nvPr/>
          </p:nvSpPr>
          <p:spPr>
            <a:xfrm>
              <a:off x="5715000" y="358128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867280" y="3733560"/>
              <a:ext cx="761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6" name=""/>
          <p:cNvSpPr txBox="1"/>
          <p:nvPr/>
        </p:nvSpPr>
        <p:spPr>
          <a:xfrm>
            <a:off x="3508200" y="2438280"/>
            <a:ext cx="2054520" cy="2057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XOTERIC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28600" y="3808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oteric and Exoteric Persp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852480" y="2438280"/>
            <a:ext cx="791064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W WHAT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uffle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3338640" y="1981080"/>
            <a:ext cx="24667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huffling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2" name=""/>
          <p:cNvSpPr txBox="1"/>
          <p:nvPr/>
        </p:nvSpPr>
        <p:spPr>
          <a:xfrm>
            <a:off x="3657600" y="3124080"/>
            <a:ext cx="18194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shuffling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2984040" y="39625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Repeat until integrated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 txBox="1"/>
          <p:nvPr/>
        </p:nvSpPr>
        <p:spPr>
          <a:xfrm>
            <a:off x="2733840" y="5143680"/>
            <a:ext cx="38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ynthesis done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the MB is really 2*12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6" name=""/>
          <p:cNvGrpSpPr/>
          <p:nvPr/>
        </p:nvGrpSpPr>
        <p:grpSpPr>
          <a:xfrm>
            <a:off x="2133720" y="2514600"/>
            <a:ext cx="1066680" cy="1066680"/>
            <a:chOff x="2133720" y="2514600"/>
            <a:chExt cx="1066680" cy="1066680"/>
          </a:xfrm>
        </p:grpSpPr>
        <p:sp>
          <p:nvSpPr>
            <p:cNvPr id="2187" name=""/>
            <p:cNvSpPr/>
            <p:nvPr/>
          </p:nvSpPr>
          <p:spPr>
            <a:xfrm>
              <a:off x="2133720" y="25146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286000" y="2666880"/>
              <a:ext cx="76140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9" name=""/>
          <p:cNvGrpSpPr/>
          <p:nvPr/>
        </p:nvGrpSpPr>
        <p:grpSpPr>
          <a:xfrm>
            <a:off x="4495680" y="1447920"/>
            <a:ext cx="1067040" cy="1066680"/>
            <a:chOff x="4495680" y="1447920"/>
            <a:chExt cx="1067040" cy="1066680"/>
          </a:xfrm>
        </p:grpSpPr>
        <p:sp>
          <p:nvSpPr>
            <p:cNvPr id="2190" name=""/>
            <p:cNvSpPr/>
            <p:nvPr/>
          </p:nvSpPr>
          <p:spPr>
            <a:xfrm>
              <a:off x="4495680" y="144792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648320" y="1600200"/>
              <a:ext cx="76176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2" name=""/>
          <p:cNvGrpSpPr/>
          <p:nvPr/>
        </p:nvGrpSpPr>
        <p:grpSpPr>
          <a:xfrm>
            <a:off x="5562720" y="2514600"/>
            <a:ext cx="1066680" cy="1066680"/>
            <a:chOff x="5562720" y="2514600"/>
            <a:chExt cx="1066680" cy="1066680"/>
          </a:xfrm>
        </p:grpSpPr>
        <p:sp>
          <p:nvSpPr>
            <p:cNvPr id="2193" name=""/>
            <p:cNvSpPr/>
            <p:nvPr/>
          </p:nvSpPr>
          <p:spPr>
            <a:xfrm>
              <a:off x="5562720" y="25146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15000" y="266688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5" name=""/>
          <p:cNvGrpSpPr/>
          <p:nvPr/>
        </p:nvGrpSpPr>
        <p:grpSpPr>
          <a:xfrm>
            <a:off x="3200400" y="1447920"/>
            <a:ext cx="1066680" cy="1066680"/>
            <a:chOff x="3200400" y="1447920"/>
            <a:chExt cx="1066680" cy="1066680"/>
          </a:xfrm>
        </p:grpSpPr>
        <p:sp>
          <p:nvSpPr>
            <p:cNvPr id="2196" name=""/>
            <p:cNvSpPr/>
            <p:nvPr/>
          </p:nvSpPr>
          <p:spPr>
            <a:xfrm>
              <a:off x="3200400" y="14479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352680" y="1600200"/>
              <a:ext cx="76140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8" name=""/>
          <p:cNvGrpSpPr/>
          <p:nvPr/>
        </p:nvGrpSpPr>
        <p:grpSpPr>
          <a:xfrm>
            <a:off x="5562720" y="1447920"/>
            <a:ext cx="1066680" cy="1066680"/>
            <a:chOff x="5562720" y="1447920"/>
            <a:chExt cx="1066680" cy="1066680"/>
          </a:xfrm>
        </p:grpSpPr>
        <p:sp>
          <p:nvSpPr>
            <p:cNvPr id="2199" name=""/>
            <p:cNvSpPr/>
            <p:nvPr/>
          </p:nvSpPr>
          <p:spPr>
            <a:xfrm>
              <a:off x="5562720" y="14479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715000" y="160020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1" name=""/>
          <p:cNvGrpSpPr/>
          <p:nvPr/>
        </p:nvGrpSpPr>
        <p:grpSpPr>
          <a:xfrm>
            <a:off x="3200400" y="4876920"/>
            <a:ext cx="1066680" cy="1066680"/>
            <a:chOff x="3200400" y="4876920"/>
            <a:chExt cx="1066680" cy="1066680"/>
          </a:xfrm>
        </p:grpSpPr>
        <p:sp>
          <p:nvSpPr>
            <p:cNvPr id="2202" name=""/>
            <p:cNvSpPr/>
            <p:nvPr/>
          </p:nvSpPr>
          <p:spPr>
            <a:xfrm>
              <a:off x="3200400" y="48769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352680" y="502920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4" name=""/>
          <p:cNvGrpSpPr/>
          <p:nvPr/>
        </p:nvGrpSpPr>
        <p:grpSpPr>
          <a:xfrm>
            <a:off x="5562720" y="3809880"/>
            <a:ext cx="1066680" cy="1066680"/>
            <a:chOff x="5562720" y="3809880"/>
            <a:chExt cx="1066680" cy="1066680"/>
          </a:xfrm>
        </p:grpSpPr>
        <p:sp>
          <p:nvSpPr>
            <p:cNvPr id="2205" name=""/>
            <p:cNvSpPr/>
            <p:nvPr/>
          </p:nvSpPr>
          <p:spPr>
            <a:xfrm>
              <a:off x="5562720" y="380988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715000" y="3962160"/>
              <a:ext cx="7614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7" name=""/>
          <p:cNvGrpSpPr/>
          <p:nvPr/>
        </p:nvGrpSpPr>
        <p:grpSpPr>
          <a:xfrm>
            <a:off x="4495680" y="4876920"/>
            <a:ext cx="1067040" cy="1066680"/>
            <a:chOff x="4495680" y="4876920"/>
            <a:chExt cx="1067040" cy="1066680"/>
          </a:xfrm>
        </p:grpSpPr>
        <p:sp>
          <p:nvSpPr>
            <p:cNvPr id="2208" name=""/>
            <p:cNvSpPr/>
            <p:nvPr/>
          </p:nvSpPr>
          <p:spPr>
            <a:xfrm>
              <a:off x="4495680" y="487692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648320" y="5029200"/>
              <a:ext cx="76176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2133720" y="4876920"/>
            <a:ext cx="1066680" cy="1066680"/>
            <a:chOff x="2133720" y="4876920"/>
            <a:chExt cx="1066680" cy="1066680"/>
          </a:xfrm>
        </p:grpSpPr>
        <p:sp>
          <p:nvSpPr>
            <p:cNvPr id="2211" name=""/>
            <p:cNvSpPr/>
            <p:nvPr/>
          </p:nvSpPr>
          <p:spPr>
            <a:xfrm>
              <a:off x="2133720" y="487692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286000" y="502920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2133720" y="3809880"/>
            <a:ext cx="1066680" cy="1066680"/>
            <a:chOff x="2133720" y="3809880"/>
            <a:chExt cx="1066680" cy="1066680"/>
          </a:xfrm>
        </p:grpSpPr>
        <p:sp>
          <p:nvSpPr>
            <p:cNvPr id="2214" name=""/>
            <p:cNvSpPr/>
            <p:nvPr/>
          </p:nvSpPr>
          <p:spPr>
            <a:xfrm>
              <a:off x="2133720" y="380988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286000" y="3962160"/>
              <a:ext cx="761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2133720" y="1447920"/>
            <a:ext cx="1066680" cy="1066680"/>
            <a:chOff x="2133720" y="1447920"/>
            <a:chExt cx="1066680" cy="1066680"/>
          </a:xfrm>
        </p:grpSpPr>
        <p:sp>
          <p:nvSpPr>
            <p:cNvPr id="2217" name=""/>
            <p:cNvSpPr/>
            <p:nvPr/>
          </p:nvSpPr>
          <p:spPr>
            <a:xfrm>
              <a:off x="2133720" y="144792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286000" y="160020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5562720" y="4876920"/>
            <a:ext cx="1066680" cy="1066680"/>
            <a:chOff x="5562720" y="4876920"/>
            <a:chExt cx="1066680" cy="1066680"/>
          </a:xfrm>
        </p:grpSpPr>
        <p:sp>
          <p:nvSpPr>
            <p:cNvPr id="2220" name=""/>
            <p:cNvSpPr/>
            <p:nvPr/>
          </p:nvSpPr>
          <p:spPr>
            <a:xfrm>
              <a:off x="5562720" y="48769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715000" y="502920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2" name=""/>
          <p:cNvSpPr/>
          <p:nvPr/>
        </p:nvSpPr>
        <p:spPr>
          <a:xfrm>
            <a:off x="685800" y="1295280"/>
            <a:ext cx="36576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85800" y="3733920"/>
            <a:ext cx="36576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19720" y="1295280"/>
            <a:ext cx="396216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4419720" y="3733920"/>
            <a:ext cx="396216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"/>
          <p:cNvSpPr txBox="1"/>
          <p:nvPr/>
        </p:nvSpPr>
        <p:spPr>
          <a:xfrm>
            <a:off x="228600" y="304920"/>
            <a:ext cx="8686800" cy="62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uh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twic Ingredi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1066680" y="1447920"/>
            <a:ext cx="1067040" cy="1066680"/>
            <a:chOff x="1066680" y="1447920"/>
            <a:chExt cx="1067040" cy="1066680"/>
          </a:xfrm>
        </p:grpSpPr>
        <p:sp>
          <p:nvSpPr>
            <p:cNvPr id="2229" name=""/>
            <p:cNvSpPr/>
            <p:nvPr/>
          </p:nvSpPr>
          <p:spPr>
            <a:xfrm>
              <a:off x="1066680" y="144792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219320" y="1600200"/>
              <a:ext cx="76176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1" name=""/>
          <p:cNvGrpSpPr/>
          <p:nvPr/>
        </p:nvGrpSpPr>
        <p:grpSpPr>
          <a:xfrm>
            <a:off x="4495680" y="1447920"/>
            <a:ext cx="1067040" cy="1066680"/>
            <a:chOff x="4495680" y="1447920"/>
            <a:chExt cx="1067040" cy="1066680"/>
          </a:xfrm>
        </p:grpSpPr>
        <p:sp>
          <p:nvSpPr>
            <p:cNvPr id="2232" name=""/>
            <p:cNvSpPr/>
            <p:nvPr/>
          </p:nvSpPr>
          <p:spPr>
            <a:xfrm>
              <a:off x="4495680" y="144792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648320" y="1600200"/>
              <a:ext cx="76176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4" name=""/>
          <p:cNvGrpSpPr/>
          <p:nvPr/>
        </p:nvGrpSpPr>
        <p:grpSpPr>
          <a:xfrm>
            <a:off x="6629400" y="1447920"/>
            <a:ext cx="1066680" cy="1066680"/>
            <a:chOff x="6629400" y="1447920"/>
            <a:chExt cx="1066680" cy="1066680"/>
          </a:xfrm>
        </p:grpSpPr>
        <p:sp>
          <p:nvSpPr>
            <p:cNvPr id="2235" name=""/>
            <p:cNvSpPr/>
            <p:nvPr/>
          </p:nvSpPr>
          <p:spPr>
            <a:xfrm>
              <a:off x="6629400" y="14479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781680" y="160020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7" name=""/>
          <p:cNvGrpSpPr/>
          <p:nvPr/>
        </p:nvGrpSpPr>
        <p:grpSpPr>
          <a:xfrm>
            <a:off x="3200400" y="1447920"/>
            <a:ext cx="1066680" cy="1066680"/>
            <a:chOff x="3200400" y="1447920"/>
            <a:chExt cx="1066680" cy="1066680"/>
          </a:xfrm>
        </p:grpSpPr>
        <p:sp>
          <p:nvSpPr>
            <p:cNvPr id="2238" name=""/>
            <p:cNvSpPr/>
            <p:nvPr/>
          </p:nvSpPr>
          <p:spPr>
            <a:xfrm>
              <a:off x="3200400" y="14479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352680" y="1600200"/>
              <a:ext cx="76140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0" name=""/>
          <p:cNvGrpSpPr/>
          <p:nvPr/>
        </p:nvGrpSpPr>
        <p:grpSpPr>
          <a:xfrm>
            <a:off x="5562720" y="1447920"/>
            <a:ext cx="1066680" cy="1066680"/>
            <a:chOff x="5562720" y="1447920"/>
            <a:chExt cx="1066680" cy="1066680"/>
          </a:xfrm>
        </p:grpSpPr>
        <p:sp>
          <p:nvSpPr>
            <p:cNvPr id="2241" name=""/>
            <p:cNvSpPr/>
            <p:nvPr/>
          </p:nvSpPr>
          <p:spPr>
            <a:xfrm>
              <a:off x="5562720" y="14479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715000" y="160020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3200400" y="4876920"/>
            <a:ext cx="1066680" cy="1066680"/>
            <a:chOff x="3200400" y="4876920"/>
            <a:chExt cx="1066680" cy="1066680"/>
          </a:xfrm>
        </p:grpSpPr>
        <p:sp>
          <p:nvSpPr>
            <p:cNvPr id="2244" name=""/>
            <p:cNvSpPr/>
            <p:nvPr/>
          </p:nvSpPr>
          <p:spPr>
            <a:xfrm>
              <a:off x="3200400" y="48769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352680" y="502920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6" name=""/>
          <p:cNvGrpSpPr/>
          <p:nvPr/>
        </p:nvGrpSpPr>
        <p:grpSpPr>
          <a:xfrm>
            <a:off x="6629400" y="4876920"/>
            <a:ext cx="1066680" cy="1066680"/>
            <a:chOff x="6629400" y="4876920"/>
            <a:chExt cx="1066680" cy="1066680"/>
          </a:xfrm>
        </p:grpSpPr>
        <p:sp>
          <p:nvSpPr>
            <p:cNvPr id="2247" name=""/>
            <p:cNvSpPr/>
            <p:nvPr/>
          </p:nvSpPr>
          <p:spPr>
            <a:xfrm>
              <a:off x="6629400" y="48769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781680" y="5029200"/>
              <a:ext cx="7614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9" name=""/>
          <p:cNvGrpSpPr/>
          <p:nvPr/>
        </p:nvGrpSpPr>
        <p:grpSpPr>
          <a:xfrm>
            <a:off x="4495680" y="4876920"/>
            <a:ext cx="1067040" cy="1066680"/>
            <a:chOff x="4495680" y="4876920"/>
            <a:chExt cx="1067040" cy="1066680"/>
          </a:xfrm>
        </p:grpSpPr>
        <p:sp>
          <p:nvSpPr>
            <p:cNvPr id="2250" name=""/>
            <p:cNvSpPr/>
            <p:nvPr/>
          </p:nvSpPr>
          <p:spPr>
            <a:xfrm>
              <a:off x="4495680" y="487692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648320" y="5029200"/>
              <a:ext cx="76176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2133720" y="4876920"/>
            <a:ext cx="1066680" cy="1066680"/>
            <a:chOff x="2133720" y="4876920"/>
            <a:chExt cx="1066680" cy="1066680"/>
          </a:xfrm>
        </p:grpSpPr>
        <p:sp>
          <p:nvSpPr>
            <p:cNvPr id="2253" name=""/>
            <p:cNvSpPr/>
            <p:nvPr/>
          </p:nvSpPr>
          <p:spPr>
            <a:xfrm>
              <a:off x="2133720" y="487692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286000" y="502920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5" name=""/>
          <p:cNvGrpSpPr/>
          <p:nvPr/>
        </p:nvGrpSpPr>
        <p:grpSpPr>
          <a:xfrm>
            <a:off x="1066680" y="4876920"/>
            <a:ext cx="1067040" cy="1066680"/>
            <a:chOff x="1066680" y="4876920"/>
            <a:chExt cx="1067040" cy="1066680"/>
          </a:xfrm>
        </p:grpSpPr>
        <p:sp>
          <p:nvSpPr>
            <p:cNvPr id="2256" name=""/>
            <p:cNvSpPr/>
            <p:nvPr/>
          </p:nvSpPr>
          <p:spPr>
            <a:xfrm>
              <a:off x="1066680" y="487692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219320" y="5029200"/>
              <a:ext cx="761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2133720" y="1447920"/>
            <a:ext cx="1066680" cy="1066680"/>
            <a:chOff x="2133720" y="1447920"/>
            <a:chExt cx="1066680" cy="1066680"/>
          </a:xfrm>
        </p:grpSpPr>
        <p:sp>
          <p:nvSpPr>
            <p:cNvPr id="2259" name=""/>
            <p:cNvSpPr/>
            <p:nvPr/>
          </p:nvSpPr>
          <p:spPr>
            <a:xfrm>
              <a:off x="2133720" y="144792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286000" y="160020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1" name=""/>
          <p:cNvGrpSpPr/>
          <p:nvPr/>
        </p:nvGrpSpPr>
        <p:grpSpPr>
          <a:xfrm>
            <a:off x="5562720" y="4876920"/>
            <a:ext cx="1066680" cy="1066680"/>
            <a:chOff x="5562720" y="4876920"/>
            <a:chExt cx="1066680" cy="1066680"/>
          </a:xfrm>
        </p:grpSpPr>
        <p:sp>
          <p:nvSpPr>
            <p:cNvPr id="2262" name=""/>
            <p:cNvSpPr/>
            <p:nvPr/>
          </p:nvSpPr>
          <p:spPr>
            <a:xfrm>
              <a:off x="5562720" y="48769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715000" y="502920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4" name=""/>
          <p:cNvSpPr/>
          <p:nvPr/>
        </p:nvSpPr>
        <p:spPr>
          <a:xfrm>
            <a:off x="685800" y="1295280"/>
            <a:ext cx="36576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685800" y="3733920"/>
            <a:ext cx="36576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419720" y="1295280"/>
            <a:ext cx="396216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4419720" y="3733920"/>
            <a:ext cx="396216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twic Ingredi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9" name=""/>
          <p:cNvGrpSpPr/>
          <p:nvPr/>
        </p:nvGrpSpPr>
        <p:grpSpPr>
          <a:xfrm>
            <a:off x="685800" y="1447920"/>
            <a:ext cx="1066680" cy="1066680"/>
            <a:chOff x="685800" y="1447920"/>
            <a:chExt cx="1066680" cy="1066680"/>
          </a:xfrm>
        </p:grpSpPr>
        <p:sp>
          <p:nvSpPr>
            <p:cNvPr id="2270" name=""/>
            <p:cNvSpPr/>
            <p:nvPr/>
          </p:nvSpPr>
          <p:spPr>
            <a:xfrm>
              <a:off x="685800" y="144792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38080" y="1600200"/>
              <a:ext cx="76140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2" name=""/>
          <p:cNvGrpSpPr/>
          <p:nvPr/>
        </p:nvGrpSpPr>
        <p:grpSpPr>
          <a:xfrm>
            <a:off x="4572000" y="1447920"/>
            <a:ext cx="1066680" cy="1066680"/>
            <a:chOff x="4572000" y="1447920"/>
            <a:chExt cx="1066680" cy="1066680"/>
          </a:xfrm>
        </p:grpSpPr>
        <p:sp>
          <p:nvSpPr>
            <p:cNvPr id="2273" name=""/>
            <p:cNvSpPr/>
            <p:nvPr/>
          </p:nvSpPr>
          <p:spPr>
            <a:xfrm>
              <a:off x="4572000" y="144792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724280" y="1600200"/>
              <a:ext cx="76140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7010280" y="1447920"/>
            <a:ext cx="1067040" cy="1066680"/>
            <a:chOff x="7010280" y="1447920"/>
            <a:chExt cx="1067040" cy="1066680"/>
          </a:xfrm>
        </p:grpSpPr>
        <p:sp>
          <p:nvSpPr>
            <p:cNvPr id="2276" name=""/>
            <p:cNvSpPr/>
            <p:nvPr/>
          </p:nvSpPr>
          <p:spPr>
            <a:xfrm>
              <a:off x="7010280" y="1447920"/>
              <a:ext cx="106704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162920" y="1600200"/>
              <a:ext cx="76176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8" name=""/>
          <p:cNvGrpSpPr/>
          <p:nvPr/>
        </p:nvGrpSpPr>
        <p:grpSpPr>
          <a:xfrm>
            <a:off x="3124080" y="1447920"/>
            <a:ext cx="1067040" cy="1066680"/>
            <a:chOff x="3124080" y="1447920"/>
            <a:chExt cx="1067040" cy="1066680"/>
          </a:xfrm>
        </p:grpSpPr>
        <p:sp>
          <p:nvSpPr>
            <p:cNvPr id="2279" name=""/>
            <p:cNvSpPr/>
            <p:nvPr/>
          </p:nvSpPr>
          <p:spPr>
            <a:xfrm>
              <a:off x="3124080" y="1447920"/>
              <a:ext cx="106704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276720" y="1600200"/>
              <a:ext cx="76176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1" name=""/>
          <p:cNvGrpSpPr/>
          <p:nvPr/>
        </p:nvGrpSpPr>
        <p:grpSpPr>
          <a:xfrm>
            <a:off x="5791320" y="1447920"/>
            <a:ext cx="1066680" cy="1066680"/>
            <a:chOff x="5791320" y="1447920"/>
            <a:chExt cx="1066680" cy="1066680"/>
          </a:xfrm>
        </p:grpSpPr>
        <p:sp>
          <p:nvSpPr>
            <p:cNvPr id="2282" name=""/>
            <p:cNvSpPr/>
            <p:nvPr/>
          </p:nvSpPr>
          <p:spPr>
            <a:xfrm>
              <a:off x="5791320" y="14479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943600" y="160020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4" name=""/>
          <p:cNvGrpSpPr/>
          <p:nvPr/>
        </p:nvGrpSpPr>
        <p:grpSpPr>
          <a:xfrm>
            <a:off x="3124080" y="4876920"/>
            <a:ext cx="1067040" cy="1066680"/>
            <a:chOff x="3124080" y="4876920"/>
            <a:chExt cx="1067040" cy="1066680"/>
          </a:xfrm>
        </p:grpSpPr>
        <p:sp>
          <p:nvSpPr>
            <p:cNvPr id="2285" name=""/>
            <p:cNvSpPr/>
            <p:nvPr/>
          </p:nvSpPr>
          <p:spPr>
            <a:xfrm>
              <a:off x="3124080" y="487692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276720" y="5029200"/>
              <a:ext cx="76176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7" name=""/>
          <p:cNvGrpSpPr/>
          <p:nvPr/>
        </p:nvGrpSpPr>
        <p:grpSpPr>
          <a:xfrm>
            <a:off x="7010280" y="4876920"/>
            <a:ext cx="1067040" cy="1066680"/>
            <a:chOff x="7010280" y="4876920"/>
            <a:chExt cx="1067040" cy="1066680"/>
          </a:xfrm>
        </p:grpSpPr>
        <p:sp>
          <p:nvSpPr>
            <p:cNvPr id="2288" name=""/>
            <p:cNvSpPr/>
            <p:nvPr/>
          </p:nvSpPr>
          <p:spPr>
            <a:xfrm>
              <a:off x="7010280" y="487692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162920" y="5029200"/>
              <a:ext cx="76176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4572000" y="4876920"/>
            <a:ext cx="1066680" cy="1066680"/>
            <a:chOff x="4572000" y="4876920"/>
            <a:chExt cx="1066680" cy="1066680"/>
          </a:xfrm>
        </p:grpSpPr>
        <p:sp>
          <p:nvSpPr>
            <p:cNvPr id="2291" name=""/>
            <p:cNvSpPr/>
            <p:nvPr/>
          </p:nvSpPr>
          <p:spPr>
            <a:xfrm>
              <a:off x="4572000" y="487692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724280" y="5029200"/>
              <a:ext cx="76140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905120" y="4876920"/>
            <a:ext cx="1066680" cy="1066680"/>
            <a:chOff x="1905120" y="4876920"/>
            <a:chExt cx="1066680" cy="1066680"/>
          </a:xfrm>
        </p:grpSpPr>
        <p:sp>
          <p:nvSpPr>
            <p:cNvPr id="2294" name=""/>
            <p:cNvSpPr/>
            <p:nvPr/>
          </p:nvSpPr>
          <p:spPr>
            <a:xfrm>
              <a:off x="1905120" y="487692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057400" y="502920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685800" y="4876920"/>
            <a:ext cx="1066680" cy="1066680"/>
            <a:chOff x="685800" y="4876920"/>
            <a:chExt cx="1066680" cy="1066680"/>
          </a:xfrm>
        </p:grpSpPr>
        <p:sp>
          <p:nvSpPr>
            <p:cNvPr id="2297" name=""/>
            <p:cNvSpPr/>
            <p:nvPr/>
          </p:nvSpPr>
          <p:spPr>
            <a:xfrm>
              <a:off x="685800" y="487692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38080" y="5029200"/>
              <a:ext cx="761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1905120" y="1447920"/>
            <a:ext cx="1066680" cy="1066680"/>
            <a:chOff x="1905120" y="1447920"/>
            <a:chExt cx="1066680" cy="1066680"/>
          </a:xfrm>
        </p:grpSpPr>
        <p:sp>
          <p:nvSpPr>
            <p:cNvPr id="2300" name=""/>
            <p:cNvSpPr/>
            <p:nvPr/>
          </p:nvSpPr>
          <p:spPr>
            <a:xfrm>
              <a:off x="1905120" y="144792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057400" y="160020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5791320" y="4876920"/>
            <a:ext cx="1066680" cy="1066680"/>
            <a:chOff x="5791320" y="4876920"/>
            <a:chExt cx="1066680" cy="1066680"/>
          </a:xfrm>
        </p:grpSpPr>
        <p:sp>
          <p:nvSpPr>
            <p:cNvPr id="2303" name=""/>
            <p:cNvSpPr/>
            <p:nvPr/>
          </p:nvSpPr>
          <p:spPr>
            <a:xfrm>
              <a:off x="5791320" y="48769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943600" y="502920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5" name=""/>
          <p:cNvSpPr/>
          <p:nvPr/>
        </p:nvSpPr>
        <p:spPr>
          <a:xfrm>
            <a:off x="533520" y="1295280"/>
            <a:ext cx="38098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19720" y="1295280"/>
            <a:ext cx="38098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09480" y="1371600"/>
            <a:ext cx="12193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828800" y="1371600"/>
            <a:ext cx="12193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3048120" y="1371600"/>
            <a:ext cx="12189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4495680" y="1371600"/>
            <a:ext cx="12193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715000" y="1371600"/>
            <a:ext cx="12193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934320" y="1371600"/>
            <a:ext cx="12189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533520" y="3733920"/>
            <a:ext cx="380988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419720" y="3733920"/>
            <a:ext cx="380988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09480" y="3809880"/>
            <a:ext cx="121932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1828800" y="3809880"/>
            <a:ext cx="121932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048120" y="3809880"/>
            <a:ext cx="121896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495680" y="3809880"/>
            <a:ext cx="121932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715000" y="3809880"/>
            <a:ext cx="121932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6934320" y="3809880"/>
            <a:ext cx="121896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"/>
          <p:cNvSpPr/>
          <p:nvPr/>
        </p:nvSpPr>
        <p:spPr>
          <a:xfrm>
            <a:off x="533520" y="1295280"/>
            <a:ext cx="380988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419720" y="1295280"/>
            <a:ext cx="3809880" cy="2362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3733920"/>
            <a:ext cx="3809880" cy="23619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4419720" y="3733920"/>
            <a:ext cx="3809880" cy="23619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1828800" y="1371600"/>
            <a:ext cx="121932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3048120" y="1371600"/>
            <a:ext cx="121896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495680" y="137160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6934320" y="1371600"/>
            <a:ext cx="121896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9480" y="3809880"/>
            <a:ext cx="121932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1828800" y="3809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3048120" y="3809880"/>
            <a:ext cx="121896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5715000" y="3809880"/>
            <a:ext cx="121932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6934320" y="3809880"/>
            <a:ext cx="121896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5715000" y="1371600"/>
            <a:ext cx="1219320" cy="2209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4495680" y="3809880"/>
            <a:ext cx="121932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609480" y="1371600"/>
            <a:ext cx="1219320" cy="2209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us to think with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8" name=""/>
          <p:cNvGrpSpPr/>
          <p:nvPr/>
        </p:nvGrpSpPr>
        <p:grpSpPr>
          <a:xfrm>
            <a:off x="685800" y="1447920"/>
            <a:ext cx="1066680" cy="1066680"/>
            <a:chOff x="685800" y="1447920"/>
            <a:chExt cx="1066680" cy="1066680"/>
          </a:xfrm>
        </p:grpSpPr>
        <p:sp>
          <p:nvSpPr>
            <p:cNvPr id="2339" name=""/>
            <p:cNvSpPr/>
            <p:nvPr/>
          </p:nvSpPr>
          <p:spPr>
            <a:xfrm>
              <a:off x="685800" y="144792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838080" y="1600200"/>
              <a:ext cx="76140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4572000" y="1447920"/>
            <a:ext cx="1066680" cy="1066680"/>
            <a:chOff x="4572000" y="1447920"/>
            <a:chExt cx="1066680" cy="1066680"/>
          </a:xfrm>
        </p:grpSpPr>
        <p:sp>
          <p:nvSpPr>
            <p:cNvPr id="2342" name=""/>
            <p:cNvSpPr/>
            <p:nvPr/>
          </p:nvSpPr>
          <p:spPr>
            <a:xfrm>
              <a:off x="4572000" y="144792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724280" y="1600200"/>
              <a:ext cx="76140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4" name=""/>
          <p:cNvGrpSpPr/>
          <p:nvPr/>
        </p:nvGrpSpPr>
        <p:grpSpPr>
          <a:xfrm>
            <a:off x="7010280" y="1447920"/>
            <a:ext cx="1067040" cy="1066680"/>
            <a:chOff x="7010280" y="1447920"/>
            <a:chExt cx="1067040" cy="1066680"/>
          </a:xfrm>
        </p:grpSpPr>
        <p:sp>
          <p:nvSpPr>
            <p:cNvPr id="2345" name=""/>
            <p:cNvSpPr/>
            <p:nvPr/>
          </p:nvSpPr>
          <p:spPr>
            <a:xfrm>
              <a:off x="7010280" y="1447920"/>
              <a:ext cx="106704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162920" y="1600200"/>
              <a:ext cx="76176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3124080" y="1447920"/>
            <a:ext cx="1067040" cy="1066680"/>
            <a:chOff x="3124080" y="1447920"/>
            <a:chExt cx="1067040" cy="1066680"/>
          </a:xfrm>
        </p:grpSpPr>
        <p:sp>
          <p:nvSpPr>
            <p:cNvPr id="2348" name=""/>
            <p:cNvSpPr/>
            <p:nvPr/>
          </p:nvSpPr>
          <p:spPr>
            <a:xfrm>
              <a:off x="3124080" y="1447920"/>
              <a:ext cx="106704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276720" y="1600200"/>
              <a:ext cx="76176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0" name=""/>
          <p:cNvGrpSpPr/>
          <p:nvPr/>
        </p:nvGrpSpPr>
        <p:grpSpPr>
          <a:xfrm>
            <a:off x="5791320" y="1447920"/>
            <a:ext cx="1066680" cy="1066680"/>
            <a:chOff x="5791320" y="1447920"/>
            <a:chExt cx="1066680" cy="1066680"/>
          </a:xfrm>
        </p:grpSpPr>
        <p:sp>
          <p:nvSpPr>
            <p:cNvPr id="2351" name=""/>
            <p:cNvSpPr/>
            <p:nvPr/>
          </p:nvSpPr>
          <p:spPr>
            <a:xfrm>
              <a:off x="5791320" y="14479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943600" y="160020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3" name=""/>
          <p:cNvGrpSpPr/>
          <p:nvPr/>
        </p:nvGrpSpPr>
        <p:grpSpPr>
          <a:xfrm>
            <a:off x="3124080" y="4876920"/>
            <a:ext cx="1067040" cy="1066680"/>
            <a:chOff x="3124080" y="4876920"/>
            <a:chExt cx="1067040" cy="1066680"/>
          </a:xfrm>
        </p:grpSpPr>
        <p:sp>
          <p:nvSpPr>
            <p:cNvPr id="2354" name=""/>
            <p:cNvSpPr/>
            <p:nvPr/>
          </p:nvSpPr>
          <p:spPr>
            <a:xfrm>
              <a:off x="3124080" y="487692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276720" y="5029200"/>
              <a:ext cx="76176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6" name=""/>
          <p:cNvGrpSpPr/>
          <p:nvPr/>
        </p:nvGrpSpPr>
        <p:grpSpPr>
          <a:xfrm>
            <a:off x="7010280" y="4876920"/>
            <a:ext cx="1067040" cy="1066680"/>
            <a:chOff x="7010280" y="4876920"/>
            <a:chExt cx="1067040" cy="1066680"/>
          </a:xfrm>
        </p:grpSpPr>
        <p:sp>
          <p:nvSpPr>
            <p:cNvPr id="2357" name=""/>
            <p:cNvSpPr/>
            <p:nvPr/>
          </p:nvSpPr>
          <p:spPr>
            <a:xfrm>
              <a:off x="7010280" y="487692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162920" y="5029200"/>
              <a:ext cx="76176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9" name=""/>
          <p:cNvGrpSpPr/>
          <p:nvPr/>
        </p:nvGrpSpPr>
        <p:grpSpPr>
          <a:xfrm>
            <a:off x="4572000" y="4876920"/>
            <a:ext cx="1066680" cy="1066680"/>
            <a:chOff x="4572000" y="4876920"/>
            <a:chExt cx="1066680" cy="1066680"/>
          </a:xfrm>
        </p:grpSpPr>
        <p:sp>
          <p:nvSpPr>
            <p:cNvPr id="2360" name=""/>
            <p:cNvSpPr/>
            <p:nvPr/>
          </p:nvSpPr>
          <p:spPr>
            <a:xfrm>
              <a:off x="4572000" y="487692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724280" y="5029200"/>
              <a:ext cx="76140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1905120" y="4876920"/>
            <a:ext cx="1066680" cy="1066680"/>
            <a:chOff x="1905120" y="4876920"/>
            <a:chExt cx="1066680" cy="1066680"/>
          </a:xfrm>
        </p:grpSpPr>
        <p:sp>
          <p:nvSpPr>
            <p:cNvPr id="2363" name=""/>
            <p:cNvSpPr/>
            <p:nvPr/>
          </p:nvSpPr>
          <p:spPr>
            <a:xfrm>
              <a:off x="1905120" y="487692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057400" y="502920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685800" y="4876920"/>
            <a:ext cx="1066680" cy="1066680"/>
            <a:chOff x="685800" y="4876920"/>
            <a:chExt cx="1066680" cy="1066680"/>
          </a:xfrm>
        </p:grpSpPr>
        <p:sp>
          <p:nvSpPr>
            <p:cNvPr id="2366" name=""/>
            <p:cNvSpPr/>
            <p:nvPr/>
          </p:nvSpPr>
          <p:spPr>
            <a:xfrm>
              <a:off x="685800" y="487692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38080" y="5029200"/>
              <a:ext cx="761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1905120" y="1447920"/>
            <a:ext cx="1066680" cy="1066680"/>
            <a:chOff x="1905120" y="1447920"/>
            <a:chExt cx="1066680" cy="1066680"/>
          </a:xfrm>
        </p:grpSpPr>
        <p:sp>
          <p:nvSpPr>
            <p:cNvPr id="2369" name=""/>
            <p:cNvSpPr/>
            <p:nvPr/>
          </p:nvSpPr>
          <p:spPr>
            <a:xfrm>
              <a:off x="1905120" y="144792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057400" y="160020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5791320" y="4876920"/>
            <a:ext cx="1066680" cy="1066680"/>
            <a:chOff x="5791320" y="4876920"/>
            <a:chExt cx="1066680" cy="1066680"/>
          </a:xfrm>
        </p:grpSpPr>
        <p:sp>
          <p:nvSpPr>
            <p:cNvPr id="2372" name=""/>
            <p:cNvSpPr/>
            <p:nvPr/>
          </p:nvSpPr>
          <p:spPr>
            <a:xfrm>
              <a:off x="5791320" y="48769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943600" y="502920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Die Gedanken sind frei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200400" y="3962520"/>
            <a:ext cx="121932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5867280" y="1523880"/>
            <a:ext cx="121932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4648320" y="3962520"/>
            <a:ext cx="1218960" cy="2209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if they ‘made’‘the Zodiac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2" name=""/>
          <p:cNvGrpSpPr/>
          <p:nvPr/>
        </p:nvGrpSpPr>
        <p:grpSpPr>
          <a:xfrm>
            <a:off x="838080" y="1600200"/>
            <a:ext cx="1067040" cy="1066680"/>
            <a:chOff x="838080" y="1600200"/>
            <a:chExt cx="1067040" cy="1066680"/>
          </a:xfrm>
        </p:grpSpPr>
        <p:sp>
          <p:nvSpPr>
            <p:cNvPr id="2393" name=""/>
            <p:cNvSpPr/>
            <p:nvPr/>
          </p:nvSpPr>
          <p:spPr>
            <a:xfrm>
              <a:off x="8380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990720" y="1752480"/>
              <a:ext cx="76176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5" name=""/>
          <p:cNvGrpSpPr/>
          <p:nvPr/>
        </p:nvGrpSpPr>
        <p:grpSpPr>
          <a:xfrm>
            <a:off x="4724280" y="1600200"/>
            <a:ext cx="1067040" cy="1066680"/>
            <a:chOff x="4724280" y="1600200"/>
            <a:chExt cx="1067040" cy="1066680"/>
          </a:xfrm>
        </p:grpSpPr>
        <p:sp>
          <p:nvSpPr>
            <p:cNvPr id="2396" name=""/>
            <p:cNvSpPr/>
            <p:nvPr/>
          </p:nvSpPr>
          <p:spPr>
            <a:xfrm>
              <a:off x="47242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876920" y="1752480"/>
              <a:ext cx="76176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8" name=""/>
          <p:cNvGrpSpPr/>
          <p:nvPr/>
        </p:nvGrpSpPr>
        <p:grpSpPr>
          <a:xfrm>
            <a:off x="7162920" y="1600200"/>
            <a:ext cx="1066680" cy="1066680"/>
            <a:chOff x="7162920" y="1600200"/>
            <a:chExt cx="1066680" cy="1066680"/>
          </a:xfrm>
        </p:grpSpPr>
        <p:sp>
          <p:nvSpPr>
            <p:cNvPr id="2399" name=""/>
            <p:cNvSpPr/>
            <p:nvPr/>
          </p:nvSpPr>
          <p:spPr>
            <a:xfrm>
              <a:off x="71629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315200" y="175248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1" name=""/>
          <p:cNvGrpSpPr/>
          <p:nvPr/>
        </p:nvGrpSpPr>
        <p:grpSpPr>
          <a:xfrm>
            <a:off x="3276720" y="1600200"/>
            <a:ext cx="1066680" cy="1066680"/>
            <a:chOff x="3276720" y="1600200"/>
            <a:chExt cx="1066680" cy="1066680"/>
          </a:xfrm>
        </p:grpSpPr>
        <p:sp>
          <p:nvSpPr>
            <p:cNvPr id="2402" name=""/>
            <p:cNvSpPr/>
            <p:nvPr/>
          </p:nvSpPr>
          <p:spPr>
            <a:xfrm>
              <a:off x="32767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429000" y="1752480"/>
              <a:ext cx="76140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4" name=""/>
          <p:cNvGrpSpPr/>
          <p:nvPr/>
        </p:nvGrpSpPr>
        <p:grpSpPr>
          <a:xfrm>
            <a:off x="5943600" y="1600200"/>
            <a:ext cx="1066680" cy="1066680"/>
            <a:chOff x="5943600" y="1600200"/>
            <a:chExt cx="1066680" cy="1066680"/>
          </a:xfrm>
        </p:grpSpPr>
        <p:sp>
          <p:nvSpPr>
            <p:cNvPr id="2405" name=""/>
            <p:cNvSpPr/>
            <p:nvPr/>
          </p:nvSpPr>
          <p:spPr>
            <a:xfrm>
              <a:off x="594360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095880" y="175248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7" name=""/>
          <p:cNvGrpSpPr/>
          <p:nvPr/>
        </p:nvGrpSpPr>
        <p:grpSpPr>
          <a:xfrm>
            <a:off x="3276720" y="5029200"/>
            <a:ext cx="1066680" cy="1066680"/>
            <a:chOff x="3276720" y="5029200"/>
            <a:chExt cx="1066680" cy="1066680"/>
          </a:xfrm>
        </p:grpSpPr>
        <p:sp>
          <p:nvSpPr>
            <p:cNvPr id="2408" name=""/>
            <p:cNvSpPr/>
            <p:nvPr/>
          </p:nvSpPr>
          <p:spPr>
            <a:xfrm>
              <a:off x="32767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429000" y="518148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0" name=""/>
          <p:cNvGrpSpPr/>
          <p:nvPr/>
        </p:nvGrpSpPr>
        <p:grpSpPr>
          <a:xfrm>
            <a:off x="7162920" y="5029200"/>
            <a:ext cx="1066680" cy="1066680"/>
            <a:chOff x="7162920" y="5029200"/>
            <a:chExt cx="1066680" cy="1066680"/>
          </a:xfrm>
        </p:grpSpPr>
        <p:sp>
          <p:nvSpPr>
            <p:cNvPr id="2411" name=""/>
            <p:cNvSpPr/>
            <p:nvPr/>
          </p:nvSpPr>
          <p:spPr>
            <a:xfrm>
              <a:off x="71629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315200" y="5181480"/>
              <a:ext cx="7614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3" name=""/>
          <p:cNvGrpSpPr/>
          <p:nvPr/>
        </p:nvGrpSpPr>
        <p:grpSpPr>
          <a:xfrm>
            <a:off x="4724280" y="5029200"/>
            <a:ext cx="1067040" cy="1066680"/>
            <a:chOff x="4724280" y="5029200"/>
            <a:chExt cx="1067040" cy="1066680"/>
          </a:xfrm>
        </p:grpSpPr>
        <p:sp>
          <p:nvSpPr>
            <p:cNvPr id="2414" name=""/>
            <p:cNvSpPr/>
            <p:nvPr/>
          </p:nvSpPr>
          <p:spPr>
            <a:xfrm>
              <a:off x="47242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876920" y="5181480"/>
              <a:ext cx="76176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6" name=""/>
          <p:cNvGrpSpPr/>
          <p:nvPr/>
        </p:nvGrpSpPr>
        <p:grpSpPr>
          <a:xfrm>
            <a:off x="2057400" y="5029200"/>
            <a:ext cx="1066680" cy="1066680"/>
            <a:chOff x="2057400" y="5029200"/>
            <a:chExt cx="1066680" cy="1066680"/>
          </a:xfrm>
        </p:grpSpPr>
        <p:sp>
          <p:nvSpPr>
            <p:cNvPr id="2417" name=""/>
            <p:cNvSpPr/>
            <p:nvPr/>
          </p:nvSpPr>
          <p:spPr>
            <a:xfrm>
              <a:off x="2057400" y="50292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209680" y="518148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838080" y="5029200"/>
            <a:ext cx="1067040" cy="1066680"/>
            <a:chOff x="838080" y="5029200"/>
            <a:chExt cx="1067040" cy="1066680"/>
          </a:xfrm>
        </p:grpSpPr>
        <p:sp>
          <p:nvSpPr>
            <p:cNvPr id="2420" name=""/>
            <p:cNvSpPr/>
            <p:nvPr/>
          </p:nvSpPr>
          <p:spPr>
            <a:xfrm>
              <a:off x="8380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990720" y="5181480"/>
              <a:ext cx="761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2057400" y="1600200"/>
            <a:ext cx="1066680" cy="1066680"/>
            <a:chOff x="2057400" y="1600200"/>
            <a:chExt cx="1066680" cy="1066680"/>
          </a:xfrm>
        </p:grpSpPr>
        <p:sp>
          <p:nvSpPr>
            <p:cNvPr id="2423" name=""/>
            <p:cNvSpPr/>
            <p:nvPr/>
          </p:nvSpPr>
          <p:spPr>
            <a:xfrm>
              <a:off x="2057400" y="1600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209680" y="175248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5" name=""/>
          <p:cNvGrpSpPr/>
          <p:nvPr/>
        </p:nvGrpSpPr>
        <p:grpSpPr>
          <a:xfrm>
            <a:off x="5943600" y="5029200"/>
            <a:ext cx="1066680" cy="1066680"/>
            <a:chOff x="5943600" y="5029200"/>
            <a:chExt cx="1066680" cy="1066680"/>
          </a:xfrm>
        </p:grpSpPr>
        <p:sp>
          <p:nvSpPr>
            <p:cNvPr id="2426" name=""/>
            <p:cNvSpPr/>
            <p:nvPr/>
          </p:nvSpPr>
          <p:spPr>
            <a:xfrm>
              <a:off x="594360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095880" y="518148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it’s never really clear, i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090880" y="4000680"/>
            <a:ext cx="4962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ear about the why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0" name=""/>
          <p:cNvSpPr/>
          <p:nvPr/>
        </p:nvSpPr>
        <p:spPr>
          <a:xfrm>
            <a:off x="2134080" y="106668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 Black"/>
              </a:rPr>
              <a:t>HERMETIC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06800" y="205740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 Black"/>
              </a:rPr>
              <a:t>MYS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12920" y="518148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 Black"/>
              </a:rPr>
              <a:t>Cosm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37240" y="502920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 Black"/>
              </a:rPr>
              <a:t>Philoso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t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P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200400" y="3962520"/>
            <a:ext cx="121932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5867280" y="1523880"/>
            <a:ext cx="121932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t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4648320" y="3962520"/>
            <a:ext cx="1218960" cy="2209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P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if they ‘made’‘the Zodiac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5" name=""/>
          <p:cNvGrpSpPr/>
          <p:nvPr/>
        </p:nvGrpSpPr>
        <p:grpSpPr>
          <a:xfrm>
            <a:off x="4724280" y="1600200"/>
            <a:ext cx="1067040" cy="1066680"/>
            <a:chOff x="4724280" y="1600200"/>
            <a:chExt cx="1067040" cy="1066680"/>
          </a:xfrm>
        </p:grpSpPr>
        <p:sp>
          <p:nvSpPr>
            <p:cNvPr id="2446" name=""/>
            <p:cNvSpPr/>
            <p:nvPr/>
          </p:nvSpPr>
          <p:spPr>
            <a:xfrm>
              <a:off x="47242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876920" y="1752480"/>
              <a:ext cx="76176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8" name=""/>
          <p:cNvGrpSpPr/>
          <p:nvPr/>
        </p:nvGrpSpPr>
        <p:grpSpPr>
          <a:xfrm>
            <a:off x="7162920" y="1600200"/>
            <a:ext cx="1066680" cy="1066680"/>
            <a:chOff x="7162920" y="1600200"/>
            <a:chExt cx="1066680" cy="1066680"/>
          </a:xfrm>
        </p:grpSpPr>
        <p:sp>
          <p:nvSpPr>
            <p:cNvPr id="2449" name=""/>
            <p:cNvSpPr/>
            <p:nvPr/>
          </p:nvSpPr>
          <p:spPr>
            <a:xfrm>
              <a:off x="71629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315200" y="175248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3276720" y="1600200"/>
            <a:ext cx="1066680" cy="1066680"/>
            <a:chOff x="3276720" y="1600200"/>
            <a:chExt cx="1066680" cy="1066680"/>
          </a:xfrm>
        </p:grpSpPr>
        <p:sp>
          <p:nvSpPr>
            <p:cNvPr id="2452" name=""/>
            <p:cNvSpPr/>
            <p:nvPr/>
          </p:nvSpPr>
          <p:spPr>
            <a:xfrm>
              <a:off x="32767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429000" y="1752480"/>
              <a:ext cx="76140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5943600" y="1600200"/>
            <a:ext cx="1066680" cy="1066680"/>
            <a:chOff x="5943600" y="1600200"/>
            <a:chExt cx="1066680" cy="1066680"/>
          </a:xfrm>
        </p:grpSpPr>
        <p:sp>
          <p:nvSpPr>
            <p:cNvPr id="2455" name=""/>
            <p:cNvSpPr/>
            <p:nvPr/>
          </p:nvSpPr>
          <p:spPr>
            <a:xfrm>
              <a:off x="594360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095880" y="175248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7" name=""/>
          <p:cNvGrpSpPr/>
          <p:nvPr/>
        </p:nvGrpSpPr>
        <p:grpSpPr>
          <a:xfrm>
            <a:off x="3276720" y="5029200"/>
            <a:ext cx="1066680" cy="1066680"/>
            <a:chOff x="3276720" y="5029200"/>
            <a:chExt cx="1066680" cy="1066680"/>
          </a:xfrm>
        </p:grpSpPr>
        <p:sp>
          <p:nvSpPr>
            <p:cNvPr id="2458" name=""/>
            <p:cNvSpPr/>
            <p:nvPr/>
          </p:nvSpPr>
          <p:spPr>
            <a:xfrm>
              <a:off x="32767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429000" y="518148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0" name=""/>
          <p:cNvGrpSpPr/>
          <p:nvPr/>
        </p:nvGrpSpPr>
        <p:grpSpPr>
          <a:xfrm>
            <a:off x="7162920" y="5029200"/>
            <a:ext cx="1066680" cy="1066680"/>
            <a:chOff x="7162920" y="5029200"/>
            <a:chExt cx="1066680" cy="1066680"/>
          </a:xfrm>
        </p:grpSpPr>
        <p:sp>
          <p:nvSpPr>
            <p:cNvPr id="2461" name=""/>
            <p:cNvSpPr/>
            <p:nvPr/>
          </p:nvSpPr>
          <p:spPr>
            <a:xfrm>
              <a:off x="71629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315200" y="5181480"/>
              <a:ext cx="7614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4724280" y="5029200"/>
            <a:ext cx="1067040" cy="1066680"/>
            <a:chOff x="4724280" y="5029200"/>
            <a:chExt cx="1067040" cy="1066680"/>
          </a:xfrm>
        </p:grpSpPr>
        <p:sp>
          <p:nvSpPr>
            <p:cNvPr id="2464" name=""/>
            <p:cNvSpPr/>
            <p:nvPr/>
          </p:nvSpPr>
          <p:spPr>
            <a:xfrm>
              <a:off x="47242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876920" y="5181480"/>
              <a:ext cx="76176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6" name=""/>
          <p:cNvGrpSpPr/>
          <p:nvPr/>
        </p:nvGrpSpPr>
        <p:grpSpPr>
          <a:xfrm>
            <a:off x="2057400" y="5029200"/>
            <a:ext cx="1066680" cy="1066680"/>
            <a:chOff x="2057400" y="5029200"/>
            <a:chExt cx="1066680" cy="1066680"/>
          </a:xfrm>
        </p:grpSpPr>
        <p:sp>
          <p:nvSpPr>
            <p:cNvPr id="2467" name=""/>
            <p:cNvSpPr/>
            <p:nvPr/>
          </p:nvSpPr>
          <p:spPr>
            <a:xfrm>
              <a:off x="2057400" y="50292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209680" y="518148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9" name=""/>
          <p:cNvGrpSpPr/>
          <p:nvPr/>
        </p:nvGrpSpPr>
        <p:grpSpPr>
          <a:xfrm>
            <a:off x="838080" y="5029200"/>
            <a:ext cx="1067040" cy="1066680"/>
            <a:chOff x="838080" y="5029200"/>
            <a:chExt cx="1067040" cy="1066680"/>
          </a:xfrm>
        </p:grpSpPr>
        <p:sp>
          <p:nvSpPr>
            <p:cNvPr id="2470" name=""/>
            <p:cNvSpPr/>
            <p:nvPr/>
          </p:nvSpPr>
          <p:spPr>
            <a:xfrm>
              <a:off x="8380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990720" y="5181480"/>
              <a:ext cx="761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2" name=""/>
          <p:cNvGrpSpPr/>
          <p:nvPr/>
        </p:nvGrpSpPr>
        <p:grpSpPr>
          <a:xfrm>
            <a:off x="5943600" y="5029200"/>
            <a:ext cx="1066680" cy="1066680"/>
            <a:chOff x="5943600" y="5029200"/>
            <a:chExt cx="1066680" cy="1066680"/>
          </a:xfrm>
        </p:grpSpPr>
        <p:sp>
          <p:nvSpPr>
            <p:cNvPr id="2473" name=""/>
            <p:cNvSpPr/>
            <p:nvPr/>
          </p:nvSpPr>
          <p:spPr>
            <a:xfrm>
              <a:off x="594360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095880" y="518148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5" name=""/>
          <p:cNvGrpSpPr/>
          <p:nvPr/>
        </p:nvGrpSpPr>
        <p:grpSpPr>
          <a:xfrm>
            <a:off x="2057400" y="1600200"/>
            <a:ext cx="1066680" cy="1066680"/>
            <a:chOff x="2057400" y="1600200"/>
            <a:chExt cx="1066680" cy="1066680"/>
          </a:xfrm>
        </p:grpSpPr>
        <p:sp>
          <p:nvSpPr>
            <p:cNvPr id="2476" name=""/>
            <p:cNvSpPr/>
            <p:nvPr/>
          </p:nvSpPr>
          <p:spPr>
            <a:xfrm>
              <a:off x="2057400" y="1600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209680" y="175248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8" name=""/>
          <p:cNvGrpSpPr/>
          <p:nvPr/>
        </p:nvGrpSpPr>
        <p:grpSpPr>
          <a:xfrm>
            <a:off x="838080" y="1600200"/>
            <a:ext cx="1067040" cy="1066680"/>
            <a:chOff x="838080" y="1600200"/>
            <a:chExt cx="1067040" cy="1066680"/>
          </a:xfrm>
        </p:grpSpPr>
        <p:sp>
          <p:nvSpPr>
            <p:cNvPr id="2479" name=""/>
            <p:cNvSpPr/>
            <p:nvPr/>
          </p:nvSpPr>
          <p:spPr>
            <a:xfrm>
              <a:off x="8380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990720" y="1752480"/>
              <a:ext cx="76176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 &amp; Fi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 &amp; Wat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 &amp; Earth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 &amp; Wat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 &amp; Earth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 &amp; Water, 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200400" y="3962520"/>
            <a:ext cx="121932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 &amp; Wat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 &amp; Ai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 &amp; Ai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5867280" y="1523880"/>
            <a:ext cx="121932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Water &amp; Earth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4648320" y="3962520"/>
            <a:ext cx="1218960" cy="2209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 &amp; Earth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Water &amp; Fi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we’d get clear questions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838080" y="1600200"/>
            <a:ext cx="1067040" cy="1066680"/>
            <a:chOff x="838080" y="1600200"/>
            <a:chExt cx="1067040" cy="1066680"/>
          </a:xfrm>
        </p:grpSpPr>
        <p:sp>
          <p:nvSpPr>
            <p:cNvPr id="2499" name=""/>
            <p:cNvSpPr/>
            <p:nvPr/>
          </p:nvSpPr>
          <p:spPr>
            <a:xfrm>
              <a:off x="8380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990720" y="1752480"/>
              <a:ext cx="76176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1" name=""/>
          <p:cNvGrpSpPr/>
          <p:nvPr/>
        </p:nvGrpSpPr>
        <p:grpSpPr>
          <a:xfrm>
            <a:off x="4724280" y="1600200"/>
            <a:ext cx="1067040" cy="1066680"/>
            <a:chOff x="4724280" y="1600200"/>
            <a:chExt cx="1067040" cy="1066680"/>
          </a:xfrm>
        </p:grpSpPr>
        <p:sp>
          <p:nvSpPr>
            <p:cNvPr id="2502" name=""/>
            <p:cNvSpPr/>
            <p:nvPr/>
          </p:nvSpPr>
          <p:spPr>
            <a:xfrm>
              <a:off x="47242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4876920" y="1752480"/>
              <a:ext cx="76176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4" name=""/>
          <p:cNvGrpSpPr/>
          <p:nvPr/>
        </p:nvGrpSpPr>
        <p:grpSpPr>
          <a:xfrm>
            <a:off x="7162920" y="1600200"/>
            <a:ext cx="1066680" cy="1066680"/>
            <a:chOff x="7162920" y="1600200"/>
            <a:chExt cx="1066680" cy="1066680"/>
          </a:xfrm>
        </p:grpSpPr>
        <p:sp>
          <p:nvSpPr>
            <p:cNvPr id="2505" name=""/>
            <p:cNvSpPr/>
            <p:nvPr/>
          </p:nvSpPr>
          <p:spPr>
            <a:xfrm>
              <a:off x="71629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315200" y="175248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7" name=""/>
          <p:cNvGrpSpPr/>
          <p:nvPr/>
        </p:nvGrpSpPr>
        <p:grpSpPr>
          <a:xfrm>
            <a:off x="3276720" y="1600200"/>
            <a:ext cx="1066680" cy="1066680"/>
            <a:chOff x="3276720" y="1600200"/>
            <a:chExt cx="1066680" cy="1066680"/>
          </a:xfrm>
        </p:grpSpPr>
        <p:sp>
          <p:nvSpPr>
            <p:cNvPr id="2508" name=""/>
            <p:cNvSpPr/>
            <p:nvPr/>
          </p:nvSpPr>
          <p:spPr>
            <a:xfrm>
              <a:off x="32767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429000" y="1752480"/>
              <a:ext cx="76140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0" name=""/>
          <p:cNvGrpSpPr/>
          <p:nvPr/>
        </p:nvGrpSpPr>
        <p:grpSpPr>
          <a:xfrm>
            <a:off x="5943600" y="1600200"/>
            <a:ext cx="1066680" cy="1066680"/>
            <a:chOff x="5943600" y="1600200"/>
            <a:chExt cx="1066680" cy="1066680"/>
          </a:xfrm>
        </p:grpSpPr>
        <p:sp>
          <p:nvSpPr>
            <p:cNvPr id="2511" name=""/>
            <p:cNvSpPr/>
            <p:nvPr/>
          </p:nvSpPr>
          <p:spPr>
            <a:xfrm>
              <a:off x="594360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095880" y="175248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3" name=""/>
          <p:cNvGrpSpPr/>
          <p:nvPr/>
        </p:nvGrpSpPr>
        <p:grpSpPr>
          <a:xfrm>
            <a:off x="3276720" y="5029200"/>
            <a:ext cx="1066680" cy="1066680"/>
            <a:chOff x="3276720" y="5029200"/>
            <a:chExt cx="1066680" cy="1066680"/>
          </a:xfrm>
        </p:grpSpPr>
        <p:sp>
          <p:nvSpPr>
            <p:cNvPr id="2514" name=""/>
            <p:cNvSpPr/>
            <p:nvPr/>
          </p:nvSpPr>
          <p:spPr>
            <a:xfrm>
              <a:off x="32767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429000" y="518148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6" name=""/>
          <p:cNvGrpSpPr/>
          <p:nvPr/>
        </p:nvGrpSpPr>
        <p:grpSpPr>
          <a:xfrm>
            <a:off x="7162920" y="5029200"/>
            <a:ext cx="1066680" cy="1066680"/>
            <a:chOff x="7162920" y="5029200"/>
            <a:chExt cx="1066680" cy="1066680"/>
          </a:xfrm>
        </p:grpSpPr>
        <p:sp>
          <p:nvSpPr>
            <p:cNvPr id="2517" name=""/>
            <p:cNvSpPr/>
            <p:nvPr/>
          </p:nvSpPr>
          <p:spPr>
            <a:xfrm>
              <a:off x="71629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315200" y="5181480"/>
              <a:ext cx="7614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9" name=""/>
          <p:cNvGrpSpPr/>
          <p:nvPr/>
        </p:nvGrpSpPr>
        <p:grpSpPr>
          <a:xfrm>
            <a:off x="4724280" y="5029200"/>
            <a:ext cx="1067040" cy="1066680"/>
            <a:chOff x="4724280" y="5029200"/>
            <a:chExt cx="1067040" cy="1066680"/>
          </a:xfrm>
        </p:grpSpPr>
        <p:sp>
          <p:nvSpPr>
            <p:cNvPr id="2520" name=""/>
            <p:cNvSpPr/>
            <p:nvPr/>
          </p:nvSpPr>
          <p:spPr>
            <a:xfrm>
              <a:off x="47242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876920" y="5181480"/>
              <a:ext cx="76176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2" name=""/>
          <p:cNvGrpSpPr/>
          <p:nvPr/>
        </p:nvGrpSpPr>
        <p:grpSpPr>
          <a:xfrm>
            <a:off x="2057400" y="5029200"/>
            <a:ext cx="1066680" cy="1066680"/>
            <a:chOff x="2057400" y="5029200"/>
            <a:chExt cx="1066680" cy="1066680"/>
          </a:xfrm>
        </p:grpSpPr>
        <p:sp>
          <p:nvSpPr>
            <p:cNvPr id="2523" name=""/>
            <p:cNvSpPr/>
            <p:nvPr/>
          </p:nvSpPr>
          <p:spPr>
            <a:xfrm>
              <a:off x="2057400" y="50292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209680" y="518148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5" name=""/>
          <p:cNvGrpSpPr/>
          <p:nvPr/>
        </p:nvGrpSpPr>
        <p:grpSpPr>
          <a:xfrm>
            <a:off x="838080" y="5029200"/>
            <a:ext cx="1067040" cy="1066680"/>
            <a:chOff x="838080" y="5029200"/>
            <a:chExt cx="1067040" cy="1066680"/>
          </a:xfrm>
        </p:grpSpPr>
        <p:sp>
          <p:nvSpPr>
            <p:cNvPr id="2526" name=""/>
            <p:cNvSpPr/>
            <p:nvPr/>
          </p:nvSpPr>
          <p:spPr>
            <a:xfrm>
              <a:off x="8380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990720" y="5181480"/>
              <a:ext cx="761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8" name=""/>
          <p:cNvGrpSpPr/>
          <p:nvPr/>
        </p:nvGrpSpPr>
        <p:grpSpPr>
          <a:xfrm>
            <a:off x="2057400" y="1600200"/>
            <a:ext cx="1066680" cy="1066680"/>
            <a:chOff x="2057400" y="1600200"/>
            <a:chExt cx="1066680" cy="1066680"/>
          </a:xfrm>
        </p:grpSpPr>
        <p:sp>
          <p:nvSpPr>
            <p:cNvPr id="2529" name=""/>
            <p:cNvSpPr/>
            <p:nvPr/>
          </p:nvSpPr>
          <p:spPr>
            <a:xfrm>
              <a:off x="2057400" y="1600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209680" y="175248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1" name=""/>
          <p:cNvGrpSpPr/>
          <p:nvPr/>
        </p:nvGrpSpPr>
        <p:grpSpPr>
          <a:xfrm>
            <a:off x="5943600" y="5029200"/>
            <a:ext cx="1066680" cy="1066680"/>
            <a:chOff x="5943600" y="5029200"/>
            <a:chExt cx="1066680" cy="1066680"/>
          </a:xfrm>
        </p:grpSpPr>
        <p:sp>
          <p:nvSpPr>
            <p:cNvPr id="2532" name=""/>
            <p:cNvSpPr/>
            <p:nvPr/>
          </p:nvSpPr>
          <p:spPr>
            <a:xfrm>
              <a:off x="594360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095880" y="518148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e could use answer patterns from science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long as the analogy work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 &amp; Fi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 &amp; Wat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 &amp; Earth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 &amp; Wat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 &amp; Earth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 &amp; Water, 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200400" y="3962520"/>
            <a:ext cx="121932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 &amp; Wat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 &amp; Ai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 &amp; Ai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867280" y="1523880"/>
            <a:ext cx="121932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Water &amp; Earth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4648320" y="3962520"/>
            <a:ext cx="1218960" cy="2209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 &amp; Earth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Water &amp; Fi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k.. The Signs as Proces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2" name=""/>
          <p:cNvGrpSpPr/>
          <p:nvPr/>
        </p:nvGrpSpPr>
        <p:grpSpPr>
          <a:xfrm>
            <a:off x="838080" y="1600200"/>
            <a:ext cx="1067040" cy="1066680"/>
            <a:chOff x="838080" y="1600200"/>
            <a:chExt cx="1067040" cy="1066680"/>
          </a:xfrm>
        </p:grpSpPr>
        <p:sp>
          <p:nvSpPr>
            <p:cNvPr id="2553" name=""/>
            <p:cNvSpPr/>
            <p:nvPr/>
          </p:nvSpPr>
          <p:spPr>
            <a:xfrm>
              <a:off x="8380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990720" y="1752480"/>
              <a:ext cx="76176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5" name=""/>
          <p:cNvGrpSpPr/>
          <p:nvPr/>
        </p:nvGrpSpPr>
        <p:grpSpPr>
          <a:xfrm>
            <a:off x="4724280" y="1600200"/>
            <a:ext cx="1067040" cy="1066680"/>
            <a:chOff x="4724280" y="1600200"/>
            <a:chExt cx="1067040" cy="1066680"/>
          </a:xfrm>
        </p:grpSpPr>
        <p:sp>
          <p:nvSpPr>
            <p:cNvPr id="2556" name=""/>
            <p:cNvSpPr/>
            <p:nvPr/>
          </p:nvSpPr>
          <p:spPr>
            <a:xfrm>
              <a:off x="47242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876920" y="1752480"/>
              <a:ext cx="76176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8" name=""/>
          <p:cNvGrpSpPr/>
          <p:nvPr/>
        </p:nvGrpSpPr>
        <p:grpSpPr>
          <a:xfrm>
            <a:off x="7162920" y="1600200"/>
            <a:ext cx="1066680" cy="1066680"/>
            <a:chOff x="7162920" y="1600200"/>
            <a:chExt cx="1066680" cy="1066680"/>
          </a:xfrm>
        </p:grpSpPr>
        <p:sp>
          <p:nvSpPr>
            <p:cNvPr id="2559" name=""/>
            <p:cNvSpPr/>
            <p:nvPr/>
          </p:nvSpPr>
          <p:spPr>
            <a:xfrm>
              <a:off x="71629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315200" y="175248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1" name=""/>
          <p:cNvGrpSpPr/>
          <p:nvPr/>
        </p:nvGrpSpPr>
        <p:grpSpPr>
          <a:xfrm>
            <a:off x="3276720" y="1600200"/>
            <a:ext cx="1066680" cy="1066680"/>
            <a:chOff x="3276720" y="1600200"/>
            <a:chExt cx="1066680" cy="1066680"/>
          </a:xfrm>
        </p:grpSpPr>
        <p:sp>
          <p:nvSpPr>
            <p:cNvPr id="2562" name=""/>
            <p:cNvSpPr/>
            <p:nvPr/>
          </p:nvSpPr>
          <p:spPr>
            <a:xfrm>
              <a:off x="32767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3429000" y="1752480"/>
              <a:ext cx="76140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4" name=""/>
          <p:cNvGrpSpPr/>
          <p:nvPr/>
        </p:nvGrpSpPr>
        <p:grpSpPr>
          <a:xfrm>
            <a:off x="5943600" y="1600200"/>
            <a:ext cx="1066680" cy="1066680"/>
            <a:chOff x="5943600" y="1600200"/>
            <a:chExt cx="1066680" cy="1066680"/>
          </a:xfrm>
        </p:grpSpPr>
        <p:sp>
          <p:nvSpPr>
            <p:cNvPr id="2565" name=""/>
            <p:cNvSpPr/>
            <p:nvPr/>
          </p:nvSpPr>
          <p:spPr>
            <a:xfrm>
              <a:off x="594360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095880" y="175248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7" name=""/>
          <p:cNvGrpSpPr/>
          <p:nvPr/>
        </p:nvGrpSpPr>
        <p:grpSpPr>
          <a:xfrm>
            <a:off x="3276720" y="5029200"/>
            <a:ext cx="1066680" cy="1066680"/>
            <a:chOff x="3276720" y="5029200"/>
            <a:chExt cx="1066680" cy="1066680"/>
          </a:xfrm>
        </p:grpSpPr>
        <p:sp>
          <p:nvSpPr>
            <p:cNvPr id="2568" name=""/>
            <p:cNvSpPr/>
            <p:nvPr/>
          </p:nvSpPr>
          <p:spPr>
            <a:xfrm>
              <a:off x="32767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429000" y="518148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0" name=""/>
          <p:cNvGrpSpPr/>
          <p:nvPr/>
        </p:nvGrpSpPr>
        <p:grpSpPr>
          <a:xfrm>
            <a:off x="7162920" y="5029200"/>
            <a:ext cx="1066680" cy="1066680"/>
            <a:chOff x="7162920" y="5029200"/>
            <a:chExt cx="1066680" cy="1066680"/>
          </a:xfrm>
        </p:grpSpPr>
        <p:sp>
          <p:nvSpPr>
            <p:cNvPr id="2571" name=""/>
            <p:cNvSpPr/>
            <p:nvPr/>
          </p:nvSpPr>
          <p:spPr>
            <a:xfrm>
              <a:off x="71629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315200" y="5181480"/>
              <a:ext cx="7614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3" name=""/>
          <p:cNvGrpSpPr/>
          <p:nvPr/>
        </p:nvGrpSpPr>
        <p:grpSpPr>
          <a:xfrm>
            <a:off x="4724280" y="5029200"/>
            <a:ext cx="1067040" cy="1066680"/>
            <a:chOff x="4724280" y="5029200"/>
            <a:chExt cx="1067040" cy="1066680"/>
          </a:xfrm>
        </p:grpSpPr>
        <p:sp>
          <p:nvSpPr>
            <p:cNvPr id="2574" name=""/>
            <p:cNvSpPr/>
            <p:nvPr/>
          </p:nvSpPr>
          <p:spPr>
            <a:xfrm>
              <a:off x="47242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876920" y="5181480"/>
              <a:ext cx="76176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6" name=""/>
          <p:cNvGrpSpPr/>
          <p:nvPr/>
        </p:nvGrpSpPr>
        <p:grpSpPr>
          <a:xfrm>
            <a:off x="2057400" y="5029200"/>
            <a:ext cx="1066680" cy="1066680"/>
            <a:chOff x="2057400" y="5029200"/>
            <a:chExt cx="1066680" cy="1066680"/>
          </a:xfrm>
        </p:grpSpPr>
        <p:sp>
          <p:nvSpPr>
            <p:cNvPr id="2577" name=""/>
            <p:cNvSpPr/>
            <p:nvPr/>
          </p:nvSpPr>
          <p:spPr>
            <a:xfrm>
              <a:off x="2057400" y="50292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209680" y="518148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9" name=""/>
          <p:cNvGrpSpPr/>
          <p:nvPr/>
        </p:nvGrpSpPr>
        <p:grpSpPr>
          <a:xfrm>
            <a:off x="838080" y="5029200"/>
            <a:ext cx="1067040" cy="1066680"/>
            <a:chOff x="838080" y="5029200"/>
            <a:chExt cx="1067040" cy="1066680"/>
          </a:xfrm>
        </p:grpSpPr>
        <p:sp>
          <p:nvSpPr>
            <p:cNvPr id="2580" name=""/>
            <p:cNvSpPr/>
            <p:nvPr/>
          </p:nvSpPr>
          <p:spPr>
            <a:xfrm>
              <a:off x="8380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990720" y="5181480"/>
              <a:ext cx="761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2" name=""/>
          <p:cNvGrpSpPr/>
          <p:nvPr/>
        </p:nvGrpSpPr>
        <p:grpSpPr>
          <a:xfrm>
            <a:off x="2057400" y="1600200"/>
            <a:ext cx="1066680" cy="1066680"/>
            <a:chOff x="2057400" y="1600200"/>
            <a:chExt cx="1066680" cy="1066680"/>
          </a:xfrm>
        </p:grpSpPr>
        <p:sp>
          <p:nvSpPr>
            <p:cNvPr id="2583" name=""/>
            <p:cNvSpPr/>
            <p:nvPr/>
          </p:nvSpPr>
          <p:spPr>
            <a:xfrm>
              <a:off x="2057400" y="1600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209680" y="175248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5" name=""/>
          <p:cNvGrpSpPr/>
          <p:nvPr/>
        </p:nvGrpSpPr>
        <p:grpSpPr>
          <a:xfrm>
            <a:off x="5943600" y="5029200"/>
            <a:ext cx="1066680" cy="1066680"/>
            <a:chOff x="5943600" y="5029200"/>
            <a:chExt cx="1066680" cy="1066680"/>
          </a:xfrm>
        </p:grpSpPr>
        <p:sp>
          <p:nvSpPr>
            <p:cNvPr id="2586" name=""/>
            <p:cNvSpPr/>
            <p:nvPr/>
          </p:nvSpPr>
          <p:spPr>
            <a:xfrm>
              <a:off x="594360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095880" y="518148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otericism calls ‘stuff that doesn’t work’ ‘qlipothic’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flashlight we learned tha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 txBox="1"/>
          <p:nvPr/>
        </p:nvSpPr>
        <p:spPr>
          <a:xfrm>
            <a:off x="5943600" y="1654200"/>
            <a:ext cx="220968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FIRE = PO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2591" name=""/>
          <p:cNvSpPr txBox="1"/>
          <p:nvPr/>
        </p:nvSpPr>
        <p:spPr>
          <a:xfrm>
            <a:off x="6019920" y="2590920"/>
            <a:ext cx="219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^2 / 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*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earth * water^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92" name=""/>
          <p:cNvSpPr txBox="1"/>
          <p:nvPr/>
        </p:nvSpPr>
        <p:spPr>
          <a:xfrm>
            <a:off x="2590920" y="468648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EARTH = RESIST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2593" name=""/>
          <p:cNvSpPr txBox="1"/>
          <p:nvPr/>
        </p:nvSpPr>
        <p:spPr>
          <a:xfrm>
            <a:off x="2762280" y="5479920"/>
            <a:ext cx="2190600" cy="9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/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^/ fi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water^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94" name=""/>
          <p:cNvSpPr txBox="1"/>
          <p:nvPr/>
        </p:nvSpPr>
        <p:spPr>
          <a:xfrm>
            <a:off x="2286000" y="2492280"/>
            <a:ext cx="25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WATER =  FL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2595" name=""/>
          <p:cNvSpPr txBox="1"/>
          <p:nvPr/>
        </p:nvSpPr>
        <p:spPr>
          <a:xfrm>
            <a:off x="2600280" y="3276720"/>
            <a:ext cx="2266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sqrt( fire / earth 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a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/ 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96" name=""/>
          <p:cNvSpPr txBox="1"/>
          <p:nvPr/>
        </p:nvSpPr>
        <p:spPr>
          <a:xfrm>
            <a:off x="5715000" y="4060800"/>
            <a:ext cx="236232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IR = PRESS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597" name=""/>
          <p:cNvSpPr txBox="1"/>
          <p:nvPr/>
        </p:nvSpPr>
        <p:spPr>
          <a:xfrm>
            <a:off x="5867280" y="5029200"/>
            <a:ext cx="2210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earth *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sqrt( fire * earth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98" name=""/>
          <p:cNvSpPr txBox="1"/>
          <p:nvPr/>
        </p:nvSpPr>
        <p:spPr>
          <a:xfrm rot="5400000">
            <a:off x="-228600" y="-1371240"/>
            <a:ext cx="48006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SIC</a:t>
            </a:r>
            <a:endParaRPr b="0" lang="en-US" sz="2400" spc="1" strike="noStrike">
              <a:ln w="19080">
                <a:solidFill>
                  <a:srgbClr val="ccff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ECTRICITY</a:t>
            </a:r>
            <a:endParaRPr b="0" lang="en-US" sz="2400" spc="1" strike="noStrike">
              <a:ln w="19080">
                <a:solidFill>
                  <a:srgbClr val="ccff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</a:t>
            </a:r>
            <a:r>
              <a:rPr b="0" lang="en-US" sz="24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!</a:t>
            </a:r>
            <a:endParaRPr b="0" lang="en-US" sz="2400" spc="1" strike="noStrike">
              <a:ln w="19080">
                <a:solidFill>
                  <a:srgbClr val="ccff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9" name=""/>
          <p:cNvSpPr txBox="1"/>
          <p:nvPr/>
        </p:nvSpPr>
        <p:spPr>
          <a:xfrm>
            <a:off x="2895480" y="1600200"/>
            <a:ext cx="27529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his works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s explore that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428640" y="3276360"/>
            <a:ext cx="5334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Times New Roman"/>
              </a:rPr>
              <a:t>WHAT ARE</a:t>
            </a:r>
            <a:br>
              <a:rPr sz="4400"/>
            </a:br>
            <a:r>
              <a:rPr b="1" i="1" lang="en-US" sz="4400" spc="-1" strike="noStrike">
                <a:solidFill>
                  <a:srgbClr val="ccffcc"/>
                </a:solidFill>
                <a:latin typeface="Times New Roman"/>
              </a:rPr>
              <a:t>THESE FORMULAS</a:t>
            </a:r>
            <a:br>
              <a:rPr sz="4400"/>
            </a:br>
            <a:r>
              <a:rPr b="1" i="1" lang="en-US" sz="4400" spc="-1" strike="noStrike">
                <a:solidFill>
                  <a:srgbClr val="ccffcc"/>
                </a:solidFill>
                <a:latin typeface="Times New Roman"/>
              </a:rPr>
              <a:t>MADE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 txBox="1"/>
          <p:nvPr/>
        </p:nvSpPr>
        <p:spPr>
          <a:xfrm>
            <a:off x="6477120" y="533520"/>
            <a:ext cx="220968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FIRE = PO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2603" name=""/>
          <p:cNvSpPr txBox="1"/>
          <p:nvPr/>
        </p:nvSpPr>
        <p:spPr>
          <a:xfrm>
            <a:off x="6553080" y="1469880"/>
            <a:ext cx="21909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^2 / 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*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earth * water^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04" name=""/>
          <p:cNvSpPr txBox="1"/>
          <p:nvPr/>
        </p:nvSpPr>
        <p:spPr>
          <a:xfrm>
            <a:off x="457200" y="251460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EARTH = RESIST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2605" name=""/>
          <p:cNvSpPr txBox="1"/>
          <p:nvPr/>
        </p:nvSpPr>
        <p:spPr>
          <a:xfrm>
            <a:off x="628560" y="3308400"/>
            <a:ext cx="249552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/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^/ fi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water^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06" name=""/>
          <p:cNvSpPr txBox="1"/>
          <p:nvPr/>
        </p:nvSpPr>
        <p:spPr>
          <a:xfrm>
            <a:off x="457200" y="45720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WATER =  FL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2607" name=""/>
          <p:cNvSpPr txBox="1"/>
          <p:nvPr/>
        </p:nvSpPr>
        <p:spPr>
          <a:xfrm>
            <a:off x="685800" y="1447920"/>
            <a:ext cx="2505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sqrt( fire / earth 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a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/ 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08" name=""/>
          <p:cNvSpPr txBox="1"/>
          <p:nvPr/>
        </p:nvSpPr>
        <p:spPr>
          <a:xfrm>
            <a:off x="3657600" y="479520"/>
            <a:ext cx="236232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IR = PRESS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609" name=""/>
          <p:cNvSpPr txBox="1"/>
          <p:nvPr/>
        </p:nvSpPr>
        <p:spPr>
          <a:xfrm>
            <a:off x="3809880" y="1447920"/>
            <a:ext cx="2210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earth *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sqrt( fire * earth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10" name=""/>
          <p:cNvSpPr txBox="1"/>
          <p:nvPr/>
        </p:nvSpPr>
        <p:spPr>
          <a:xfrm>
            <a:off x="380880" y="6019920"/>
            <a:ext cx="845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lchemichal Operation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304920" y="45277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mula Ingred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struction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er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3428640" y="3276360"/>
            <a:ext cx="5334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Times New Roman"/>
              </a:rPr>
              <a:t>WHAT ARE</a:t>
            </a:r>
            <a:br>
              <a:rPr sz="4400"/>
            </a:br>
            <a:r>
              <a:rPr b="1" i="1" lang="en-US" sz="4400" spc="-1" strike="noStrike">
                <a:solidFill>
                  <a:srgbClr val="ccffcc"/>
                </a:solidFill>
                <a:latin typeface="Times New Roman"/>
              </a:rPr>
              <a:t>THESE FORMULAS</a:t>
            </a:r>
            <a:br>
              <a:rPr sz="4400"/>
            </a:br>
            <a:r>
              <a:rPr b="1" i="1" lang="en-US" sz="4400" spc="-1" strike="noStrike">
                <a:solidFill>
                  <a:srgbClr val="ccffcc"/>
                </a:solidFill>
                <a:latin typeface="Times New Roman"/>
              </a:rPr>
              <a:t>MADE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 txBox="1"/>
          <p:nvPr/>
        </p:nvSpPr>
        <p:spPr>
          <a:xfrm>
            <a:off x="6477120" y="533520"/>
            <a:ext cx="220968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FIRE = PO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2614" name=""/>
          <p:cNvSpPr txBox="1"/>
          <p:nvPr/>
        </p:nvSpPr>
        <p:spPr>
          <a:xfrm>
            <a:off x="6553080" y="1469880"/>
            <a:ext cx="21909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^2 / 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*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earth * water^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15" name=""/>
          <p:cNvSpPr txBox="1"/>
          <p:nvPr/>
        </p:nvSpPr>
        <p:spPr>
          <a:xfrm>
            <a:off x="457200" y="251460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EARTH = RESIST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2616" name=""/>
          <p:cNvSpPr txBox="1"/>
          <p:nvPr/>
        </p:nvSpPr>
        <p:spPr>
          <a:xfrm>
            <a:off x="628560" y="3308400"/>
            <a:ext cx="249552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/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^/ fi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water^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17" name=""/>
          <p:cNvSpPr txBox="1"/>
          <p:nvPr/>
        </p:nvSpPr>
        <p:spPr>
          <a:xfrm>
            <a:off x="457200" y="45720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WATER =  FL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2618" name=""/>
          <p:cNvSpPr txBox="1"/>
          <p:nvPr/>
        </p:nvSpPr>
        <p:spPr>
          <a:xfrm>
            <a:off x="685800" y="1447920"/>
            <a:ext cx="2505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sqrt( fire / earth 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a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/ 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19" name=""/>
          <p:cNvSpPr txBox="1"/>
          <p:nvPr/>
        </p:nvSpPr>
        <p:spPr>
          <a:xfrm>
            <a:off x="3657600" y="479520"/>
            <a:ext cx="236232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IR = PRESS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620" name=""/>
          <p:cNvSpPr txBox="1"/>
          <p:nvPr/>
        </p:nvSpPr>
        <p:spPr>
          <a:xfrm>
            <a:off x="3809880" y="1447920"/>
            <a:ext cx="2210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earth *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sqrt( fire * earth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1" name=""/>
          <p:cNvSpPr txBox="1"/>
          <p:nvPr/>
        </p:nvSpPr>
        <p:spPr>
          <a:xfrm>
            <a:off x="380880" y="6019920"/>
            <a:ext cx="845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lchemichal Operation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781560" y="5121360"/>
            <a:ext cx="18752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* MULTI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3156120" y="5045040"/>
            <a:ext cx="15980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/ 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5103000" y="4892760"/>
            <a:ext cx="16286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^2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ULTI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7208280" y="4800600"/>
            <a:ext cx="148536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qrt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 txBox="1"/>
          <p:nvPr/>
        </p:nvSpPr>
        <p:spPr>
          <a:xfrm>
            <a:off x="314280" y="4381560"/>
            <a:ext cx="3267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 operation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3580920" y="358092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Elemen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4 Oper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 Formul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 txBox="1"/>
          <p:nvPr/>
        </p:nvSpPr>
        <p:spPr>
          <a:xfrm>
            <a:off x="6477120" y="533520"/>
            <a:ext cx="220968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FIRE = PO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2629" name=""/>
          <p:cNvSpPr txBox="1"/>
          <p:nvPr/>
        </p:nvSpPr>
        <p:spPr>
          <a:xfrm>
            <a:off x="457200" y="251460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EARTH = RESIST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2630" name=""/>
          <p:cNvSpPr txBox="1"/>
          <p:nvPr/>
        </p:nvSpPr>
        <p:spPr>
          <a:xfrm>
            <a:off x="457200" y="45720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WATER =  FL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2631" name=""/>
          <p:cNvSpPr txBox="1"/>
          <p:nvPr/>
        </p:nvSpPr>
        <p:spPr>
          <a:xfrm>
            <a:off x="3657600" y="479520"/>
            <a:ext cx="236232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IR = PRESS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632" name=""/>
          <p:cNvSpPr/>
          <p:nvPr/>
        </p:nvSpPr>
        <p:spPr>
          <a:xfrm>
            <a:off x="475200" y="4572000"/>
            <a:ext cx="187524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* MULTI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2865600" y="4648320"/>
            <a:ext cx="159804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/ 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5103000" y="4603680"/>
            <a:ext cx="162864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^2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ULTI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pa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7067160" y="4419720"/>
            <a:ext cx="176724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qrt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m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 txBox="1"/>
          <p:nvPr/>
        </p:nvSpPr>
        <p:spPr>
          <a:xfrm>
            <a:off x="380880" y="6019920"/>
            <a:ext cx="845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retty straightforward stuff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37" name=""/>
          <p:cNvSpPr txBox="1"/>
          <p:nvPr/>
        </p:nvSpPr>
        <p:spPr>
          <a:xfrm>
            <a:off x="6553080" y="1469880"/>
            <a:ext cx="21909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^2 / 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*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earth * water^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8" name=""/>
          <p:cNvSpPr txBox="1"/>
          <p:nvPr/>
        </p:nvSpPr>
        <p:spPr>
          <a:xfrm>
            <a:off x="628560" y="3308400"/>
            <a:ext cx="249552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/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^/ fi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water^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9" name=""/>
          <p:cNvSpPr txBox="1"/>
          <p:nvPr/>
        </p:nvSpPr>
        <p:spPr>
          <a:xfrm>
            <a:off x="685800" y="1447920"/>
            <a:ext cx="2505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sqrt( fire / earth 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a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/ 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0" name=""/>
          <p:cNvSpPr txBox="1"/>
          <p:nvPr/>
        </p:nvSpPr>
        <p:spPr>
          <a:xfrm>
            <a:off x="3809880" y="1447920"/>
            <a:ext cx="2210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earth *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sqrt( fire * earth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1" name=""/>
          <p:cNvSpPr/>
          <p:nvPr/>
        </p:nvSpPr>
        <p:spPr>
          <a:xfrm>
            <a:off x="6553080" y="29718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 Edg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 Patter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Ess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11430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11430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14300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1430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11430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20574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11430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30481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0481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3048120"/>
            <a:ext cx="838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29718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29718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48769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396252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8769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8769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487692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48769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39625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205740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a divine science, listen to the inspirational bits to go to heaven. BUT.. Can you touch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676520" y="2438280"/>
            <a:ext cx="601956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Astrology tells us so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ture makes the models.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, yep, we can ‘look up’ what works and re-use patterns in the abstract!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’s the whole idea of ‘esoteric and exoteric’ studi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eeding the alchemical elements of psychology with Ohm’s La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 txBox="1"/>
          <p:nvPr/>
        </p:nvSpPr>
        <p:spPr>
          <a:xfrm>
            <a:off x="380880" y="1663560"/>
            <a:ext cx="8458200" cy="16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Quality &amp; Quanti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2645" name=""/>
          <p:cNvGrpSpPr/>
          <p:nvPr/>
        </p:nvGrpSpPr>
        <p:grpSpPr>
          <a:xfrm>
            <a:off x="533520" y="685800"/>
            <a:ext cx="1318680" cy="609120"/>
            <a:chOff x="533520" y="685800"/>
            <a:chExt cx="1318680" cy="609120"/>
          </a:xfrm>
        </p:grpSpPr>
        <p:sp>
          <p:nvSpPr>
            <p:cNvPr id="2646" name=""/>
            <p:cNvSpPr txBox="1"/>
            <p:nvPr/>
          </p:nvSpPr>
          <p:spPr>
            <a:xfrm>
              <a:off x="533520" y="685800"/>
              <a:ext cx="1265040" cy="250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 Black"/>
                </a:rPr>
                <a:t>FIRE =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47" name=""/>
            <p:cNvSpPr txBox="1"/>
            <p:nvPr/>
          </p:nvSpPr>
          <p:spPr>
            <a:xfrm>
              <a:off x="603000" y="1026720"/>
              <a:ext cx="1249200" cy="26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== air^2 / ear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== air * wat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== earth * water^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648" name=""/>
          <p:cNvGrpSpPr/>
          <p:nvPr/>
        </p:nvGrpSpPr>
        <p:grpSpPr>
          <a:xfrm>
            <a:off x="609480" y="5999040"/>
            <a:ext cx="1657080" cy="554040"/>
            <a:chOff x="609480" y="5999040"/>
            <a:chExt cx="1657080" cy="554040"/>
          </a:xfrm>
        </p:grpSpPr>
        <p:sp>
          <p:nvSpPr>
            <p:cNvPr id="2649" name=""/>
            <p:cNvSpPr txBox="1"/>
            <p:nvPr/>
          </p:nvSpPr>
          <p:spPr>
            <a:xfrm>
              <a:off x="609480" y="5999040"/>
              <a:ext cx="1657080" cy="20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cc99"/>
                  </a:solidFill>
                  <a:latin typeface="Arial Black"/>
                </a:rPr>
                <a:t>EARTH = RESISTANC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50" name=""/>
            <p:cNvSpPr txBox="1"/>
            <p:nvPr/>
          </p:nvSpPr>
          <p:spPr>
            <a:xfrm>
              <a:off x="664920" y="6319800"/>
              <a:ext cx="1425600" cy="23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== air / wat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== air^/ fi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== fire / water^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651" name=""/>
          <p:cNvGrpSpPr/>
          <p:nvPr/>
        </p:nvGrpSpPr>
        <p:grpSpPr>
          <a:xfrm>
            <a:off x="6575400" y="5791320"/>
            <a:ext cx="1654200" cy="612720"/>
            <a:chOff x="6575400" y="5791320"/>
            <a:chExt cx="1654200" cy="612720"/>
          </a:xfrm>
        </p:grpSpPr>
        <p:sp>
          <p:nvSpPr>
            <p:cNvPr id="2652" name=""/>
            <p:cNvSpPr txBox="1"/>
            <p:nvPr/>
          </p:nvSpPr>
          <p:spPr>
            <a:xfrm>
              <a:off x="6575400" y="5791320"/>
              <a:ext cx="1654200" cy="26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ff"/>
                  </a:solidFill>
                  <a:latin typeface="Arial Black"/>
                </a:rPr>
                <a:t>WATER =  FLOW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53" name=""/>
            <p:cNvSpPr txBox="1"/>
            <p:nvPr/>
          </p:nvSpPr>
          <p:spPr>
            <a:xfrm>
              <a:off x="6691320" y="6135840"/>
              <a:ext cx="1430280" cy="26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== sqrt( fire / earth 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== fire / ai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== air / ear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654" name=""/>
          <p:cNvGrpSpPr/>
          <p:nvPr/>
        </p:nvGrpSpPr>
        <p:grpSpPr>
          <a:xfrm>
            <a:off x="7085160" y="914400"/>
            <a:ext cx="1373040" cy="641520"/>
            <a:chOff x="7085160" y="914400"/>
            <a:chExt cx="1373040" cy="641520"/>
          </a:xfrm>
        </p:grpSpPr>
        <p:sp>
          <p:nvSpPr>
            <p:cNvPr id="2655" name=""/>
            <p:cNvSpPr txBox="1"/>
            <p:nvPr/>
          </p:nvSpPr>
          <p:spPr>
            <a:xfrm>
              <a:off x="7085160" y="914400"/>
              <a:ext cx="1347840" cy="26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AIR = PRESSU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56" name=""/>
            <p:cNvSpPr txBox="1"/>
            <p:nvPr/>
          </p:nvSpPr>
          <p:spPr>
            <a:xfrm>
              <a:off x="7193160" y="1239840"/>
              <a:ext cx="126504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== fire / wat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== earth * wat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== sqrt( fire * earth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s combine:  Spring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 txBox="1"/>
          <p:nvPr/>
        </p:nvSpPr>
        <p:spPr>
          <a:xfrm>
            <a:off x="5943600" y="1654200"/>
            <a:ext cx="220968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FIRE = PO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2659" name=""/>
          <p:cNvSpPr txBox="1"/>
          <p:nvPr/>
        </p:nvSpPr>
        <p:spPr>
          <a:xfrm>
            <a:off x="6019920" y="2590920"/>
            <a:ext cx="219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^2 / 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*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earth * water^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60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 &amp; Earth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 &amp; Water, 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3200400" y="3962520"/>
            <a:ext cx="121932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 &amp; Wat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4" name=""/>
          <p:cNvGrpSpPr/>
          <p:nvPr/>
        </p:nvGrpSpPr>
        <p:grpSpPr>
          <a:xfrm>
            <a:off x="3276720" y="5029200"/>
            <a:ext cx="1066680" cy="1066680"/>
            <a:chOff x="3276720" y="5029200"/>
            <a:chExt cx="1066680" cy="1066680"/>
          </a:xfrm>
        </p:grpSpPr>
        <p:sp>
          <p:nvSpPr>
            <p:cNvPr id="2665" name=""/>
            <p:cNvSpPr/>
            <p:nvPr/>
          </p:nvSpPr>
          <p:spPr>
            <a:xfrm>
              <a:off x="32767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429000" y="518148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7" name=""/>
          <p:cNvGrpSpPr/>
          <p:nvPr/>
        </p:nvGrpSpPr>
        <p:grpSpPr>
          <a:xfrm>
            <a:off x="2057400" y="5029200"/>
            <a:ext cx="1066680" cy="1066680"/>
            <a:chOff x="2057400" y="5029200"/>
            <a:chExt cx="1066680" cy="1066680"/>
          </a:xfrm>
        </p:grpSpPr>
        <p:sp>
          <p:nvSpPr>
            <p:cNvPr id="2668" name=""/>
            <p:cNvSpPr/>
            <p:nvPr/>
          </p:nvSpPr>
          <p:spPr>
            <a:xfrm>
              <a:off x="2057400" y="50292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209680" y="518148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0" name=""/>
          <p:cNvGrpSpPr/>
          <p:nvPr/>
        </p:nvGrpSpPr>
        <p:grpSpPr>
          <a:xfrm>
            <a:off x="838080" y="5029200"/>
            <a:ext cx="1067040" cy="1066680"/>
            <a:chOff x="838080" y="5029200"/>
            <a:chExt cx="1067040" cy="1066680"/>
          </a:xfrm>
        </p:grpSpPr>
        <p:sp>
          <p:nvSpPr>
            <p:cNvPr id="2671" name=""/>
            <p:cNvSpPr/>
            <p:nvPr/>
          </p:nvSpPr>
          <p:spPr>
            <a:xfrm>
              <a:off x="8380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990720" y="5181480"/>
              <a:ext cx="761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3" name=""/>
          <p:cNvSpPr/>
          <p:nvPr/>
        </p:nvSpPr>
        <p:spPr>
          <a:xfrm>
            <a:off x="790560" y="1676520"/>
            <a:ext cx="38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hilosophical cardinal 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eking Summer’s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.in 3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5073840" y="4724280"/>
            <a:ext cx="31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ring start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oking for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s combine:  Spring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 txBox="1"/>
          <p:nvPr/>
        </p:nvSpPr>
        <p:spPr>
          <a:xfrm>
            <a:off x="5943600" y="1654200"/>
            <a:ext cx="220968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FIRE = PO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2677" name=""/>
          <p:cNvSpPr txBox="1"/>
          <p:nvPr/>
        </p:nvSpPr>
        <p:spPr>
          <a:xfrm>
            <a:off x="6019920" y="2590920"/>
            <a:ext cx="219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^2 / 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*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earth * water^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78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3200400" y="3962520"/>
            <a:ext cx="121932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2" name=""/>
          <p:cNvGrpSpPr/>
          <p:nvPr/>
        </p:nvGrpSpPr>
        <p:grpSpPr>
          <a:xfrm>
            <a:off x="3276720" y="5029200"/>
            <a:ext cx="1066680" cy="1066680"/>
            <a:chOff x="3276720" y="5029200"/>
            <a:chExt cx="1066680" cy="1066680"/>
          </a:xfrm>
        </p:grpSpPr>
        <p:sp>
          <p:nvSpPr>
            <p:cNvPr id="2683" name=""/>
            <p:cNvSpPr/>
            <p:nvPr/>
          </p:nvSpPr>
          <p:spPr>
            <a:xfrm>
              <a:off x="32767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429000" y="518148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2057400" y="5029200"/>
            <a:ext cx="1066680" cy="1066680"/>
            <a:chOff x="2057400" y="5029200"/>
            <a:chExt cx="1066680" cy="1066680"/>
          </a:xfrm>
        </p:grpSpPr>
        <p:sp>
          <p:nvSpPr>
            <p:cNvPr id="2686" name=""/>
            <p:cNvSpPr/>
            <p:nvPr/>
          </p:nvSpPr>
          <p:spPr>
            <a:xfrm>
              <a:off x="2057400" y="50292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209680" y="518148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838080" y="5029200"/>
            <a:ext cx="1067040" cy="1066680"/>
            <a:chOff x="838080" y="5029200"/>
            <a:chExt cx="1067040" cy="1066680"/>
          </a:xfrm>
        </p:grpSpPr>
        <p:sp>
          <p:nvSpPr>
            <p:cNvPr id="2689" name=""/>
            <p:cNvSpPr/>
            <p:nvPr/>
          </p:nvSpPr>
          <p:spPr>
            <a:xfrm>
              <a:off x="8380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990720" y="5181480"/>
              <a:ext cx="761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4935600" y="3917880"/>
            <a:ext cx="306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u and 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’ Summer’s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refining Spring’s Fi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790560" y="1676520"/>
            <a:ext cx="38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hilosophical cardinal 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eking Summer’s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.in 3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s combine:  Summ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 txBox="1"/>
          <p:nvPr/>
        </p:nvSpPr>
        <p:spPr>
          <a:xfrm>
            <a:off x="2286000" y="2492280"/>
            <a:ext cx="25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WATER =  FL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2695" name=""/>
          <p:cNvSpPr txBox="1"/>
          <p:nvPr/>
        </p:nvSpPr>
        <p:spPr>
          <a:xfrm>
            <a:off x="2600280" y="3276720"/>
            <a:ext cx="2266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sqrt( fire / earth 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a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/ 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96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 &amp; Ai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 &amp; Ai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4648320" y="3962520"/>
            <a:ext cx="1218960" cy="2209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 &amp; Earth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0" name=""/>
          <p:cNvGrpSpPr/>
          <p:nvPr/>
        </p:nvGrpSpPr>
        <p:grpSpPr>
          <a:xfrm>
            <a:off x="7162920" y="5029200"/>
            <a:ext cx="1066680" cy="1066680"/>
            <a:chOff x="7162920" y="5029200"/>
            <a:chExt cx="1066680" cy="1066680"/>
          </a:xfrm>
        </p:grpSpPr>
        <p:sp>
          <p:nvSpPr>
            <p:cNvPr id="2701" name=""/>
            <p:cNvSpPr/>
            <p:nvPr/>
          </p:nvSpPr>
          <p:spPr>
            <a:xfrm>
              <a:off x="71629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315200" y="5181480"/>
              <a:ext cx="7614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4724280" y="5029200"/>
            <a:ext cx="1067040" cy="1066680"/>
            <a:chOff x="4724280" y="5029200"/>
            <a:chExt cx="1067040" cy="1066680"/>
          </a:xfrm>
        </p:grpSpPr>
        <p:sp>
          <p:nvSpPr>
            <p:cNvPr id="2704" name=""/>
            <p:cNvSpPr/>
            <p:nvPr/>
          </p:nvSpPr>
          <p:spPr>
            <a:xfrm>
              <a:off x="47242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876920" y="5181480"/>
              <a:ext cx="76176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6" name=""/>
          <p:cNvGrpSpPr/>
          <p:nvPr/>
        </p:nvGrpSpPr>
        <p:grpSpPr>
          <a:xfrm>
            <a:off x="5943600" y="5029200"/>
            <a:ext cx="1066680" cy="1066680"/>
            <a:chOff x="5943600" y="5029200"/>
            <a:chExt cx="1066680" cy="1066680"/>
          </a:xfrm>
        </p:grpSpPr>
        <p:sp>
          <p:nvSpPr>
            <p:cNvPr id="2707" name=""/>
            <p:cNvSpPr/>
            <p:nvPr/>
          </p:nvSpPr>
          <p:spPr>
            <a:xfrm>
              <a:off x="594360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095880" y="518148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9" name=""/>
          <p:cNvSpPr/>
          <p:nvPr/>
        </p:nvSpPr>
        <p:spPr>
          <a:xfrm>
            <a:off x="425160" y="114300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hilosophical cardinal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eking Fall’s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.in 3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5463000" y="1828800"/>
            <a:ext cx="271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mmer start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oking for f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s combine:  Summ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 txBox="1"/>
          <p:nvPr/>
        </p:nvSpPr>
        <p:spPr>
          <a:xfrm>
            <a:off x="2286000" y="2492280"/>
            <a:ext cx="25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WATER =  FL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2713" name=""/>
          <p:cNvSpPr txBox="1"/>
          <p:nvPr/>
        </p:nvSpPr>
        <p:spPr>
          <a:xfrm>
            <a:off x="2600280" y="3276720"/>
            <a:ext cx="2266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sqrt( fire / earth 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a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/ 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14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4648320" y="3962520"/>
            <a:ext cx="1218960" cy="2209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8" name=""/>
          <p:cNvGrpSpPr/>
          <p:nvPr/>
        </p:nvGrpSpPr>
        <p:grpSpPr>
          <a:xfrm>
            <a:off x="7162920" y="5029200"/>
            <a:ext cx="1066680" cy="1066680"/>
            <a:chOff x="7162920" y="5029200"/>
            <a:chExt cx="1066680" cy="1066680"/>
          </a:xfrm>
        </p:grpSpPr>
        <p:sp>
          <p:nvSpPr>
            <p:cNvPr id="2719" name=""/>
            <p:cNvSpPr/>
            <p:nvPr/>
          </p:nvSpPr>
          <p:spPr>
            <a:xfrm>
              <a:off x="71629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315200" y="5181480"/>
              <a:ext cx="7614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1" name=""/>
          <p:cNvGrpSpPr/>
          <p:nvPr/>
        </p:nvGrpSpPr>
        <p:grpSpPr>
          <a:xfrm>
            <a:off x="4724280" y="5029200"/>
            <a:ext cx="1067040" cy="1066680"/>
            <a:chOff x="4724280" y="5029200"/>
            <a:chExt cx="1067040" cy="1066680"/>
          </a:xfrm>
        </p:grpSpPr>
        <p:sp>
          <p:nvSpPr>
            <p:cNvPr id="2722" name=""/>
            <p:cNvSpPr/>
            <p:nvPr/>
          </p:nvSpPr>
          <p:spPr>
            <a:xfrm>
              <a:off x="47242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876920" y="5181480"/>
              <a:ext cx="76176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4" name=""/>
          <p:cNvGrpSpPr/>
          <p:nvPr/>
        </p:nvGrpSpPr>
        <p:grpSpPr>
          <a:xfrm>
            <a:off x="5943600" y="5029200"/>
            <a:ext cx="1066680" cy="1066680"/>
            <a:chOff x="5943600" y="5029200"/>
            <a:chExt cx="1066680" cy="1066680"/>
          </a:xfrm>
        </p:grpSpPr>
        <p:sp>
          <p:nvSpPr>
            <p:cNvPr id="2725" name=""/>
            <p:cNvSpPr/>
            <p:nvPr/>
          </p:nvSpPr>
          <p:spPr>
            <a:xfrm>
              <a:off x="594360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095880" y="518148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7" name=""/>
          <p:cNvSpPr/>
          <p:nvPr/>
        </p:nvSpPr>
        <p:spPr>
          <a:xfrm>
            <a:off x="5697360" y="1434960"/>
            <a:ext cx="306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o and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’s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refining Summer’s Wat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425160" y="114300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hilosophical cardinal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eking Fall’s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.in 3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s combine:  Fall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 &amp; Earth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 &amp; Wat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5867280" y="1523880"/>
            <a:ext cx="121932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Water &amp; Earth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4" name=""/>
          <p:cNvGrpSpPr/>
          <p:nvPr/>
        </p:nvGrpSpPr>
        <p:grpSpPr>
          <a:xfrm>
            <a:off x="4724280" y="1600200"/>
            <a:ext cx="1067040" cy="1066680"/>
            <a:chOff x="4724280" y="1600200"/>
            <a:chExt cx="1067040" cy="1066680"/>
          </a:xfrm>
        </p:grpSpPr>
        <p:sp>
          <p:nvSpPr>
            <p:cNvPr id="2735" name=""/>
            <p:cNvSpPr/>
            <p:nvPr/>
          </p:nvSpPr>
          <p:spPr>
            <a:xfrm>
              <a:off x="47242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876920" y="1752480"/>
              <a:ext cx="76176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7" name=""/>
          <p:cNvGrpSpPr/>
          <p:nvPr/>
        </p:nvGrpSpPr>
        <p:grpSpPr>
          <a:xfrm>
            <a:off x="7162920" y="1600200"/>
            <a:ext cx="1066680" cy="1066680"/>
            <a:chOff x="7162920" y="1600200"/>
            <a:chExt cx="1066680" cy="1066680"/>
          </a:xfrm>
        </p:grpSpPr>
        <p:sp>
          <p:nvSpPr>
            <p:cNvPr id="2738" name=""/>
            <p:cNvSpPr/>
            <p:nvPr/>
          </p:nvSpPr>
          <p:spPr>
            <a:xfrm>
              <a:off x="71629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315200" y="175248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0" name=""/>
          <p:cNvGrpSpPr/>
          <p:nvPr/>
        </p:nvGrpSpPr>
        <p:grpSpPr>
          <a:xfrm>
            <a:off x="5943600" y="1600200"/>
            <a:ext cx="1066680" cy="1066680"/>
            <a:chOff x="5943600" y="1600200"/>
            <a:chExt cx="1066680" cy="1066680"/>
          </a:xfrm>
        </p:grpSpPr>
        <p:sp>
          <p:nvSpPr>
            <p:cNvPr id="2741" name=""/>
            <p:cNvSpPr/>
            <p:nvPr/>
          </p:nvSpPr>
          <p:spPr>
            <a:xfrm>
              <a:off x="594360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095880" y="175248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3" name=""/>
          <p:cNvSpPr txBox="1"/>
          <p:nvPr/>
        </p:nvSpPr>
        <p:spPr>
          <a:xfrm>
            <a:off x="5715000" y="4060800"/>
            <a:ext cx="236232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IR = PRESS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744" name=""/>
          <p:cNvSpPr txBox="1"/>
          <p:nvPr/>
        </p:nvSpPr>
        <p:spPr>
          <a:xfrm>
            <a:off x="5867280" y="5029200"/>
            <a:ext cx="2210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earth *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sqrt( fire * earth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45" name=""/>
          <p:cNvSpPr/>
          <p:nvPr/>
        </p:nvSpPr>
        <p:spPr>
          <a:xfrm>
            <a:off x="605520" y="5334120"/>
            <a:ext cx="37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hilosophical cardinal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eking Winter’s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.in 3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740880" y="182880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all start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oking for W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s combine:  Fall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5867280" y="1523880"/>
            <a:ext cx="121932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2" name=""/>
          <p:cNvGrpSpPr/>
          <p:nvPr/>
        </p:nvGrpSpPr>
        <p:grpSpPr>
          <a:xfrm>
            <a:off x="4724280" y="1600200"/>
            <a:ext cx="1067040" cy="1066680"/>
            <a:chOff x="4724280" y="1600200"/>
            <a:chExt cx="1067040" cy="1066680"/>
          </a:xfrm>
        </p:grpSpPr>
        <p:sp>
          <p:nvSpPr>
            <p:cNvPr id="2753" name=""/>
            <p:cNvSpPr/>
            <p:nvPr/>
          </p:nvSpPr>
          <p:spPr>
            <a:xfrm>
              <a:off x="47242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876920" y="1752480"/>
              <a:ext cx="76176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5" name=""/>
          <p:cNvGrpSpPr/>
          <p:nvPr/>
        </p:nvGrpSpPr>
        <p:grpSpPr>
          <a:xfrm>
            <a:off x="7162920" y="1600200"/>
            <a:ext cx="1066680" cy="1066680"/>
            <a:chOff x="7162920" y="1600200"/>
            <a:chExt cx="1066680" cy="1066680"/>
          </a:xfrm>
        </p:grpSpPr>
        <p:sp>
          <p:nvSpPr>
            <p:cNvPr id="2756" name=""/>
            <p:cNvSpPr/>
            <p:nvPr/>
          </p:nvSpPr>
          <p:spPr>
            <a:xfrm>
              <a:off x="71629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315200" y="175248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8" name=""/>
          <p:cNvGrpSpPr/>
          <p:nvPr/>
        </p:nvGrpSpPr>
        <p:grpSpPr>
          <a:xfrm>
            <a:off x="5943600" y="1600200"/>
            <a:ext cx="1066680" cy="1066680"/>
            <a:chOff x="5943600" y="1600200"/>
            <a:chExt cx="1066680" cy="1066680"/>
          </a:xfrm>
        </p:grpSpPr>
        <p:sp>
          <p:nvSpPr>
            <p:cNvPr id="2759" name=""/>
            <p:cNvSpPr/>
            <p:nvPr/>
          </p:nvSpPr>
          <p:spPr>
            <a:xfrm>
              <a:off x="594360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095880" y="175248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1" name=""/>
          <p:cNvSpPr txBox="1"/>
          <p:nvPr/>
        </p:nvSpPr>
        <p:spPr>
          <a:xfrm>
            <a:off x="5715000" y="4060800"/>
            <a:ext cx="236232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IR = PRESS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762" name=""/>
          <p:cNvSpPr txBox="1"/>
          <p:nvPr/>
        </p:nvSpPr>
        <p:spPr>
          <a:xfrm>
            <a:off x="5867280" y="5029200"/>
            <a:ext cx="2210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earth *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sqrt( fire * earth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63" name=""/>
          <p:cNvSpPr/>
          <p:nvPr/>
        </p:nvSpPr>
        <p:spPr>
          <a:xfrm>
            <a:off x="1143000" y="3187800"/>
            <a:ext cx="306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g and 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ter’s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ref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’s A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605520" y="5334120"/>
            <a:ext cx="37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hilosophical cardinal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eking Winter’s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.in 3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s combine:  Wint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 txBox="1"/>
          <p:nvPr/>
        </p:nvSpPr>
        <p:spPr>
          <a:xfrm>
            <a:off x="2590920" y="468648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EARTH = RESIST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2767" name=""/>
          <p:cNvSpPr txBox="1"/>
          <p:nvPr/>
        </p:nvSpPr>
        <p:spPr>
          <a:xfrm>
            <a:off x="2762280" y="5479920"/>
            <a:ext cx="2190600" cy="9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/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^/ fi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water^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68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 &amp; Fi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 &amp; Wat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Water &amp; Fi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2" name=""/>
          <p:cNvGrpSpPr/>
          <p:nvPr/>
        </p:nvGrpSpPr>
        <p:grpSpPr>
          <a:xfrm>
            <a:off x="838080" y="1600200"/>
            <a:ext cx="1067040" cy="1066680"/>
            <a:chOff x="838080" y="1600200"/>
            <a:chExt cx="1067040" cy="1066680"/>
          </a:xfrm>
        </p:grpSpPr>
        <p:sp>
          <p:nvSpPr>
            <p:cNvPr id="2773" name=""/>
            <p:cNvSpPr/>
            <p:nvPr/>
          </p:nvSpPr>
          <p:spPr>
            <a:xfrm>
              <a:off x="8380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990720" y="1752480"/>
              <a:ext cx="76176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5" name=""/>
          <p:cNvGrpSpPr/>
          <p:nvPr/>
        </p:nvGrpSpPr>
        <p:grpSpPr>
          <a:xfrm>
            <a:off x="3276720" y="1600200"/>
            <a:ext cx="1066680" cy="1066680"/>
            <a:chOff x="3276720" y="1600200"/>
            <a:chExt cx="1066680" cy="1066680"/>
          </a:xfrm>
        </p:grpSpPr>
        <p:sp>
          <p:nvSpPr>
            <p:cNvPr id="2776" name=""/>
            <p:cNvSpPr/>
            <p:nvPr/>
          </p:nvSpPr>
          <p:spPr>
            <a:xfrm>
              <a:off x="32767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3429000" y="1752480"/>
              <a:ext cx="76140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8" name=""/>
          <p:cNvGrpSpPr/>
          <p:nvPr/>
        </p:nvGrpSpPr>
        <p:grpSpPr>
          <a:xfrm>
            <a:off x="2057400" y="1600200"/>
            <a:ext cx="1066680" cy="1066680"/>
            <a:chOff x="2057400" y="1600200"/>
            <a:chExt cx="1066680" cy="1066680"/>
          </a:xfrm>
        </p:grpSpPr>
        <p:sp>
          <p:nvSpPr>
            <p:cNvPr id="2779" name=""/>
            <p:cNvSpPr/>
            <p:nvPr/>
          </p:nvSpPr>
          <p:spPr>
            <a:xfrm>
              <a:off x="2057400" y="1600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209680" y="175248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1" name=""/>
          <p:cNvSpPr/>
          <p:nvPr/>
        </p:nvSpPr>
        <p:spPr>
          <a:xfrm>
            <a:off x="4569120" y="3917880"/>
            <a:ext cx="415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hilosophical cardinal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eking Spring’s 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.in 3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5400720" y="1828800"/>
            <a:ext cx="284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inter start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oking for 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s combine:  Wint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 txBox="1"/>
          <p:nvPr/>
        </p:nvSpPr>
        <p:spPr>
          <a:xfrm>
            <a:off x="2590920" y="468648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EARTH = RESIST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2785" name=""/>
          <p:cNvSpPr txBox="1"/>
          <p:nvPr/>
        </p:nvSpPr>
        <p:spPr>
          <a:xfrm>
            <a:off x="2762280" y="5479920"/>
            <a:ext cx="2190600" cy="9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 / 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air^/ fi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== fire / water^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86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0" name=""/>
          <p:cNvGrpSpPr/>
          <p:nvPr/>
        </p:nvGrpSpPr>
        <p:grpSpPr>
          <a:xfrm>
            <a:off x="838080" y="1600200"/>
            <a:ext cx="1067040" cy="1066680"/>
            <a:chOff x="838080" y="1600200"/>
            <a:chExt cx="1067040" cy="1066680"/>
          </a:xfrm>
        </p:grpSpPr>
        <p:sp>
          <p:nvSpPr>
            <p:cNvPr id="2791" name=""/>
            <p:cNvSpPr/>
            <p:nvPr/>
          </p:nvSpPr>
          <p:spPr>
            <a:xfrm>
              <a:off x="8380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990720" y="1752480"/>
              <a:ext cx="76176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3" name=""/>
          <p:cNvGrpSpPr/>
          <p:nvPr/>
        </p:nvGrpSpPr>
        <p:grpSpPr>
          <a:xfrm>
            <a:off x="3276720" y="1600200"/>
            <a:ext cx="1066680" cy="1066680"/>
            <a:chOff x="3276720" y="1600200"/>
            <a:chExt cx="1066680" cy="1066680"/>
          </a:xfrm>
        </p:grpSpPr>
        <p:sp>
          <p:nvSpPr>
            <p:cNvPr id="2794" name=""/>
            <p:cNvSpPr/>
            <p:nvPr/>
          </p:nvSpPr>
          <p:spPr>
            <a:xfrm>
              <a:off x="32767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3429000" y="1752480"/>
              <a:ext cx="76140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6" name=""/>
          <p:cNvGrpSpPr/>
          <p:nvPr/>
        </p:nvGrpSpPr>
        <p:grpSpPr>
          <a:xfrm>
            <a:off x="2057400" y="1600200"/>
            <a:ext cx="1066680" cy="1066680"/>
            <a:chOff x="2057400" y="1600200"/>
            <a:chExt cx="1066680" cy="1066680"/>
          </a:xfrm>
        </p:grpSpPr>
        <p:sp>
          <p:nvSpPr>
            <p:cNvPr id="2797" name=""/>
            <p:cNvSpPr/>
            <p:nvPr/>
          </p:nvSpPr>
          <p:spPr>
            <a:xfrm>
              <a:off x="2057400" y="1600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209680" y="175248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9" name=""/>
          <p:cNvSpPr/>
          <p:nvPr/>
        </p:nvSpPr>
        <p:spPr>
          <a:xfrm>
            <a:off x="5316480" y="1816200"/>
            <a:ext cx="306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 and 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’s 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ref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ter’s Eart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4569120" y="3917880"/>
            <a:ext cx="415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hilosophical cardinal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eking Spring’s 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.in 3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s got rules! Follow them to do everything right. Causality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.. What does this feel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676520" y="2438280"/>
            <a:ext cx="601956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strology tells us so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838080" y="5562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ch Season anticipating the nex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4648320" y="609480"/>
            <a:ext cx="144756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4648320" y="2362320"/>
            <a:ext cx="144756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3200400" y="320040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6095880" y="32004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6" name=""/>
          <p:cNvCxnSpPr>
            <a:stCxn id="2803" idx="2"/>
            <a:endCxn id="2804" idx="7"/>
          </p:cNvCxnSpPr>
          <p:nvPr/>
        </p:nvCxnSpPr>
        <p:spPr>
          <a:xfrm flipH="1">
            <a:off x="4434840" y="3086280"/>
            <a:ext cx="213480" cy="327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807" name=""/>
          <p:cNvCxnSpPr>
            <a:stCxn id="2803" idx="6"/>
            <a:endCxn id="2805" idx="1"/>
          </p:cNvCxnSpPr>
          <p:nvPr/>
        </p:nvCxnSpPr>
        <p:spPr>
          <a:xfrm>
            <a:off x="6095520" y="3086280"/>
            <a:ext cx="213480" cy="327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8" name=""/>
          <p:cNvCxnSpPr>
            <a:stCxn id="2802" idx="4"/>
            <a:endCxn id="2803" idx="0"/>
          </p:cNvCxnSpPr>
          <p:nvPr/>
        </p:nvCxnSpPr>
        <p:spPr>
          <a:xfrm>
            <a:off x="5371920" y="2057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09" name=""/>
          <p:cNvCxnSpPr>
            <a:stCxn id="2802" idx="3"/>
            <a:endCxn id="2804" idx="0"/>
          </p:cNvCxnSpPr>
          <p:nvPr/>
        </p:nvCxnSpPr>
        <p:spPr>
          <a:xfrm flipH="1">
            <a:off x="3924000" y="1844640"/>
            <a:ext cx="937440" cy="1356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0" name=""/>
          <p:cNvCxnSpPr>
            <a:stCxn id="2802" idx="5"/>
            <a:endCxn id="2805" idx="0"/>
          </p:cNvCxnSpPr>
          <p:nvPr/>
        </p:nvCxnSpPr>
        <p:spPr>
          <a:xfrm>
            <a:off x="5883120" y="1844640"/>
            <a:ext cx="937440" cy="1356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811" name=""/>
          <p:cNvCxnSpPr>
            <a:stCxn id="2804" idx="6"/>
            <a:endCxn id="2805" idx="2"/>
          </p:cNvCxnSpPr>
          <p:nvPr/>
        </p:nvCxnSpPr>
        <p:spPr>
          <a:xfrm>
            <a:off x="4647960" y="392400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2" name=""/>
          <p:cNvSpPr txBox="1"/>
          <p:nvPr/>
        </p:nvSpPr>
        <p:spPr>
          <a:xfrm>
            <a:off x="457200" y="533520"/>
            <a:ext cx="24573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ile th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x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ro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ok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ch Season anticipating the next.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ch Season ‘refining’ a single element… with aid by the other three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wo Elemen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-relat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rise to the sig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wo Elemen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now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ll you the other tw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380880" y="342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Mechanism of Intuition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798560" y="1981080"/>
            <a:ext cx="554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Times New Roman"/>
              </a:rPr>
              <a:t>Two Elements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Times New Roman"/>
              </a:rPr>
              <a:t>know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Times New Roman"/>
              </a:rPr>
              <a:t>tell you the other tw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4800240" y="144756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k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tune-Telling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438280" y="762120"/>
            <a:ext cx="129564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514600" y="4876920"/>
            <a:ext cx="129528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380880" y="3276720"/>
            <a:ext cx="129564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4495680" y="3276720"/>
            <a:ext cx="129564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1371600" y="2133720"/>
            <a:ext cx="129528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3505320" y="2133720"/>
            <a:ext cx="129528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2971800" y="2057400"/>
            <a:ext cx="304920" cy="2819520"/>
          </a:xfrm>
          <a:prstGeom prst="upDownArrow">
            <a:avLst>
              <a:gd name="adj1" fmla="val 50000"/>
              <a:gd name="adj2" fmla="val 18407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676520" y="3733920"/>
            <a:ext cx="2819160" cy="304560"/>
          </a:xfrm>
          <a:prstGeom prst="leftRightArrow">
            <a:avLst>
              <a:gd name="adj1" fmla="val 50000"/>
              <a:gd name="adj2" fmla="val 1842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666880" y="274320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4105800" y="4937040"/>
            <a:ext cx="465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Elements know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 you the other 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2666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you get that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Mechanism of Intuition?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Outcomes for Two Ingredien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rthy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from 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rth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0" name=""/>
          <p:cNvGrpSpPr/>
          <p:nvPr/>
        </p:nvGrpSpPr>
        <p:grpSpPr>
          <a:xfrm>
            <a:off x="838080" y="1600200"/>
            <a:ext cx="1067040" cy="1066680"/>
            <a:chOff x="838080" y="1600200"/>
            <a:chExt cx="1067040" cy="1066680"/>
          </a:xfrm>
        </p:grpSpPr>
        <p:sp>
          <p:nvSpPr>
            <p:cNvPr id="2841" name=""/>
            <p:cNvSpPr/>
            <p:nvPr/>
          </p:nvSpPr>
          <p:spPr>
            <a:xfrm>
              <a:off x="8380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990720" y="1752480"/>
              <a:ext cx="76176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3" name=""/>
          <p:cNvGrpSpPr/>
          <p:nvPr/>
        </p:nvGrpSpPr>
        <p:grpSpPr>
          <a:xfrm>
            <a:off x="3276720" y="1600200"/>
            <a:ext cx="1066680" cy="1066680"/>
            <a:chOff x="3276720" y="1600200"/>
            <a:chExt cx="1066680" cy="1066680"/>
          </a:xfrm>
        </p:grpSpPr>
        <p:sp>
          <p:nvSpPr>
            <p:cNvPr id="2844" name=""/>
            <p:cNvSpPr/>
            <p:nvPr/>
          </p:nvSpPr>
          <p:spPr>
            <a:xfrm>
              <a:off x="32767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429000" y="1752480"/>
              <a:ext cx="76140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6" name=""/>
          <p:cNvGrpSpPr/>
          <p:nvPr/>
        </p:nvGrpSpPr>
        <p:grpSpPr>
          <a:xfrm>
            <a:off x="2057400" y="1600200"/>
            <a:ext cx="1066680" cy="1066680"/>
            <a:chOff x="2057400" y="1600200"/>
            <a:chExt cx="1066680" cy="1066680"/>
          </a:xfrm>
        </p:grpSpPr>
        <p:sp>
          <p:nvSpPr>
            <p:cNvPr id="2847" name=""/>
            <p:cNvSpPr/>
            <p:nvPr/>
          </p:nvSpPr>
          <p:spPr>
            <a:xfrm>
              <a:off x="2057400" y="1600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209680" y="175248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9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iry 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sqr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from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5867280" y="1523880"/>
            <a:ext cx="121932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ir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3" name=""/>
          <p:cNvGrpSpPr/>
          <p:nvPr/>
        </p:nvGrpSpPr>
        <p:grpSpPr>
          <a:xfrm>
            <a:off x="4724280" y="1600200"/>
            <a:ext cx="1067040" cy="1066680"/>
            <a:chOff x="4724280" y="1600200"/>
            <a:chExt cx="1067040" cy="1066680"/>
          </a:xfrm>
        </p:grpSpPr>
        <p:sp>
          <p:nvSpPr>
            <p:cNvPr id="2854" name=""/>
            <p:cNvSpPr/>
            <p:nvPr/>
          </p:nvSpPr>
          <p:spPr>
            <a:xfrm>
              <a:off x="47242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876920" y="1752480"/>
              <a:ext cx="76176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6" name=""/>
          <p:cNvGrpSpPr/>
          <p:nvPr/>
        </p:nvGrpSpPr>
        <p:grpSpPr>
          <a:xfrm>
            <a:off x="7162920" y="1600200"/>
            <a:ext cx="1066680" cy="1066680"/>
            <a:chOff x="7162920" y="1600200"/>
            <a:chExt cx="1066680" cy="1066680"/>
          </a:xfrm>
        </p:grpSpPr>
        <p:sp>
          <p:nvSpPr>
            <p:cNvPr id="2857" name=""/>
            <p:cNvSpPr/>
            <p:nvPr/>
          </p:nvSpPr>
          <p:spPr>
            <a:xfrm>
              <a:off x="71629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315200" y="175248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9" name=""/>
          <p:cNvGrpSpPr/>
          <p:nvPr/>
        </p:nvGrpSpPr>
        <p:grpSpPr>
          <a:xfrm>
            <a:off x="5943600" y="1600200"/>
            <a:ext cx="1066680" cy="1066680"/>
            <a:chOff x="5943600" y="1600200"/>
            <a:chExt cx="1066680" cy="1066680"/>
          </a:xfrm>
        </p:grpSpPr>
        <p:sp>
          <p:nvSpPr>
            <p:cNvPr id="2860" name=""/>
            <p:cNvSpPr/>
            <p:nvPr/>
          </p:nvSpPr>
          <p:spPr>
            <a:xfrm>
              <a:off x="594360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095880" y="175248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2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tery 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tery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4648320" y="3962520"/>
            <a:ext cx="1218960" cy="2209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from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= sqr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6" name=""/>
          <p:cNvGrpSpPr/>
          <p:nvPr/>
        </p:nvGrpSpPr>
        <p:grpSpPr>
          <a:xfrm>
            <a:off x="7162920" y="5029200"/>
            <a:ext cx="1066680" cy="1066680"/>
            <a:chOff x="7162920" y="5029200"/>
            <a:chExt cx="1066680" cy="1066680"/>
          </a:xfrm>
        </p:grpSpPr>
        <p:sp>
          <p:nvSpPr>
            <p:cNvPr id="2867" name=""/>
            <p:cNvSpPr/>
            <p:nvPr/>
          </p:nvSpPr>
          <p:spPr>
            <a:xfrm>
              <a:off x="71629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7315200" y="5181480"/>
              <a:ext cx="7614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9" name=""/>
          <p:cNvGrpSpPr/>
          <p:nvPr/>
        </p:nvGrpSpPr>
        <p:grpSpPr>
          <a:xfrm>
            <a:off x="4724280" y="5029200"/>
            <a:ext cx="1067040" cy="1066680"/>
            <a:chOff x="4724280" y="5029200"/>
            <a:chExt cx="1067040" cy="1066680"/>
          </a:xfrm>
        </p:grpSpPr>
        <p:sp>
          <p:nvSpPr>
            <p:cNvPr id="2870" name=""/>
            <p:cNvSpPr/>
            <p:nvPr/>
          </p:nvSpPr>
          <p:spPr>
            <a:xfrm>
              <a:off x="47242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876920" y="5181480"/>
              <a:ext cx="76176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2" name=""/>
          <p:cNvGrpSpPr/>
          <p:nvPr/>
        </p:nvGrpSpPr>
        <p:grpSpPr>
          <a:xfrm>
            <a:off x="5943600" y="5029200"/>
            <a:ext cx="1066680" cy="1066680"/>
            <a:chOff x="5943600" y="5029200"/>
            <a:chExt cx="1066680" cy="1066680"/>
          </a:xfrm>
        </p:grpSpPr>
        <p:sp>
          <p:nvSpPr>
            <p:cNvPr id="2873" name=""/>
            <p:cNvSpPr/>
            <p:nvPr/>
          </p:nvSpPr>
          <p:spPr>
            <a:xfrm>
              <a:off x="594360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6095880" y="518148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5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ery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3200400" y="3962520"/>
            <a:ext cx="121932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ery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9" name=""/>
          <p:cNvGrpSpPr/>
          <p:nvPr/>
        </p:nvGrpSpPr>
        <p:grpSpPr>
          <a:xfrm>
            <a:off x="3276720" y="5029200"/>
            <a:ext cx="1066680" cy="1066680"/>
            <a:chOff x="3276720" y="5029200"/>
            <a:chExt cx="1066680" cy="1066680"/>
          </a:xfrm>
        </p:grpSpPr>
        <p:sp>
          <p:nvSpPr>
            <p:cNvPr id="2880" name=""/>
            <p:cNvSpPr/>
            <p:nvPr/>
          </p:nvSpPr>
          <p:spPr>
            <a:xfrm>
              <a:off x="32767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429000" y="518148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2" name=""/>
          <p:cNvGrpSpPr/>
          <p:nvPr/>
        </p:nvGrpSpPr>
        <p:grpSpPr>
          <a:xfrm>
            <a:off x="2057400" y="5029200"/>
            <a:ext cx="1066680" cy="1066680"/>
            <a:chOff x="2057400" y="5029200"/>
            <a:chExt cx="1066680" cy="1066680"/>
          </a:xfrm>
        </p:grpSpPr>
        <p:sp>
          <p:nvSpPr>
            <p:cNvPr id="2883" name=""/>
            <p:cNvSpPr/>
            <p:nvPr/>
          </p:nvSpPr>
          <p:spPr>
            <a:xfrm>
              <a:off x="2057400" y="50292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2209680" y="518148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5" name=""/>
          <p:cNvGrpSpPr/>
          <p:nvPr/>
        </p:nvGrpSpPr>
        <p:grpSpPr>
          <a:xfrm>
            <a:off x="838080" y="5029200"/>
            <a:ext cx="1067040" cy="1066680"/>
            <a:chOff x="838080" y="5029200"/>
            <a:chExt cx="1067040" cy="1066680"/>
          </a:xfrm>
        </p:grpSpPr>
        <p:sp>
          <p:nvSpPr>
            <p:cNvPr id="2886" name=""/>
            <p:cNvSpPr/>
            <p:nvPr/>
          </p:nvSpPr>
          <p:spPr>
            <a:xfrm>
              <a:off x="8380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990720" y="5181480"/>
              <a:ext cx="761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8" name=""/>
          <p:cNvSpPr/>
          <p:nvPr/>
        </p:nvSpPr>
        <p:spPr>
          <a:xfrm>
            <a:off x="1923840" y="98568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hm and the Zodiac agree: Duality itself is du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Wa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rthy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from 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rth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4" name=""/>
          <p:cNvGrpSpPr/>
          <p:nvPr/>
        </p:nvGrpSpPr>
        <p:grpSpPr>
          <a:xfrm>
            <a:off x="838080" y="1600200"/>
            <a:ext cx="1067040" cy="1066680"/>
            <a:chOff x="838080" y="1600200"/>
            <a:chExt cx="1067040" cy="1066680"/>
          </a:xfrm>
        </p:grpSpPr>
        <p:sp>
          <p:nvSpPr>
            <p:cNvPr id="2895" name=""/>
            <p:cNvSpPr/>
            <p:nvPr/>
          </p:nvSpPr>
          <p:spPr>
            <a:xfrm>
              <a:off x="8380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990720" y="1752480"/>
              <a:ext cx="76176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7" name=""/>
          <p:cNvGrpSpPr/>
          <p:nvPr/>
        </p:nvGrpSpPr>
        <p:grpSpPr>
          <a:xfrm>
            <a:off x="3276720" y="1600200"/>
            <a:ext cx="1066680" cy="1066680"/>
            <a:chOff x="3276720" y="1600200"/>
            <a:chExt cx="1066680" cy="1066680"/>
          </a:xfrm>
        </p:grpSpPr>
        <p:sp>
          <p:nvSpPr>
            <p:cNvPr id="2898" name=""/>
            <p:cNvSpPr/>
            <p:nvPr/>
          </p:nvSpPr>
          <p:spPr>
            <a:xfrm>
              <a:off x="32767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429000" y="1752480"/>
              <a:ext cx="76140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0" name=""/>
          <p:cNvGrpSpPr/>
          <p:nvPr/>
        </p:nvGrpSpPr>
        <p:grpSpPr>
          <a:xfrm>
            <a:off x="2057400" y="1600200"/>
            <a:ext cx="1066680" cy="1066680"/>
            <a:chOff x="2057400" y="1600200"/>
            <a:chExt cx="1066680" cy="1066680"/>
          </a:xfrm>
        </p:grpSpPr>
        <p:sp>
          <p:nvSpPr>
            <p:cNvPr id="2901" name=""/>
            <p:cNvSpPr/>
            <p:nvPr/>
          </p:nvSpPr>
          <p:spPr>
            <a:xfrm>
              <a:off x="2057400" y="1600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2209680" y="175248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3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iry 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sqr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from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5867280" y="1523880"/>
            <a:ext cx="121932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ir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7" name=""/>
          <p:cNvGrpSpPr/>
          <p:nvPr/>
        </p:nvGrpSpPr>
        <p:grpSpPr>
          <a:xfrm>
            <a:off x="4724280" y="1600200"/>
            <a:ext cx="1067040" cy="1066680"/>
            <a:chOff x="4724280" y="1600200"/>
            <a:chExt cx="1067040" cy="1066680"/>
          </a:xfrm>
        </p:grpSpPr>
        <p:sp>
          <p:nvSpPr>
            <p:cNvPr id="2908" name=""/>
            <p:cNvSpPr/>
            <p:nvPr/>
          </p:nvSpPr>
          <p:spPr>
            <a:xfrm>
              <a:off x="47242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876920" y="1752480"/>
              <a:ext cx="76176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0" name=""/>
          <p:cNvGrpSpPr/>
          <p:nvPr/>
        </p:nvGrpSpPr>
        <p:grpSpPr>
          <a:xfrm>
            <a:off x="7162920" y="1600200"/>
            <a:ext cx="1066680" cy="1066680"/>
            <a:chOff x="7162920" y="1600200"/>
            <a:chExt cx="1066680" cy="1066680"/>
          </a:xfrm>
        </p:grpSpPr>
        <p:sp>
          <p:nvSpPr>
            <p:cNvPr id="2911" name=""/>
            <p:cNvSpPr/>
            <p:nvPr/>
          </p:nvSpPr>
          <p:spPr>
            <a:xfrm>
              <a:off x="71629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315200" y="175248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3" name=""/>
          <p:cNvGrpSpPr/>
          <p:nvPr/>
        </p:nvGrpSpPr>
        <p:grpSpPr>
          <a:xfrm>
            <a:off x="5943600" y="1600200"/>
            <a:ext cx="1066680" cy="1066680"/>
            <a:chOff x="5943600" y="1600200"/>
            <a:chExt cx="1066680" cy="1066680"/>
          </a:xfrm>
        </p:grpSpPr>
        <p:sp>
          <p:nvSpPr>
            <p:cNvPr id="2914" name=""/>
            <p:cNvSpPr/>
            <p:nvPr/>
          </p:nvSpPr>
          <p:spPr>
            <a:xfrm>
              <a:off x="594360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095880" y="175248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6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tery 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tery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4648320" y="3962520"/>
            <a:ext cx="1218960" cy="2209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from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= sqr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0" name=""/>
          <p:cNvGrpSpPr/>
          <p:nvPr/>
        </p:nvGrpSpPr>
        <p:grpSpPr>
          <a:xfrm>
            <a:off x="7162920" y="5029200"/>
            <a:ext cx="1066680" cy="1066680"/>
            <a:chOff x="7162920" y="5029200"/>
            <a:chExt cx="1066680" cy="1066680"/>
          </a:xfrm>
        </p:grpSpPr>
        <p:sp>
          <p:nvSpPr>
            <p:cNvPr id="2921" name=""/>
            <p:cNvSpPr/>
            <p:nvPr/>
          </p:nvSpPr>
          <p:spPr>
            <a:xfrm>
              <a:off x="71629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315200" y="5181480"/>
              <a:ext cx="7614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3" name=""/>
          <p:cNvGrpSpPr/>
          <p:nvPr/>
        </p:nvGrpSpPr>
        <p:grpSpPr>
          <a:xfrm>
            <a:off x="4724280" y="5029200"/>
            <a:ext cx="1067040" cy="1066680"/>
            <a:chOff x="4724280" y="5029200"/>
            <a:chExt cx="1067040" cy="1066680"/>
          </a:xfrm>
        </p:grpSpPr>
        <p:sp>
          <p:nvSpPr>
            <p:cNvPr id="2924" name=""/>
            <p:cNvSpPr/>
            <p:nvPr/>
          </p:nvSpPr>
          <p:spPr>
            <a:xfrm>
              <a:off x="47242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4876920" y="5181480"/>
              <a:ext cx="76176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6" name=""/>
          <p:cNvGrpSpPr/>
          <p:nvPr/>
        </p:nvGrpSpPr>
        <p:grpSpPr>
          <a:xfrm>
            <a:off x="5943600" y="5029200"/>
            <a:ext cx="1066680" cy="1066680"/>
            <a:chOff x="5943600" y="5029200"/>
            <a:chExt cx="1066680" cy="1066680"/>
          </a:xfrm>
        </p:grpSpPr>
        <p:sp>
          <p:nvSpPr>
            <p:cNvPr id="2927" name=""/>
            <p:cNvSpPr/>
            <p:nvPr/>
          </p:nvSpPr>
          <p:spPr>
            <a:xfrm>
              <a:off x="594360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095880" y="518148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9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ery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3200400" y="3962520"/>
            <a:ext cx="121932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ery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3" name=""/>
          <p:cNvGrpSpPr/>
          <p:nvPr/>
        </p:nvGrpSpPr>
        <p:grpSpPr>
          <a:xfrm>
            <a:off x="3276720" y="5029200"/>
            <a:ext cx="1066680" cy="1066680"/>
            <a:chOff x="3276720" y="5029200"/>
            <a:chExt cx="1066680" cy="1066680"/>
          </a:xfrm>
        </p:grpSpPr>
        <p:sp>
          <p:nvSpPr>
            <p:cNvPr id="2934" name=""/>
            <p:cNvSpPr/>
            <p:nvPr/>
          </p:nvSpPr>
          <p:spPr>
            <a:xfrm>
              <a:off x="32767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429000" y="518148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6" name=""/>
          <p:cNvGrpSpPr/>
          <p:nvPr/>
        </p:nvGrpSpPr>
        <p:grpSpPr>
          <a:xfrm>
            <a:off x="2057400" y="5029200"/>
            <a:ext cx="1066680" cy="1066680"/>
            <a:chOff x="2057400" y="5029200"/>
            <a:chExt cx="1066680" cy="1066680"/>
          </a:xfrm>
        </p:grpSpPr>
        <p:sp>
          <p:nvSpPr>
            <p:cNvPr id="2937" name=""/>
            <p:cNvSpPr/>
            <p:nvPr/>
          </p:nvSpPr>
          <p:spPr>
            <a:xfrm>
              <a:off x="2057400" y="50292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2209680" y="518148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9" name=""/>
          <p:cNvGrpSpPr/>
          <p:nvPr/>
        </p:nvGrpSpPr>
        <p:grpSpPr>
          <a:xfrm>
            <a:off x="838080" y="5029200"/>
            <a:ext cx="1067040" cy="1066680"/>
            <a:chOff x="838080" y="5029200"/>
            <a:chExt cx="1067040" cy="1066680"/>
          </a:xfrm>
        </p:grpSpPr>
        <p:sp>
          <p:nvSpPr>
            <p:cNvPr id="2940" name=""/>
            <p:cNvSpPr/>
            <p:nvPr/>
          </p:nvSpPr>
          <p:spPr>
            <a:xfrm>
              <a:off x="8380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990720" y="5181480"/>
              <a:ext cx="761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placates my fears. It shows meaning, respects soul, nourish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.. Can you explain i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676520" y="2438280"/>
            <a:ext cx="601956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Astrology tells us so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685800" y="3886200"/>
            <a:ext cx="137160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5" name=""/>
          <p:cNvGrpSpPr/>
          <p:nvPr/>
        </p:nvGrpSpPr>
        <p:grpSpPr>
          <a:xfrm>
            <a:off x="838080" y="5029200"/>
            <a:ext cx="1067040" cy="1066680"/>
            <a:chOff x="838080" y="5029200"/>
            <a:chExt cx="1067040" cy="1066680"/>
          </a:xfrm>
        </p:grpSpPr>
        <p:sp>
          <p:nvSpPr>
            <p:cNvPr id="2946" name=""/>
            <p:cNvSpPr/>
            <p:nvPr/>
          </p:nvSpPr>
          <p:spPr>
            <a:xfrm>
              <a:off x="8380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990720" y="5181480"/>
              <a:ext cx="761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8" name=""/>
          <p:cNvSpPr/>
          <p:nvPr/>
        </p:nvSpPr>
        <p:spPr>
          <a:xfrm>
            <a:off x="7010280" y="3886200"/>
            <a:ext cx="1371600" cy="2362320"/>
          </a:xfrm>
          <a:prstGeom prst="rect">
            <a:avLst/>
          </a:prstGeom>
          <a:solidFill>
            <a:srgbClr val="00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0" name=""/>
          <p:cNvGrpSpPr/>
          <p:nvPr/>
        </p:nvGrpSpPr>
        <p:grpSpPr>
          <a:xfrm>
            <a:off x="7162920" y="5029200"/>
            <a:ext cx="1066680" cy="1066680"/>
            <a:chOff x="7162920" y="5029200"/>
            <a:chExt cx="1066680" cy="1066680"/>
          </a:xfrm>
        </p:grpSpPr>
        <p:sp>
          <p:nvSpPr>
            <p:cNvPr id="2951" name=""/>
            <p:cNvSpPr/>
            <p:nvPr/>
          </p:nvSpPr>
          <p:spPr>
            <a:xfrm>
              <a:off x="7162920" y="5029200"/>
              <a:ext cx="106668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315200" y="5181480"/>
              <a:ext cx="761400" cy="762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3" name=""/>
          <p:cNvSpPr txBox="1"/>
          <p:nvPr/>
        </p:nvSpPr>
        <p:spPr>
          <a:xfrm>
            <a:off x="1143000" y="1371600"/>
            <a:ext cx="2190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ntuitivel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peed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Forethough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n Acti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4" name=""/>
          <p:cNvSpPr txBox="1"/>
          <p:nvPr/>
        </p:nvSpPr>
        <p:spPr>
          <a:xfrm>
            <a:off x="2971800" y="4800600"/>
            <a:ext cx="2552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iscrimin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5" name=""/>
          <p:cNvSpPr txBox="1"/>
          <p:nvPr/>
        </p:nvSpPr>
        <p:spPr>
          <a:xfrm>
            <a:off x="3695760" y="3209760"/>
            <a:ext cx="2552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all exterior ingredient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2592000" y="5807160"/>
            <a:ext cx="24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yper ^2 S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ith Airy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7354080" y="190440"/>
            <a:ext cx="157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fire &amp;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an/s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r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7010280" y="3886200"/>
            <a:ext cx="137160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1" name=""/>
          <p:cNvGrpSpPr/>
          <p:nvPr/>
        </p:nvGrpSpPr>
        <p:grpSpPr>
          <a:xfrm>
            <a:off x="7162920" y="5029200"/>
            <a:ext cx="1066680" cy="1066680"/>
            <a:chOff x="7162920" y="5029200"/>
            <a:chExt cx="1066680" cy="1066680"/>
          </a:xfrm>
        </p:grpSpPr>
        <p:sp>
          <p:nvSpPr>
            <p:cNvPr id="2962" name=""/>
            <p:cNvSpPr/>
            <p:nvPr/>
          </p:nvSpPr>
          <p:spPr>
            <a:xfrm>
              <a:off x="71629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315200" y="5181480"/>
              <a:ext cx="7614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4" name=""/>
          <p:cNvSpPr/>
          <p:nvPr/>
        </p:nvSpPr>
        <p:spPr>
          <a:xfrm>
            <a:off x="685800" y="3886200"/>
            <a:ext cx="1371600" cy="2362320"/>
          </a:xfrm>
          <a:prstGeom prst="rect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6" name=""/>
          <p:cNvGrpSpPr/>
          <p:nvPr/>
        </p:nvGrpSpPr>
        <p:grpSpPr>
          <a:xfrm>
            <a:off x="838080" y="5029200"/>
            <a:ext cx="1067040" cy="1066680"/>
            <a:chOff x="838080" y="5029200"/>
            <a:chExt cx="1067040" cy="1066680"/>
          </a:xfrm>
        </p:grpSpPr>
        <p:sp>
          <p:nvSpPr>
            <p:cNvPr id="2967" name=""/>
            <p:cNvSpPr/>
            <p:nvPr/>
          </p:nvSpPr>
          <p:spPr>
            <a:xfrm>
              <a:off x="838080" y="5029200"/>
              <a:ext cx="1067040" cy="1066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990720" y="5181480"/>
              <a:ext cx="761760" cy="7621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9" name=""/>
          <p:cNvSpPr txBox="1"/>
          <p:nvPr/>
        </p:nvSpPr>
        <p:spPr>
          <a:xfrm>
            <a:off x="7010280" y="1905120"/>
            <a:ext cx="1828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mergen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hought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of Passi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0" name=""/>
          <p:cNvSpPr txBox="1"/>
          <p:nvPr/>
        </p:nvSpPr>
        <p:spPr>
          <a:xfrm>
            <a:off x="2971800" y="4800600"/>
            <a:ext cx="2552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iscrimin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1" name=""/>
          <p:cNvSpPr txBox="1"/>
          <p:nvPr/>
        </p:nvSpPr>
        <p:spPr>
          <a:xfrm>
            <a:off x="2971800" y="1828800"/>
            <a:ext cx="3581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eason within Form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2" name=""/>
          <p:cNvSpPr txBox="1"/>
          <p:nvPr/>
        </p:nvSpPr>
        <p:spPr>
          <a:xfrm>
            <a:off x="2476440" y="3209760"/>
            <a:ext cx="2552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all exterior ingredient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7354080" y="190440"/>
            <a:ext cx="157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fire &amp;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an/s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c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4572000" y="3886200"/>
            <a:ext cx="137160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4648320" y="3962520"/>
            <a:ext cx="1218960" cy="2209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7" name=""/>
          <p:cNvGrpSpPr/>
          <p:nvPr/>
        </p:nvGrpSpPr>
        <p:grpSpPr>
          <a:xfrm>
            <a:off x="4724280" y="5029200"/>
            <a:ext cx="1067040" cy="1066680"/>
            <a:chOff x="4724280" y="5029200"/>
            <a:chExt cx="1067040" cy="1066680"/>
          </a:xfrm>
        </p:grpSpPr>
        <p:sp>
          <p:nvSpPr>
            <p:cNvPr id="2978" name=""/>
            <p:cNvSpPr/>
            <p:nvPr/>
          </p:nvSpPr>
          <p:spPr>
            <a:xfrm>
              <a:off x="47242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876920" y="5181480"/>
              <a:ext cx="76176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0" name=""/>
          <p:cNvSpPr/>
          <p:nvPr/>
        </p:nvSpPr>
        <p:spPr>
          <a:xfrm>
            <a:off x="4572000" y="1447920"/>
            <a:ext cx="1371600" cy="23619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2" name=""/>
          <p:cNvGrpSpPr/>
          <p:nvPr/>
        </p:nvGrpSpPr>
        <p:grpSpPr>
          <a:xfrm>
            <a:off x="4724280" y="1600200"/>
            <a:ext cx="1067040" cy="1066680"/>
            <a:chOff x="4724280" y="1600200"/>
            <a:chExt cx="1067040" cy="1066680"/>
          </a:xfrm>
        </p:grpSpPr>
        <p:sp>
          <p:nvSpPr>
            <p:cNvPr id="2983" name=""/>
            <p:cNvSpPr/>
            <p:nvPr/>
          </p:nvSpPr>
          <p:spPr>
            <a:xfrm>
              <a:off x="4724280" y="1600200"/>
              <a:ext cx="1067040" cy="1066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876920" y="1752480"/>
              <a:ext cx="761760" cy="7614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5" name=""/>
          <p:cNvSpPr txBox="1"/>
          <p:nvPr/>
        </p:nvSpPr>
        <p:spPr>
          <a:xfrm>
            <a:off x="1447920" y="4876920"/>
            <a:ext cx="2324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living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6" name=""/>
          <p:cNvSpPr txBox="1"/>
          <p:nvPr/>
        </p:nvSpPr>
        <p:spPr>
          <a:xfrm>
            <a:off x="1600200" y="2209680"/>
            <a:ext cx="1943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burning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7" name=""/>
          <p:cNvSpPr txBox="1"/>
          <p:nvPr/>
        </p:nvSpPr>
        <p:spPr>
          <a:xfrm>
            <a:off x="6515280" y="1600200"/>
            <a:ext cx="2095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re</a:t>
            </a:r>
            <a:endParaRPr b="0" lang="en-US" sz="2400" spc="1" strike="noStrike">
              <a:ln w="12600">
                <a:solidFill>
                  <a:srgbClr val="cc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trols</a:t>
            </a:r>
            <a:endParaRPr b="0" lang="en-US" sz="2400" spc="1" strike="noStrike">
              <a:ln w="12600">
                <a:solidFill>
                  <a:srgbClr val="cc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88" name=""/>
          <p:cNvSpPr/>
          <p:nvPr/>
        </p:nvSpPr>
        <p:spPr>
          <a:xfrm>
            <a:off x="6718680" y="3429000"/>
            <a:ext cx="152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oth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ampe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ternally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i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upiter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assion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duced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way ou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7354080" y="190440"/>
            <a:ext cx="161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fire &amp;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lib/p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gittari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4572000" y="1447920"/>
            <a:ext cx="137160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3" name=""/>
          <p:cNvGrpSpPr/>
          <p:nvPr/>
        </p:nvGrpSpPr>
        <p:grpSpPr>
          <a:xfrm>
            <a:off x="4724280" y="1600200"/>
            <a:ext cx="1067040" cy="1066680"/>
            <a:chOff x="4724280" y="1600200"/>
            <a:chExt cx="1067040" cy="1066680"/>
          </a:xfrm>
        </p:grpSpPr>
        <p:sp>
          <p:nvSpPr>
            <p:cNvPr id="2994" name=""/>
            <p:cNvSpPr/>
            <p:nvPr/>
          </p:nvSpPr>
          <p:spPr>
            <a:xfrm>
              <a:off x="47242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876920" y="1752480"/>
              <a:ext cx="76176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6" name=""/>
          <p:cNvSpPr/>
          <p:nvPr/>
        </p:nvSpPr>
        <p:spPr>
          <a:xfrm>
            <a:off x="4572000" y="3886200"/>
            <a:ext cx="1371600" cy="2362320"/>
          </a:xfrm>
          <a:prstGeom prst="rect">
            <a:avLst/>
          </a:prstGeom>
          <a:solidFill>
            <a:srgbClr val="00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4648320" y="3962520"/>
            <a:ext cx="1218960" cy="2209680"/>
          </a:xfrm>
          <a:prstGeom prst="rect">
            <a:avLst/>
          </a:prstGeom>
          <a:solidFill>
            <a:srgbClr val="00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8" name=""/>
          <p:cNvGrpSpPr/>
          <p:nvPr/>
        </p:nvGrpSpPr>
        <p:grpSpPr>
          <a:xfrm>
            <a:off x="4724280" y="5029200"/>
            <a:ext cx="1067040" cy="1066680"/>
            <a:chOff x="4724280" y="5029200"/>
            <a:chExt cx="1067040" cy="1066680"/>
          </a:xfrm>
        </p:grpSpPr>
        <p:sp>
          <p:nvSpPr>
            <p:cNvPr id="2999" name=""/>
            <p:cNvSpPr/>
            <p:nvPr/>
          </p:nvSpPr>
          <p:spPr>
            <a:xfrm>
              <a:off x="4724280" y="5029200"/>
              <a:ext cx="1067040" cy="1066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876920" y="5181480"/>
              <a:ext cx="761760" cy="76140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1" name=""/>
          <p:cNvSpPr txBox="1"/>
          <p:nvPr/>
        </p:nvSpPr>
        <p:spPr>
          <a:xfrm>
            <a:off x="6515280" y="1600200"/>
            <a:ext cx="2095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re</a:t>
            </a:r>
            <a:endParaRPr b="0" lang="en-US" sz="2400" spc="1" strike="noStrike">
              <a:ln w="12600">
                <a:solidFill>
                  <a:srgbClr val="cc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trols</a:t>
            </a:r>
            <a:endParaRPr b="0" lang="en-US" sz="2400" spc="1" strike="noStrike">
              <a:ln w="12600">
                <a:solidFill>
                  <a:srgbClr val="cc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02" name=""/>
          <p:cNvSpPr txBox="1"/>
          <p:nvPr/>
        </p:nvSpPr>
        <p:spPr>
          <a:xfrm>
            <a:off x="1447920" y="4876920"/>
            <a:ext cx="2324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living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3" name=""/>
          <p:cNvSpPr txBox="1"/>
          <p:nvPr/>
        </p:nvSpPr>
        <p:spPr>
          <a:xfrm>
            <a:off x="1600200" y="2209680"/>
            <a:ext cx="1943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burning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6718680" y="3429000"/>
            <a:ext cx="152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oth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ampe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ternally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i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upiter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assion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duced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way ou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7354080" y="190440"/>
            <a:ext cx="161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fire &amp;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lib/p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b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7010280" y="1447920"/>
            <a:ext cx="137160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9" name=""/>
          <p:cNvGrpSpPr/>
          <p:nvPr/>
        </p:nvGrpSpPr>
        <p:grpSpPr>
          <a:xfrm>
            <a:off x="7162920" y="1600200"/>
            <a:ext cx="1066680" cy="1066680"/>
            <a:chOff x="7162920" y="1600200"/>
            <a:chExt cx="1066680" cy="1066680"/>
          </a:xfrm>
        </p:grpSpPr>
        <p:sp>
          <p:nvSpPr>
            <p:cNvPr id="3010" name=""/>
            <p:cNvSpPr/>
            <p:nvPr/>
          </p:nvSpPr>
          <p:spPr>
            <a:xfrm>
              <a:off x="71629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315200" y="175248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2" name=""/>
          <p:cNvSpPr/>
          <p:nvPr/>
        </p:nvSpPr>
        <p:spPr>
          <a:xfrm>
            <a:off x="685800" y="1447920"/>
            <a:ext cx="1371600" cy="236196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4" name=""/>
          <p:cNvGrpSpPr/>
          <p:nvPr/>
        </p:nvGrpSpPr>
        <p:grpSpPr>
          <a:xfrm>
            <a:off x="838080" y="1600200"/>
            <a:ext cx="1067040" cy="1066680"/>
            <a:chOff x="838080" y="1600200"/>
            <a:chExt cx="1067040" cy="1066680"/>
          </a:xfrm>
        </p:grpSpPr>
        <p:sp>
          <p:nvSpPr>
            <p:cNvPr id="3015" name=""/>
            <p:cNvSpPr/>
            <p:nvPr/>
          </p:nvSpPr>
          <p:spPr>
            <a:xfrm>
              <a:off x="838080" y="1600200"/>
              <a:ext cx="1067040" cy="1066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990720" y="1752480"/>
              <a:ext cx="761760" cy="7621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7" name=""/>
          <p:cNvSpPr txBox="1"/>
          <p:nvPr/>
        </p:nvSpPr>
        <p:spPr>
          <a:xfrm>
            <a:off x="838080" y="4267080"/>
            <a:ext cx="320040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ealit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nsciousl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piritualized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warenes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8" name=""/>
          <p:cNvSpPr txBox="1"/>
          <p:nvPr/>
        </p:nvSpPr>
        <p:spPr>
          <a:xfrm>
            <a:off x="3048120" y="1371600"/>
            <a:ext cx="3200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elf-Awar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nsciousnes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deal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9" name=""/>
          <p:cNvSpPr txBox="1"/>
          <p:nvPr/>
        </p:nvSpPr>
        <p:spPr>
          <a:xfrm>
            <a:off x="5067360" y="4800600"/>
            <a:ext cx="2552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all interior ingredient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7353720" y="19044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air &amp;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gem/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is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685800" y="1447920"/>
            <a:ext cx="137160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4" name=""/>
          <p:cNvGrpSpPr/>
          <p:nvPr/>
        </p:nvGrpSpPr>
        <p:grpSpPr>
          <a:xfrm>
            <a:off x="838080" y="1600200"/>
            <a:ext cx="1067040" cy="1066680"/>
            <a:chOff x="838080" y="1600200"/>
            <a:chExt cx="1067040" cy="1066680"/>
          </a:xfrm>
        </p:grpSpPr>
        <p:sp>
          <p:nvSpPr>
            <p:cNvPr id="3025" name=""/>
            <p:cNvSpPr/>
            <p:nvPr/>
          </p:nvSpPr>
          <p:spPr>
            <a:xfrm>
              <a:off x="8380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990720" y="1752480"/>
              <a:ext cx="76176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7" name=""/>
          <p:cNvSpPr/>
          <p:nvPr/>
        </p:nvSpPr>
        <p:spPr>
          <a:xfrm>
            <a:off x="7010280" y="1447920"/>
            <a:ext cx="1371600" cy="23619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 Black"/>
              </a:rPr>
              <a:t>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 Black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9" name=""/>
          <p:cNvGrpSpPr/>
          <p:nvPr/>
        </p:nvGrpSpPr>
        <p:grpSpPr>
          <a:xfrm>
            <a:off x="7162920" y="1600200"/>
            <a:ext cx="1066680" cy="1066680"/>
            <a:chOff x="7162920" y="1600200"/>
            <a:chExt cx="1066680" cy="1066680"/>
          </a:xfrm>
        </p:grpSpPr>
        <p:sp>
          <p:nvSpPr>
            <p:cNvPr id="3030" name=""/>
            <p:cNvSpPr/>
            <p:nvPr/>
          </p:nvSpPr>
          <p:spPr>
            <a:xfrm>
              <a:off x="7162920" y="1600200"/>
              <a:ext cx="1066680" cy="1066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315200" y="1752480"/>
              <a:ext cx="761400" cy="76212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2" name=""/>
          <p:cNvSpPr txBox="1"/>
          <p:nvPr/>
        </p:nvSpPr>
        <p:spPr>
          <a:xfrm>
            <a:off x="2895480" y="1371600"/>
            <a:ext cx="3276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ealit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nsciousl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piritualized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warenes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33" name=""/>
          <p:cNvSpPr txBox="1"/>
          <p:nvPr/>
        </p:nvSpPr>
        <p:spPr>
          <a:xfrm>
            <a:off x="5943600" y="4267080"/>
            <a:ext cx="2286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elf-Awar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nsciousnes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deal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34" name=""/>
          <p:cNvSpPr txBox="1"/>
          <p:nvPr/>
        </p:nvSpPr>
        <p:spPr>
          <a:xfrm>
            <a:off x="2514600" y="5638680"/>
            <a:ext cx="297180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all interior ingredient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532440" y="4087800"/>
            <a:ext cx="291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yper ^2 S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ith Watery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7353720" y="19044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air &amp;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gem/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min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3124080" y="3886200"/>
            <a:ext cx="137160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3200400" y="3962520"/>
            <a:ext cx="121932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0" name=""/>
          <p:cNvGrpSpPr/>
          <p:nvPr/>
        </p:nvGrpSpPr>
        <p:grpSpPr>
          <a:xfrm>
            <a:off x="3276720" y="5029200"/>
            <a:ext cx="1066680" cy="1066680"/>
            <a:chOff x="3276720" y="5029200"/>
            <a:chExt cx="1066680" cy="1066680"/>
          </a:xfrm>
        </p:grpSpPr>
        <p:sp>
          <p:nvSpPr>
            <p:cNvPr id="3041" name=""/>
            <p:cNvSpPr/>
            <p:nvPr/>
          </p:nvSpPr>
          <p:spPr>
            <a:xfrm>
              <a:off x="32767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3429000" y="518148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3" name=""/>
          <p:cNvSpPr/>
          <p:nvPr/>
        </p:nvSpPr>
        <p:spPr>
          <a:xfrm>
            <a:off x="3124080" y="1447920"/>
            <a:ext cx="1371600" cy="236196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3276720" y="1600200"/>
            <a:ext cx="1066680" cy="1066680"/>
            <a:chOff x="3276720" y="1600200"/>
            <a:chExt cx="1066680" cy="1066680"/>
          </a:xfrm>
        </p:grpSpPr>
        <p:sp>
          <p:nvSpPr>
            <p:cNvPr id="3046" name=""/>
            <p:cNvSpPr/>
            <p:nvPr/>
          </p:nvSpPr>
          <p:spPr>
            <a:xfrm>
              <a:off x="3276720" y="1600200"/>
              <a:ext cx="1066680" cy="1066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3429000" y="1752480"/>
              <a:ext cx="761400" cy="761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8" name=""/>
          <p:cNvSpPr txBox="1"/>
          <p:nvPr/>
        </p:nvSpPr>
        <p:spPr>
          <a:xfrm>
            <a:off x="5219640" y="5257800"/>
            <a:ext cx="2476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evapor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9" name=""/>
          <p:cNvSpPr txBox="1"/>
          <p:nvPr/>
        </p:nvSpPr>
        <p:spPr>
          <a:xfrm>
            <a:off x="609480" y="3276720"/>
            <a:ext cx="2095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trols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50" name=""/>
          <p:cNvSpPr txBox="1"/>
          <p:nvPr/>
        </p:nvSpPr>
        <p:spPr>
          <a:xfrm>
            <a:off x="5143680" y="2666880"/>
            <a:ext cx="2476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ndens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7390440" y="19044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air &amp;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ri/v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prico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3124080" y="1447920"/>
            <a:ext cx="137160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5" name=""/>
          <p:cNvGrpSpPr/>
          <p:nvPr/>
        </p:nvGrpSpPr>
        <p:grpSpPr>
          <a:xfrm>
            <a:off x="3276720" y="1600200"/>
            <a:ext cx="1066680" cy="1066680"/>
            <a:chOff x="3276720" y="1600200"/>
            <a:chExt cx="1066680" cy="1066680"/>
          </a:xfrm>
        </p:grpSpPr>
        <p:sp>
          <p:nvSpPr>
            <p:cNvPr id="3056" name=""/>
            <p:cNvSpPr/>
            <p:nvPr/>
          </p:nvSpPr>
          <p:spPr>
            <a:xfrm>
              <a:off x="32767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429000" y="1752480"/>
              <a:ext cx="76140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8" name=""/>
          <p:cNvSpPr/>
          <p:nvPr/>
        </p:nvSpPr>
        <p:spPr>
          <a:xfrm>
            <a:off x="3124080" y="3886200"/>
            <a:ext cx="1371600" cy="2362320"/>
          </a:xfrm>
          <a:prstGeom prst="rect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3200400" y="3962520"/>
            <a:ext cx="1219320" cy="22096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0" name=""/>
          <p:cNvGrpSpPr/>
          <p:nvPr/>
        </p:nvGrpSpPr>
        <p:grpSpPr>
          <a:xfrm>
            <a:off x="3276720" y="5029200"/>
            <a:ext cx="1066680" cy="1066680"/>
            <a:chOff x="3276720" y="5029200"/>
            <a:chExt cx="1066680" cy="1066680"/>
          </a:xfrm>
        </p:grpSpPr>
        <p:sp>
          <p:nvSpPr>
            <p:cNvPr id="3061" name=""/>
            <p:cNvSpPr/>
            <p:nvPr/>
          </p:nvSpPr>
          <p:spPr>
            <a:xfrm>
              <a:off x="3276720" y="5029200"/>
              <a:ext cx="106668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3429000" y="5181480"/>
              <a:ext cx="761400" cy="76140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3" name=""/>
          <p:cNvSpPr txBox="1"/>
          <p:nvPr/>
        </p:nvSpPr>
        <p:spPr>
          <a:xfrm>
            <a:off x="5219640" y="5257800"/>
            <a:ext cx="2476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evapor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4" name=""/>
          <p:cNvSpPr txBox="1"/>
          <p:nvPr/>
        </p:nvSpPr>
        <p:spPr>
          <a:xfrm>
            <a:off x="609480" y="3276720"/>
            <a:ext cx="2095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ir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trols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65" name=""/>
          <p:cNvSpPr txBox="1"/>
          <p:nvPr/>
        </p:nvSpPr>
        <p:spPr>
          <a:xfrm>
            <a:off x="5143680" y="2666880"/>
            <a:ext cx="2476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ndens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7390440" y="19044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air &amp;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ri/v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ur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1905120" y="3886200"/>
            <a:ext cx="137160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0" name=""/>
          <p:cNvGrpSpPr/>
          <p:nvPr/>
        </p:nvGrpSpPr>
        <p:grpSpPr>
          <a:xfrm>
            <a:off x="2057400" y="5029200"/>
            <a:ext cx="1066680" cy="1066680"/>
            <a:chOff x="2057400" y="5029200"/>
            <a:chExt cx="1066680" cy="1066680"/>
          </a:xfrm>
        </p:grpSpPr>
        <p:sp>
          <p:nvSpPr>
            <p:cNvPr id="3071" name=""/>
            <p:cNvSpPr/>
            <p:nvPr/>
          </p:nvSpPr>
          <p:spPr>
            <a:xfrm>
              <a:off x="2057400" y="50292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2209680" y="518148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3" name=""/>
          <p:cNvSpPr/>
          <p:nvPr/>
        </p:nvSpPr>
        <p:spPr>
          <a:xfrm>
            <a:off x="5791320" y="1447920"/>
            <a:ext cx="1371600" cy="23619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5867280" y="1523880"/>
            <a:ext cx="1219320" cy="2210040"/>
          </a:xfrm>
          <a:prstGeom prst="rect">
            <a:avLst/>
          </a:prstGeom>
          <a:solidFill>
            <a:srgbClr val="00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5" name=""/>
          <p:cNvGrpSpPr/>
          <p:nvPr/>
        </p:nvGrpSpPr>
        <p:grpSpPr>
          <a:xfrm>
            <a:off x="5943600" y="1600200"/>
            <a:ext cx="1066680" cy="1066680"/>
            <a:chOff x="5943600" y="1600200"/>
            <a:chExt cx="1066680" cy="1066680"/>
          </a:xfrm>
        </p:grpSpPr>
        <p:sp>
          <p:nvSpPr>
            <p:cNvPr id="3076" name=""/>
            <p:cNvSpPr/>
            <p:nvPr/>
          </p:nvSpPr>
          <p:spPr>
            <a:xfrm>
              <a:off x="5943600" y="1600200"/>
              <a:ext cx="1066680" cy="1066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095880" y="1752480"/>
              <a:ext cx="762120" cy="7614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8" name=""/>
          <p:cNvSpPr txBox="1"/>
          <p:nvPr/>
        </p:nvSpPr>
        <p:spPr>
          <a:xfrm>
            <a:off x="990720" y="2362320"/>
            <a:ext cx="3200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pirit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eaningfull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pplied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9" name=""/>
          <p:cNvSpPr txBox="1"/>
          <p:nvPr/>
        </p:nvSpPr>
        <p:spPr>
          <a:xfrm>
            <a:off x="4191120" y="4800600"/>
            <a:ext cx="2552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sensation with meaning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more(spirit) or less(mind)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3580560" y="5883120"/>
            <a:ext cx="291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yper ^2 S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ith Watery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7161120" y="190440"/>
            <a:ext cx="18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water &amp;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= tau-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corp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5791320" y="1447920"/>
            <a:ext cx="137160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5867280" y="1523880"/>
            <a:ext cx="121932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5" name=""/>
          <p:cNvGrpSpPr/>
          <p:nvPr/>
        </p:nvGrpSpPr>
        <p:grpSpPr>
          <a:xfrm>
            <a:off x="5943600" y="1600200"/>
            <a:ext cx="1066680" cy="1066680"/>
            <a:chOff x="5943600" y="1600200"/>
            <a:chExt cx="1066680" cy="1066680"/>
          </a:xfrm>
        </p:grpSpPr>
        <p:sp>
          <p:nvSpPr>
            <p:cNvPr id="3086" name=""/>
            <p:cNvSpPr/>
            <p:nvPr/>
          </p:nvSpPr>
          <p:spPr>
            <a:xfrm>
              <a:off x="594360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095880" y="175248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8" name=""/>
          <p:cNvSpPr/>
          <p:nvPr/>
        </p:nvSpPr>
        <p:spPr>
          <a:xfrm>
            <a:off x="1905120" y="3886200"/>
            <a:ext cx="1371600" cy="2362320"/>
          </a:xfrm>
          <a:prstGeom prst="rect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0" name=""/>
          <p:cNvGrpSpPr/>
          <p:nvPr/>
        </p:nvGrpSpPr>
        <p:grpSpPr>
          <a:xfrm>
            <a:off x="2057400" y="5029200"/>
            <a:ext cx="1066680" cy="1066680"/>
            <a:chOff x="2057400" y="5029200"/>
            <a:chExt cx="1066680" cy="1066680"/>
          </a:xfrm>
        </p:grpSpPr>
        <p:sp>
          <p:nvSpPr>
            <p:cNvPr id="3091" name=""/>
            <p:cNvSpPr/>
            <p:nvPr/>
          </p:nvSpPr>
          <p:spPr>
            <a:xfrm>
              <a:off x="2057400" y="5029200"/>
              <a:ext cx="1066680" cy="1066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209680" y="5181480"/>
              <a:ext cx="762120" cy="76140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3" name=""/>
          <p:cNvSpPr txBox="1"/>
          <p:nvPr/>
        </p:nvSpPr>
        <p:spPr>
          <a:xfrm>
            <a:off x="4191120" y="4800600"/>
            <a:ext cx="2552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sensation with meaning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more(spirit) or less(mind)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4" name=""/>
          <p:cNvSpPr txBox="1"/>
          <p:nvPr/>
        </p:nvSpPr>
        <p:spPr>
          <a:xfrm>
            <a:off x="2362320" y="1523880"/>
            <a:ext cx="32004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ind mad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eaning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Fel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7161120" y="190440"/>
            <a:ext cx="18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water &amp;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= tau-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s physical. Out there. Somatic. Truth in what is. Bedrock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.. Do you see 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676520" y="2438280"/>
            <a:ext cx="601956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Astrology tells us so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5791320" y="3886200"/>
            <a:ext cx="137160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9" name=""/>
          <p:cNvGrpSpPr/>
          <p:nvPr/>
        </p:nvGrpSpPr>
        <p:grpSpPr>
          <a:xfrm>
            <a:off x="5943600" y="5029200"/>
            <a:ext cx="1066680" cy="1066680"/>
            <a:chOff x="5943600" y="5029200"/>
            <a:chExt cx="1066680" cy="1066680"/>
          </a:xfrm>
        </p:grpSpPr>
        <p:sp>
          <p:nvSpPr>
            <p:cNvPr id="3100" name=""/>
            <p:cNvSpPr/>
            <p:nvPr/>
          </p:nvSpPr>
          <p:spPr>
            <a:xfrm>
              <a:off x="594360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095880" y="518148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2" name=""/>
          <p:cNvSpPr/>
          <p:nvPr/>
        </p:nvSpPr>
        <p:spPr>
          <a:xfrm>
            <a:off x="1905120" y="1447920"/>
            <a:ext cx="1371600" cy="236196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4" name=""/>
          <p:cNvGrpSpPr/>
          <p:nvPr/>
        </p:nvGrpSpPr>
        <p:grpSpPr>
          <a:xfrm>
            <a:off x="2057400" y="1600200"/>
            <a:ext cx="1066680" cy="1066680"/>
            <a:chOff x="2057400" y="1600200"/>
            <a:chExt cx="1066680" cy="1066680"/>
          </a:xfrm>
        </p:grpSpPr>
        <p:sp>
          <p:nvSpPr>
            <p:cNvPr id="3105" name=""/>
            <p:cNvSpPr/>
            <p:nvPr/>
          </p:nvSpPr>
          <p:spPr>
            <a:xfrm>
              <a:off x="2057400" y="1600200"/>
              <a:ext cx="1066680" cy="1066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209680" y="1752480"/>
              <a:ext cx="762120" cy="761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7" name=""/>
          <p:cNvSpPr txBox="1"/>
          <p:nvPr/>
        </p:nvSpPr>
        <p:spPr>
          <a:xfrm>
            <a:off x="3962520" y="1752480"/>
            <a:ext cx="3543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re vs Air</a:t>
            </a:r>
            <a:endParaRPr b="0" lang="en-US" sz="2400" spc="1" strike="noStrike">
              <a:ln w="12600">
                <a:solidFill>
                  <a:srgbClr val="cc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08" name=""/>
          <p:cNvSpPr txBox="1"/>
          <p:nvPr/>
        </p:nvSpPr>
        <p:spPr>
          <a:xfrm>
            <a:off x="2400480" y="5410080"/>
            <a:ext cx="1942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burning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9" name=""/>
          <p:cNvSpPr txBox="1"/>
          <p:nvPr/>
        </p:nvSpPr>
        <p:spPr>
          <a:xfrm>
            <a:off x="1924200" y="4114800"/>
            <a:ext cx="219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peed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Forethough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10" name=""/>
          <p:cNvSpPr txBox="1"/>
          <p:nvPr/>
        </p:nvSpPr>
        <p:spPr>
          <a:xfrm>
            <a:off x="3219480" y="5181480"/>
            <a:ext cx="219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assion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ncarnat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11" name=""/>
          <p:cNvSpPr txBox="1"/>
          <p:nvPr/>
        </p:nvSpPr>
        <p:spPr>
          <a:xfrm>
            <a:off x="990720" y="4267080"/>
            <a:ext cx="1942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ryn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7390080" y="19044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fire &amp;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= leo-aq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quari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905120" y="1447920"/>
            <a:ext cx="137160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6" name=""/>
          <p:cNvGrpSpPr/>
          <p:nvPr/>
        </p:nvGrpSpPr>
        <p:grpSpPr>
          <a:xfrm>
            <a:off x="2057400" y="1600200"/>
            <a:ext cx="1066680" cy="1066680"/>
            <a:chOff x="2057400" y="1600200"/>
            <a:chExt cx="1066680" cy="1066680"/>
          </a:xfrm>
        </p:grpSpPr>
        <p:sp>
          <p:nvSpPr>
            <p:cNvPr id="3117" name=""/>
            <p:cNvSpPr/>
            <p:nvPr/>
          </p:nvSpPr>
          <p:spPr>
            <a:xfrm>
              <a:off x="2057400" y="1600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209680" y="175248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9" name=""/>
          <p:cNvSpPr/>
          <p:nvPr/>
        </p:nvSpPr>
        <p:spPr>
          <a:xfrm>
            <a:off x="5791320" y="3886200"/>
            <a:ext cx="1371600" cy="2362320"/>
          </a:xfrm>
          <a:prstGeom prst="rect">
            <a:avLst/>
          </a:prstGeom>
          <a:solidFill>
            <a:srgbClr val="00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1" name=""/>
          <p:cNvGrpSpPr/>
          <p:nvPr/>
        </p:nvGrpSpPr>
        <p:grpSpPr>
          <a:xfrm>
            <a:off x="5943600" y="5029200"/>
            <a:ext cx="1066680" cy="1066680"/>
            <a:chOff x="5943600" y="5029200"/>
            <a:chExt cx="1066680" cy="1066680"/>
          </a:xfrm>
        </p:grpSpPr>
        <p:sp>
          <p:nvSpPr>
            <p:cNvPr id="3122" name=""/>
            <p:cNvSpPr/>
            <p:nvPr/>
          </p:nvSpPr>
          <p:spPr>
            <a:xfrm>
              <a:off x="5943600" y="5029200"/>
              <a:ext cx="106668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095880" y="5181480"/>
              <a:ext cx="762120" cy="76140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4" name=""/>
          <p:cNvSpPr txBox="1"/>
          <p:nvPr/>
        </p:nvSpPr>
        <p:spPr>
          <a:xfrm>
            <a:off x="1924200" y="4114800"/>
            <a:ext cx="219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peed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Forethough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25" name=""/>
          <p:cNvSpPr txBox="1"/>
          <p:nvPr/>
        </p:nvSpPr>
        <p:spPr>
          <a:xfrm>
            <a:off x="3962520" y="1752480"/>
            <a:ext cx="3543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ir vs Fire</a:t>
            </a:r>
            <a:endParaRPr b="0" lang="en-US" sz="2400" spc="1" strike="noStrike">
              <a:ln w="12600">
                <a:solidFill>
                  <a:srgbClr val="cc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26" name=""/>
          <p:cNvSpPr txBox="1"/>
          <p:nvPr/>
        </p:nvSpPr>
        <p:spPr>
          <a:xfrm>
            <a:off x="2400480" y="5410080"/>
            <a:ext cx="1942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burning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27" name=""/>
          <p:cNvSpPr txBox="1"/>
          <p:nvPr/>
        </p:nvSpPr>
        <p:spPr>
          <a:xfrm>
            <a:off x="3219480" y="5181480"/>
            <a:ext cx="219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assion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ncarnat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28" name=""/>
          <p:cNvSpPr txBox="1"/>
          <p:nvPr/>
        </p:nvSpPr>
        <p:spPr>
          <a:xfrm>
            <a:off x="990720" y="4267080"/>
            <a:ext cx="1942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ryn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331560" y="609480"/>
            <a:ext cx="24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yper ^2 S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ith Airy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7390080" y="19044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fire &amp;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= leo-aq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1981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 Sig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2" name=""/>
          <p:cNvGrpSpPr/>
          <p:nvPr/>
        </p:nvGrpSpPr>
        <p:grpSpPr>
          <a:xfrm>
            <a:off x="3200400" y="990720"/>
            <a:ext cx="1066680" cy="1066680"/>
            <a:chOff x="3200400" y="990720"/>
            <a:chExt cx="1066680" cy="1066680"/>
          </a:xfrm>
        </p:grpSpPr>
        <p:sp>
          <p:nvSpPr>
            <p:cNvPr id="3133" name=""/>
            <p:cNvSpPr/>
            <p:nvPr/>
          </p:nvSpPr>
          <p:spPr>
            <a:xfrm>
              <a:off x="3200400" y="99072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3276360" y="1066680"/>
              <a:ext cx="228240" cy="228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5" name=""/>
          <p:cNvGrpSpPr/>
          <p:nvPr/>
        </p:nvGrpSpPr>
        <p:grpSpPr>
          <a:xfrm>
            <a:off x="5638680" y="990720"/>
            <a:ext cx="1066680" cy="1066680"/>
            <a:chOff x="5638680" y="990720"/>
            <a:chExt cx="1066680" cy="1066680"/>
          </a:xfrm>
        </p:grpSpPr>
        <p:sp>
          <p:nvSpPr>
            <p:cNvPr id="3136" name=""/>
            <p:cNvSpPr/>
            <p:nvPr/>
          </p:nvSpPr>
          <p:spPr>
            <a:xfrm>
              <a:off x="5638680" y="99072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5790960" y="114300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8" name=""/>
          <p:cNvGrpSpPr/>
          <p:nvPr/>
        </p:nvGrpSpPr>
        <p:grpSpPr>
          <a:xfrm>
            <a:off x="4419720" y="990720"/>
            <a:ext cx="1066680" cy="1066680"/>
            <a:chOff x="4419720" y="990720"/>
            <a:chExt cx="1066680" cy="1066680"/>
          </a:xfrm>
        </p:grpSpPr>
        <p:sp>
          <p:nvSpPr>
            <p:cNvPr id="3139" name=""/>
            <p:cNvSpPr/>
            <p:nvPr/>
          </p:nvSpPr>
          <p:spPr>
            <a:xfrm>
              <a:off x="4419720" y="99072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572000" y="1143000"/>
              <a:ext cx="76140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1" name=""/>
          <p:cNvGrpSpPr/>
          <p:nvPr/>
        </p:nvGrpSpPr>
        <p:grpSpPr>
          <a:xfrm>
            <a:off x="4419720" y="4648320"/>
            <a:ext cx="1066680" cy="1066680"/>
            <a:chOff x="4419720" y="4648320"/>
            <a:chExt cx="1066680" cy="1066680"/>
          </a:xfrm>
        </p:grpSpPr>
        <p:sp>
          <p:nvSpPr>
            <p:cNvPr id="3142" name=""/>
            <p:cNvSpPr/>
            <p:nvPr/>
          </p:nvSpPr>
          <p:spPr>
            <a:xfrm>
              <a:off x="4419720" y="46483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572000" y="480060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4" name=""/>
          <p:cNvGrpSpPr/>
          <p:nvPr/>
        </p:nvGrpSpPr>
        <p:grpSpPr>
          <a:xfrm>
            <a:off x="3200400" y="4648320"/>
            <a:ext cx="1066680" cy="1066680"/>
            <a:chOff x="3200400" y="4648320"/>
            <a:chExt cx="1066680" cy="1066680"/>
          </a:xfrm>
        </p:grpSpPr>
        <p:sp>
          <p:nvSpPr>
            <p:cNvPr id="3145" name=""/>
            <p:cNvSpPr/>
            <p:nvPr/>
          </p:nvSpPr>
          <p:spPr>
            <a:xfrm>
              <a:off x="3200400" y="46483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3276360" y="4724280"/>
              <a:ext cx="22824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7" name=""/>
          <p:cNvGrpSpPr/>
          <p:nvPr/>
        </p:nvGrpSpPr>
        <p:grpSpPr>
          <a:xfrm>
            <a:off x="5638680" y="4648320"/>
            <a:ext cx="1066680" cy="1066680"/>
            <a:chOff x="5638680" y="4648320"/>
            <a:chExt cx="1066680" cy="1066680"/>
          </a:xfrm>
        </p:grpSpPr>
        <p:sp>
          <p:nvSpPr>
            <p:cNvPr id="3148" name=""/>
            <p:cNvSpPr/>
            <p:nvPr/>
          </p:nvSpPr>
          <p:spPr>
            <a:xfrm>
              <a:off x="5638680" y="46483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790960" y="480060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0" name=""/>
          <p:cNvGrpSpPr/>
          <p:nvPr/>
        </p:nvGrpSpPr>
        <p:grpSpPr>
          <a:xfrm>
            <a:off x="5638680" y="3429000"/>
            <a:ext cx="1066680" cy="1066680"/>
            <a:chOff x="5638680" y="3429000"/>
            <a:chExt cx="1066680" cy="1066680"/>
          </a:xfrm>
        </p:grpSpPr>
        <p:sp>
          <p:nvSpPr>
            <p:cNvPr id="3151" name=""/>
            <p:cNvSpPr/>
            <p:nvPr/>
          </p:nvSpPr>
          <p:spPr>
            <a:xfrm>
              <a:off x="5638680" y="34290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5790960" y="358128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3" name=""/>
          <p:cNvGrpSpPr/>
          <p:nvPr/>
        </p:nvGrpSpPr>
        <p:grpSpPr>
          <a:xfrm>
            <a:off x="4419720" y="3429000"/>
            <a:ext cx="1066680" cy="1066680"/>
            <a:chOff x="4419720" y="3429000"/>
            <a:chExt cx="1066680" cy="1066680"/>
          </a:xfrm>
        </p:grpSpPr>
        <p:sp>
          <p:nvSpPr>
            <p:cNvPr id="3154" name=""/>
            <p:cNvSpPr/>
            <p:nvPr/>
          </p:nvSpPr>
          <p:spPr>
            <a:xfrm>
              <a:off x="4419720" y="34290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4572000" y="358128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6" name=""/>
          <p:cNvGrpSpPr/>
          <p:nvPr/>
        </p:nvGrpSpPr>
        <p:grpSpPr>
          <a:xfrm>
            <a:off x="3200400" y="3429000"/>
            <a:ext cx="1066680" cy="1066680"/>
            <a:chOff x="3200400" y="3429000"/>
            <a:chExt cx="1066680" cy="1066680"/>
          </a:xfrm>
        </p:grpSpPr>
        <p:sp>
          <p:nvSpPr>
            <p:cNvPr id="3157" name=""/>
            <p:cNvSpPr/>
            <p:nvPr/>
          </p:nvSpPr>
          <p:spPr>
            <a:xfrm>
              <a:off x="3200400" y="34290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3276360" y="3505320"/>
              <a:ext cx="2282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9" name=""/>
          <p:cNvGrpSpPr/>
          <p:nvPr/>
        </p:nvGrpSpPr>
        <p:grpSpPr>
          <a:xfrm>
            <a:off x="3200400" y="2209680"/>
            <a:ext cx="1066680" cy="1066680"/>
            <a:chOff x="3200400" y="2209680"/>
            <a:chExt cx="1066680" cy="1066680"/>
          </a:xfrm>
        </p:grpSpPr>
        <p:sp>
          <p:nvSpPr>
            <p:cNvPr id="3160" name=""/>
            <p:cNvSpPr/>
            <p:nvPr/>
          </p:nvSpPr>
          <p:spPr>
            <a:xfrm>
              <a:off x="3200400" y="220968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3276360" y="2285640"/>
              <a:ext cx="22824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2" name=""/>
          <p:cNvGrpSpPr/>
          <p:nvPr/>
        </p:nvGrpSpPr>
        <p:grpSpPr>
          <a:xfrm>
            <a:off x="5638680" y="2209680"/>
            <a:ext cx="1066680" cy="1067040"/>
            <a:chOff x="5638680" y="2209680"/>
            <a:chExt cx="1066680" cy="1067040"/>
          </a:xfrm>
        </p:grpSpPr>
        <p:sp>
          <p:nvSpPr>
            <p:cNvPr id="3163" name=""/>
            <p:cNvSpPr/>
            <p:nvPr/>
          </p:nvSpPr>
          <p:spPr>
            <a:xfrm>
              <a:off x="5638680" y="2209680"/>
              <a:ext cx="10666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5790960" y="2362320"/>
              <a:ext cx="762120" cy="7617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5" name=""/>
          <p:cNvGrpSpPr/>
          <p:nvPr/>
        </p:nvGrpSpPr>
        <p:grpSpPr>
          <a:xfrm>
            <a:off x="4419720" y="2209680"/>
            <a:ext cx="1066680" cy="1066680"/>
            <a:chOff x="4419720" y="2209680"/>
            <a:chExt cx="1066680" cy="1066680"/>
          </a:xfrm>
        </p:grpSpPr>
        <p:sp>
          <p:nvSpPr>
            <p:cNvPr id="3166" name=""/>
            <p:cNvSpPr/>
            <p:nvPr/>
          </p:nvSpPr>
          <p:spPr>
            <a:xfrm>
              <a:off x="4419720" y="220968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572000" y="2361960"/>
              <a:ext cx="761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q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 Signs, 12 Formu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9" name=""/>
          <p:cNvGrpSpPr/>
          <p:nvPr/>
        </p:nvGrpSpPr>
        <p:grpSpPr>
          <a:xfrm>
            <a:off x="838080" y="1143000"/>
            <a:ext cx="1067040" cy="1066680"/>
            <a:chOff x="838080" y="1143000"/>
            <a:chExt cx="1067040" cy="1066680"/>
          </a:xfrm>
        </p:grpSpPr>
        <p:sp>
          <p:nvSpPr>
            <p:cNvPr id="3170" name=""/>
            <p:cNvSpPr/>
            <p:nvPr/>
          </p:nvSpPr>
          <p:spPr>
            <a:xfrm>
              <a:off x="838080" y="11430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914400" y="1218960"/>
              <a:ext cx="228600" cy="228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2" name=""/>
          <p:cNvGrpSpPr/>
          <p:nvPr/>
        </p:nvGrpSpPr>
        <p:grpSpPr>
          <a:xfrm>
            <a:off x="6019920" y="1143000"/>
            <a:ext cx="1066680" cy="1066680"/>
            <a:chOff x="6019920" y="1143000"/>
            <a:chExt cx="1066680" cy="1066680"/>
          </a:xfrm>
        </p:grpSpPr>
        <p:sp>
          <p:nvSpPr>
            <p:cNvPr id="3173" name=""/>
            <p:cNvSpPr/>
            <p:nvPr/>
          </p:nvSpPr>
          <p:spPr>
            <a:xfrm>
              <a:off x="6019920" y="11430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6172200" y="129528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5" name=""/>
          <p:cNvGrpSpPr/>
          <p:nvPr/>
        </p:nvGrpSpPr>
        <p:grpSpPr>
          <a:xfrm>
            <a:off x="3429000" y="1143000"/>
            <a:ext cx="1066680" cy="1066680"/>
            <a:chOff x="3429000" y="1143000"/>
            <a:chExt cx="1066680" cy="1066680"/>
          </a:xfrm>
        </p:grpSpPr>
        <p:sp>
          <p:nvSpPr>
            <p:cNvPr id="3176" name=""/>
            <p:cNvSpPr/>
            <p:nvPr/>
          </p:nvSpPr>
          <p:spPr>
            <a:xfrm>
              <a:off x="3429000" y="11430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3581280" y="1295280"/>
              <a:ext cx="76140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8" name=""/>
          <p:cNvGrpSpPr/>
          <p:nvPr/>
        </p:nvGrpSpPr>
        <p:grpSpPr>
          <a:xfrm>
            <a:off x="3429000" y="4800600"/>
            <a:ext cx="1066680" cy="1066680"/>
            <a:chOff x="3429000" y="4800600"/>
            <a:chExt cx="1066680" cy="1066680"/>
          </a:xfrm>
        </p:grpSpPr>
        <p:sp>
          <p:nvSpPr>
            <p:cNvPr id="3179" name=""/>
            <p:cNvSpPr/>
            <p:nvPr/>
          </p:nvSpPr>
          <p:spPr>
            <a:xfrm>
              <a:off x="3429000" y="48006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581280" y="495288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1" name=""/>
          <p:cNvGrpSpPr/>
          <p:nvPr/>
        </p:nvGrpSpPr>
        <p:grpSpPr>
          <a:xfrm>
            <a:off x="838080" y="4800600"/>
            <a:ext cx="1067040" cy="1066680"/>
            <a:chOff x="838080" y="4800600"/>
            <a:chExt cx="1067040" cy="1066680"/>
          </a:xfrm>
        </p:grpSpPr>
        <p:sp>
          <p:nvSpPr>
            <p:cNvPr id="3182" name=""/>
            <p:cNvSpPr/>
            <p:nvPr/>
          </p:nvSpPr>
          <p:spPr>
            <a:xfrm>
              <a:off x="838080" y="4800600"/>
              <a:ext cx="106704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914400" y="4876560"/>
              <a:ext cx="22860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4" name=""/>
          <p:cNvGrpSpPr/>
          <p:nvPr/>
        </p:nvGrpSpPr>
        <p:grpSpPr>
          <a:xfrm>
            <a:off x="6019920" y="4800600"/>
            <a:ext cx="1066680" cy="1066680"/>
            <a:chOff x="6019920" y="4800600"/>
            <a:chExt cx="1066680" cy="1066680"/>
          </a:xfrm>
        </p:grpSpPr>
        <p:sp>
          <p:nvSpPr>
            <p:cNvPr id="3185" name=""/>
            <p:cNvSpPr/>
            <p:nvPr/>
          </p:nvSpPr>
          <p:spPr>
            <a:xfrm>
              <a:off x="6019920" y="48006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172200" y="495288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7" name=""/>
          <p:cNvGrpSpPr/>
          <p:nvPr/>
        </p:nvGrpSpPr>
        <p:grpSpPr>
          <a:xfrm>
            <a:off x="6019920" y="3581280"/>
            <a:ext cx="1066680" cy="1067040"/>
            <a:chOff x="6019920" y="3581280"/>
            <a:chExt cx="1066680" cy="1067040"/>
          </a:xfrm>
        </p:grpSpPr>
        <p:sp>
          <p:nvSpPr>
            <p:cNvPr id="3188" name=""/>
            <p:cNvSpPr/>
            <p:nvPr/>
          </p:nvSpPr>
          <p:spPr>
            <a:xfrm>
              <a:off x="6019920" y="3581280"/>
              <a:ext cx="1066680" cy="1067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6172200" y="3733920"/>
              <a:ext cx="762120" cy="7617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0" name=""/>
          <p:cNvGrpSpPr/>
          <p:nvPr/>
        </p:nvGrpSpPr>
        <p:grpSpPr>
          <a:xfrm>
            <a:off x="3429000" y="3581280"/>
            <a:ext cx="1066680" cy="1067040"/>
            <a:chOff x="3429000" y="3581280"/>
            <a:chExt cx="1066680" cy="1067040"/>
          </a:xfrm>
        </p:grpSpPr>
        <p:sp>
          <p:nvSpPr>
            <p:cNvPr id="3191" name=""/>
            <p:cNvSpPr/>
            <p:nvPr/>
          </p:nvSpPr>
          <p:spPr>
            <a:xfrm>
              <a:off x="3429000" y="3581280"/>
              <a:ext cx="1066680" cy="1067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581280" y="3733920"/>
              <a:ext cx="761400" cy="7617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3" name=""/>
          <p:cNvGrpSpPr/>
          <p:nvPr/>
        </p:nvGrpSpPr>
        <p:grpSpPr>
          <a:xfrm>
            <a:off x="838080" y="3581280"/>
            <a:ext cx="1067040" cy="1066680"/>
            <a:chOff x="838080" y="3581280"/>
            <a:chExt cx="1067040" cy="1066680"/>
          </a:xfrm>
        </p:grpSpPr>
        <p:sp>
          <p:nvSpPr>
            <p:cNvPr id="3194" name=""/>
            <p:cNvSpPr/>
            <p:nvPr/>
          </p:nvSpPr>
          <p:spPr>
            <a:xfrm>
              <a:off x="838080" y="358128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9144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6" name=""/>
          <p:cNvGrpSpPr/>
          <p:nvPr/>
        </p:nvGrpSpPr>
        <p:grpSpPr>
          <a:xfrm>
            <a:off x="838080" y="2362320"/>
            <a:ext cx="1067040" cy="1066680"/>
            <a:chOff x="838080" y="2362320"/>
            <a:chExt cx="1067040" cy="1066680"/>
          </a:xfrm>
        </p:grpSpPr>
        <p:sp>
          <p:nvSpPr>
            <p:cNvPr id="3197" name=""/>
            <p:cNvSpPr/>
            <p:nvPr/>
          </p:nvSpPr>
          <p:spPr>
            <a:xfrm>
              <a:off x="838080" y="236232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914400" y="2438280"/>
              <a:ext cx="22860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9" name=""/>
          <p:cNvGrpSpPr/>
          <p:nvPr/>
        </p:nvGrpSpPr>
        <p:grpSpPr>
          <a:xfrm>
            <a:off x="6019920" y="2362320"/>
            <a:ext cx="1066680" cy="1066680"/>
            <a:chOff x="6019920" y="2362320"/>
            <a:chExt cx="1066680" cy="1066680"/>
          </a:xfrm>
        </p:grpSpPr>
        <p:sp>
          <p:nvSpPr>
            <p:cNvPr id="3200" name=""/>
            <p:cNvSpPr/>
            <p:nvPr/>
          </p:nvSpPr>
          <p:spPr>
            <a:xfrm>
              <a:off x="6019920" y="236232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172200" y="251460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2" name=""/>
          <p:cNvGrpSpPr/>
          <p:nvPr/>
        </p:nvGrpSpPr>
        <p:grpSpPr>
          <a:xfrm>
            <a:off x="3429000" y="2362320"/>
            <a:ext cx="1066680" cy="1066680"/>
            <a:chOff x="3429000" y="2362320"/>
            <a:chExt cx="1066680" cy="1066680"/>
          </a:xfrm>
        </p:grpSpPr>
        <p:sp>
          <p:nvSpPr>
            <p:cNvPr id="3203" name=""/>
            <p:cNvSpPr/>
            <p:nvPr/>
          </p:nvSpPr>
          <p:spPr>
            <a:xfrm>
              <a:off x="3429000" y="236232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581280" y="2514600"/>
              <a:ext cx="761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q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5" name=""/>
          <p:cNvGrpSpPr/>
          <p:nvPr/>
        </p:nvGrpSpPr>
        <p:grpSpPr>
          <a:xfrm>
            <a:off x="1981080" y="1143000"/>
            <a:ext cx="1067040" cy="1066680"/>
            <a:chOff x="1981080" y="1143000"/>
            <a:chExt cx="1067040" cy="1066680"/>
          </a:xfrm>
        </p:grpSpPr>
        <p:sp>
          <p:nvSpPr>
            <p:cNvPr id="3206" name=""/>
            <p:cNvSpPr/>
            <p:nvPr/>
          </p:nvSpPr>
          <p:spPr>
            <a:xfrm>
              <a:off x="1981080" y="11430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Air^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/ Ea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057400" y="1218960"/>
              <a:ext cx="228600" cy="228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8" name=""/>
          <p:cNvGrpSpPr/>
          <p:nvPr/>
        </p:nvGrpSpPr>
        <p:grpSpPr>
          <a:xfrm>
            <a:off x="7162920" y="1143000"/>
            <a:ext cx="1066680" cy="1066680"/>
            <a:chOff x="7162920" y="1143000"/>
            <a:chExt cx="1066680" cy="1066680"/>
          </a:xfrm>
        </p:grpSpPr>
        <p:sp>
          <p:nvSpPr>
            <p:cNvPr id="3209" name=""/>
            <p:cNvSpPr/>
            <p:nvPr/>
          </p:nvSpPr>
          <p:spPr>
            <a:xfrm>
              <a:off x="7162920" y="11430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7315200" y="129528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 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1" name=""/>
          <p:cNvGrpSpPr/>
          <p:nvPr/>
        </p:nvGrpSpPr>
        <p:grpSpPr>
          <a:xfrm>
            <a:off x="4572000" y="1143000"/>
            <a:ext cx="1066680" cy="1066680"/>
            <a:chOff x="4572000" y="1143000"/>
            <a:chExt cx="1066680" cy="1066680"/>
          </a:xfrm>
        </p:grpSpPr>
        <p:sp>
          <p:nvSpPr>
            <p:cNvPr id="3212" name=""/>
            <p:cNvSpPr/>
            <p:nvPr/>
          </p:nvSpPr>
          <p:spPr>
            <a:xfrm>
              <a:off x="4572000" y="11430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4724280" y="1295280"/>
              <a:ext cx="76140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ate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 Ea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4" name=""/>
          <p:cNvGrpSpPr/>
          <p:nvPr/>
        </p:nvGrpSpPr>
        <p:grpSpPr>
          <a:xfrm>
            <a:off x="4572000" y="4800600"/>
            <a:ext cx="1066680" cy="1066680"/>
            <a:chOff x="4572000" y="4800600"/>
            <a:chExt cx="1066680" cy="1066680"/>
          </a:xfrm>
        </p:grpSpPr>
        <p:sp>
          <p:nvSpPr>
            <p:cNvPr id="3215" name=""/>
            <p:cNvSpPr/>
            <p:nvPr/>
          </p:nvSpPr>
          <p:spPr>
            <a:xfrm>
              <a:off x="4572000" y="48006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4724280" y="495288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 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7" name=""/>
          <p:cNvGrpSpPr/>
          <p:nvPr/>
        </p:nvGrpSpPr>
        <p:grpSpPr>
          <a:xfrm>
            <a:off x="1981080" y="4800600"/>
            <a:ext cx="1067040" cy="1066680"/>
            <a:chOff x="1981080" y="4800600"/>
            <a:chExt cx="1067040" cy="1066680"/>
          </a:xfrm>
        </p:grpSpPr>
        <p:sp>
          <p:nvSpPr>
            <p:cNvPr id="3218" name=""/>
            <p:cNvSpPr/>
            <p:nvPr/>
          </p:nvSpPr>
          <p:spPr>
            <a:xfrm>
              <a:off x="1981080" y="4800600"/>
              <a:ext cx="106704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sq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F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/Ea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057400" y="4876560"/>
              <a:ext cx="22860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0" name=""/>
          <p:cNvGrpSpPr/>
          <p:nvPr/>
        </p:nvGrpSpPr>
        <p:grpSpPr>
          <a:xfrm>
            <a:off x="7162920" y="4800600"/>
            <a:ext cx="1066680" cy="1066680"/>
            <a:chOff x="7162920" y="4800600"/>
            <a:chExt cx="1066680" cy="1066680"/>
          </a:xfrm>
        </p:grpSpPr>
        <p:sp>
          <p:nvSpPr>
            <p:cNvPr id="3221" name=""/>
            <p:cNvSpPr/>
            <p:nvPr/>
          </p:nvSpPr>
          <p:spPr>
            <a:xfrm>
              <a:off x="7162920" y="48006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7315200" y="495288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 Ea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3" name=""/>
          <p:cNvGrpSpPr/>
          <p:nvPr/>
        </p:nvGrpSpPr>
        <p:grpSpPr>
          <a:xfrm>
            <a:off x="7162920" y="3581280"/>
            <a:ext cx="1066680" cy="1067040"/>
            <a:chOff x="7162920" y="3581280"/>
            <a:chExt cx="1066680" cy="1067040"/>
          </a:xfrm>
        </p:grpSpPr>
        <p:sp>
          <p:nvSpPr>
            <p:cNvPr id="3224" name=""/>
            <p:cNvSpPr/>
            <p:nvPr/>
          </p:nvSpPr>
          <p:spPr>
            <a:xfrm>
              <a:off x="7162920" y="3581280"/>
              <a:ext cx="1066680" cy="1067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7315200" y="3733920"/>
              <a:ext cx="762120" cy="7617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q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 Ea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6" name=""/>
          <p:cNvGrpSpPr/>
          <p:nvPr/>
        </p:nvGrpSpPr>
        <p:grpSpPr>
          <a:xfrm>
            <a:off x="4572000" y="3581280"/>
            <a:ext cx="1066680" cy="1067040"/>
            <a:chOff x="4572000" y="3581280"/>
            <a:chExt cx="1066680" cy="1067040"/>
          </a:xfrm>
        </p:grpSpPr>
        <p:sp>
          <p:nvSpPr>
            <p:cNvPr id="3227" name=""/>
            <p:cNvSpPr/>
            <p:nvPr/>
          </p:nvSpPr>
          <p:spPr>
            <a:xfrm>
              <a:off x="4572000" y="3581280"/>
              <a:ext cx="1066680" cy="1067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4724280" y="3733920"/>
              <a:ext cx="761400" cy="7617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 Ea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9" name=""/>
          <p:cNvGrpSpPr/>
          <p:nvPr/>
        </p:nvGrpSpPr>
        <p:grpSpPr>
          <a:xfrm>
            <a:off x="1981080" y="3581280"/>
            <a:ext cx="1067040" cy="1066680"/>
            <a:chOff x="1981080" y="3581280"/>
            <a:chExt cx="1067040" cy="1066680"/>
          </a:xfrm>
        </p:grpSpPr>
        <p:sp>
          <p:nvSpPr>
            <p:cNvPr id="3230" name=""/>
            <p:cNvSpPr/>
            <p:nvPr/>
          </p:nvSpPr>
          <p:spPr>
            <a:xfrm>
              <a:off x="1981080" y="358128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F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/ W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0574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2" name=""/>
          <p:cNvGrpSpPr/>
          <p:nvPr/>
        </p:nvGrpSpPr>
        <p:grpSpPr>
          <a:xfrm>
            <a:off x="1981080" y="2362320"/>
            <a:ext cx="1067040" cy="1066680"/>
            <a:chOff x="1981080" y="2362320"/>
            <a:chExt cx="1067040" cy="1066680"/>
          </a:xfrm>
        </p:grpSpPr>
        <p:sp>
          <p:nvSpPr>
            <p:cNvPr id="3233" name=""/>
            <p:cNvSpPr/>
            <p:nvPr/>
          </p:nvSpPr>
          <p:spPr>
            <a:xfrm>
              <a:off x="1981080" y="236232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/ W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057400" y="2438280"/>
              <a:ext cx="22860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5" name=""/>
          <p:cNvGrpSpPr/>
          <p:nvPr/>
        </p:nvGrpSpPr>
        <p:grpSpPr>
          <a:xfrm>
            <a:off x="7162920" y="2362320"/>
            <a:ext cx="1066680" cy="1066680"/>
            <a:chOff x="7162920" y="2362320"/>
            <a:chExt cx="1066680" cy="1066680"/>
          </a:xfrm>
        </p:grpSpPr>
        <p:sp>
          <p:nvSpPr>
            <p:cNvPr id="3236" name=""/>
            <p:cNvSpPr/>
            <p:nvPr/>
          </p:nvSpPr>
          <p:spPr>
            <a:xfrm>
              <a:off x="7162920" y="236232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315200" y="251460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re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ate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8" name=""/>
          <p:cNvGrpSpPr/>
          <p:nvPr/>
        </p:nvGrpSpPr>
        <p:grpSpPr>
          <a:xfrm>
            <a:off x="4572000" y="2362320"/>
            <a:ext cx="1066680" cy="1066680"/>
            <a:chOff x="4572000" y="2362320"/>
            <a:chExt cx="1066680" cy="1066680"/>
          </a:xfrm>
        </p:grpSpPr>
        <p:sp>
          <p:nvSpPr>
            <p:cNvPr id="3239" name=""/>
            <p:cNvSpPr/>
            <p:nvPr/>
          </p:nvSpPr>
          <p:spPr>
            <a:xfrm>
              <a:off x="4572000" y="236232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724280" y="2514600"/>
              <a:ext cx="761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ir^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 F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 Signs, 12 Formu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2" name=""/>
          <p:cNvGrpSpPr/>
          <p:nvPr/>
        </p:nvGrpSpPr>
        <p:grpSpPr>
          <a:xfrm>
            <a:off x="152280" y="1143000"/>
            <a:ext cx="838440" cy="1066680"/>
            <a:chOff x="152280" y="1143000"/>
            <a:chExt cx="838440" cy="1066680"/>
          </a:xfrm>
        </p:grpSpPr>
        <p:sp>
          <p:nvSpPr>
            <p:cNvPr id="3243" name=""/>
            <p:cNvSpPr/>
            <p:nvPr/>
          </p:nvSpPr>
          <p:spPr>
            <a:xfrm>
              <a:off x="152280" y="1143000"/>
              <a:ext cx="838440" cy="106668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12040" y="1218960"/>
              <a:ext cx="179640" cy="22824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5" name=""/>
          <p:cNvGrpSpPr/>
          <p:nvPr/>
        </p:nvGrpSpPr>
        <p:grpSpPr>
          <a:xfrm>
            <a:off x="6095880" y="1143000"/>
            <a:ext cx="1066680" cy="1066680"/>
            <a:chOff x="6095880" y="1143000"/>
            <a:chExt cx="1066680" cy="1066680"/>
          </a:xfrm>
        </p:grpSpPr>
        <p:sp>
          <p:nvSpPr>
            <p:cNvPr id="3246" name=""/>
            <p:cNvSpPr/>
            <p:nvPr/>
          </p:nvSpPr>
          <p:spPr>
            <a:xfrm>
              <a:off x="6095880" y="1143000"/>
              <a:ext cx="1066680" cy="106668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6248160" y="1295280"/>
              <a:ext cx="762120" cy="761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8" name=""/>
          <p:cNvGrpSpPr/>
          <p:nvPr/>
        </p:nvGrpSpPr>
        <p:grpSpPr>
          <a:xfrm>
            <a:off x="3124080" y="1143000"/>
            <a:ext cx="1067040" cy="1066680"/>
            <a:chOff x="3124080" y="1143000"/>
            <a:chExt cx="1067040" cy="1066680"/>
          </a:xfrm>
        </p:grpSpPr>
        <p:sp>
          <p:nvSpPr>
            <p:cNvPr id="3249" name=""/>
            <p:cNvSpPr/>
            <p:nvPr/>
          </p:nvSpPr>
          <p:spPr>
            <a:xfrm>
              <a:off x="3124080" y="1143000"/>
              <a:ext cx="1067040" cy="106668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3276720" y="1295280"/>
              <a:ext cx="761760" cy="76140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1" name=""/>
          <p:cNvGrpSpPr/>
          <p:nvPr/>
        </p:nvGrpSpPr>
        <p:grpSpPr>
          <a:xfrm>
            <a:off x="3124080" y="4572000"/>
            <a:ext cx="1067040" cy="1066680"/>
            <a:chOff x="3124080" y="4572000"/>
            <a:chExt cx="1067040" cy="1066680"/>
          </a:xfrm>
        </p:grpSpPr>
        <p:sp>
          <p:nvSpPr>
            <p:cNvPr id="3252" name=""/>
            <p:cNvSpPr/>
            <p:nvPr/>
          </p:nvSpPr>
          <p:spPr>
            <a:xfrm>
              <a:off x="3124080" y="4572000"/>
              <a:ext cx="1067040" cy="106668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3276720" y="4724280"/>
              <a:ext cx="761760" cy="76212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4" name=""/>
          <p:cNvGrpSpPr/>
          <p:nvPr/>
        </p:nvGrpSpPr>
        <p:grpSpPr>
          <a:xfrm>
            <a:off x="152280" y="4572000"/>
            <a:ext cx="838440" cy="1066680"/>
            <a:chOff x="152280" y="4572000"/>
            <a:chExt cx="838440" cy="1066680"/>
          </a:xfrm>
        </p:grpSpPr>
        <p:sp>
          <p:nvSpPr>
            <p:cNvPr id="3255" name=""/>
            <p:cNvSpPr/>
            <p:nvPr/>
          </p:nvSpPr>
          <p:spPr>
            <a:xfrm>
              <a:off x="152280" y="4572000"/>
              <a:ext cx="838440" cy="106668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12040" y="4647960"/>
              <a:ext cx="179640" cy="2282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7" name=""/>
          <p:cNvGrpSpPr/>
          <p:nvPr/>
        </p:nvGrpSpPr>
        <p:grpSpPr>
          <a:xfrm>
            <a:off x="6095880" y="4572000"/>
            <a:ext cx="1066680" cy="1066680"/>
            <a:chOff x="6095880" y="4572000"/>
            <a:chExt cx="1066680" cy="1066680"/>
          </a:xfrm>
        </p:grpSpPr>
        <p:sp>
          <p:nvSpPr>
            <p:cNvPr id="3258" name=""/>
            <p:cNvSpPr/>
            <p:nvPr/>
          </p:nvSpPr>
          <p:spPr>
            <a:xfrm>
              <a:off x="6095880" y="4572000"/>
              <a:ext cx="1066680" cy="106668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6248160" y="4724280"/>
              <a:ext cx="762120" cy="76140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0" name=""/>
          <p:cNvGrpSpPr/>
          <p:nvPr/>
        </p:nvGrpSpPr>
        <p:grpSpPr>
          <a:xfrm>
            <a:off x="6095880" y="3429000"/>
            <a:ext cx="1066680" cy="1066680"/>
            <a:chOff x="6095880" y="3429000"/>
            <a:chExt cx="1066680" cy="1066680"/>
          </a:xfrm>
        </p:grpSpPr>
        <p:sp>
          <p:nvSpPr>
            <p:cNvPr id="3261" name=""/>
            <p:cNvSpPr/>
            <p:nvPr/>
          </p:nvSpPr>
          <p:spPr>
            <a:xfrm>
              <a:off x="6095880" y="3429000"/>
              <a:ext cx="106668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248160" y="3581280"/>
              <a:ext cx="762120" cy="76140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3" name=""/>
          <p:cNvGrpSpPr/>
          <p:nvPr/>
        </p:nvGrpSpPr>
        <p:grpSpPr>
          <a:xfrm>
            <a:off x="3124080" y="3429000"/>
            <a:ext cx="1067040" cy="1066680"/>
            <a:chOff x="3124080" y="3429000"/>
            <a:chExt cx="1067040" cy="1066680"/>
          </a:xfrm>
        </p:grpSpPr>
        <p:sp>
          <p:nvSpPr>
            <p:cNvPr id="3264" name=""/>
            <p:cNvSpPr/>
            <p:nvPr/>
          </p:nvSpPr>
          <p:spPr>
            <a:xfrm>
              <a:off x="3124080" y="3429000"/>
              <a:ext cx="106704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276720" y="3581280"/>
              <a:ext cx="761760" cy="76140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6" name=""/>
          <p:cNvGrpSpPr/>
          <p:nvPr/>
        </p:nvGrpSpPr>
        <p:grpSpPr>
          <a:xfrm>
            <a:off x="152280" y="3429000"/>
            <a:ext cx="838440" cy="1066680"/>
            <a:chOff x="152280" y="3429000"/>
            <a:chExt cx="838440" cy="1066680"/>
          </a:xfrm>
        </p:grpSpPr>
        <p:sp>
          <p:nvSpPr>
            <p:cNvPr id="3267" name=""/>
            <p:cNvSpPr/>
            <p:nvPr/>
          </p:nvSpPr>
          <p:spPr>
            <a:xfrm>
              <a:off x="152280" y="3429000"/>
              <a:ext cx="83844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12040" y="3505320"/>
              <a:ext cx="179640" cy="22860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9" name=""/>
          <p:cNvGrpSpPr/>
          <p:nvPr/>
        </p:nvGrpSpPr>
        <p:grpSpPr>
          <a:xfrm>
            <a:off x="152280" y="2286000"/>
            <a:ext cx="838440" cy="1066680"/>
            <a:chOff x="152280" y="2286000"/>
            <a:chExt cx="838440" cy="1066680"/>
          </a:xfrm>
        </p:grpSpPr>
        <p:sp>
          <p:nvSpPr>
            <p:cNvPr id="3270" name=""/>
            <p:cNvSpPr/>
            <p:nvPr/>
          </p:nvSpPr>
          <p:spPr>
            <a:xfrm>
              <a:off x="152280" y="2286000"/>
              <a:ext cx="838440" cy="10666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212040" y="2361960"/>
              <a:ext cx="179640" cy="22860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2" name=""/>
          <p:cNvGrpSpPr/>
          <p:nvPr/>
        </p:nvGrpSpPr>
        <p:grpSpPr>
          <a:xfrm>
            <a:off x="6095880" y="2286000"/>
            <a:ext cx="1066680" cy="1066680"/>
            <a:chOff x="6095880" y="2286000"/>
            <a:chExt cx="1066680" cy="1066680"/>
          </a:xfrm>
        </p:grpSpPr>
        <p:sp>
          <p:nvSpPr>
            <p:cNvPr id="3273" name=""/>
            <p:cNvSpPr/>
            <p:nvPr/>
          </p:nvSpPr>
          <p:spPr>
            <a:xfrm>
              <a:off x="6095880" y="2286000"/>
              <a:ext cx="1066680" cy="10666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248160" y="2438280"/>
              <a:ext cx="762120" cy="76140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5" name=""/>
          <p:cNvGrpSpPr/>
          <p:nvPr/>
        </p:nvGrpSpPr>
        <p:grpSpPr>
          <a:xfrm>
            <a:off x="3124080" y="2286000"/>
            <a:ext cx="1067040" cy="1066680"/>
            <a:chOff x="3124080" y="2286000"/>
            <a:chExt cx="1067040" cy="1066680"/>
          </a:xfrm>
        </p:grpSpPr>
        <p:sp>
          <p:nvSpPr>
            <p:cNvPr id="3276" name=""/>
            <p:cNvSpPr/>
            <p:nvPr/>
          </p:nvSpPr>
          <p:spPr>
            <a:xfrm>
              <a:off x="3124080" y="2286000"/>
              <a:ext cx="1067040" cy="10666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3276720" y="2438280"/>
              <a:ext cx="761760" cy="762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q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8" name=""/>
          <p:cNvGrpSpPr/>
          <p:nvPr/>
        </p:nvGrpSpPr>
        <p:grpSpPr>
          <a:xfrm>
            <a:off x="990720" y="1143000"/>
            <a:ext cx="1066680" cy="1066680"/>
            <a:chOff x="990720" y="1143000"/>
            <a:chExt cx="1066680" cy="1066680"/>
          </a:xfrm>
        </p:grpSpPr>
        <p:sp>
          <p:nvSpPr>
            <p:cNvPr id="3279" name=""/>
            <p:cNvSpPr/>
            <p:nvPr/>
          </p:nvSpPr>
          <p:spPr>
            <a:xfrm>
              <a:off x="990720" y="1143000"/>
              <a:ext cx="1066680" cy="106668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Air^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/ Ea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1066680" y="1218960"/>
              <a:ext cx="228240" cy="22824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1" name=""/>
          <p:cNvGrpSpPr/>
          <p:nvPr/>
        </p:nvGrpSpPr>
        <p:grpSpPr>
          <a:xfrm>
            <a:off x="7010280" y="1143000"/>
            <a:ext cx="1066680" cy="1066680"/>
            <a:chOff x="7010280" y="1143000"/>
            <a:chExt cx="1066680" cy="1066680"/>
          </a:xfrm>
        </p:grpSpPr>
        <p:sp>
          <p:nvSpPr>
            <p:cNvPr id="3282" name=""/>
            <p:cNvSpPr/>
            <p:nvPr/>
          </p:nvSpPr>
          <p:spPr>
            <a:xfrm>
              <a:off x="7010280" y="1143000"/>
              <a:ext cx="1066680" cy="106668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162560" y="1295280"/>
              <a:ext cx="762120" cy="761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 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4" name=""/>
          <p:cNvGrpSpPr/>
          <p:nvPr/>
        </p:nvGrpSpPr>
        <p:grpSpPr>
          <a:xfrm>
            <a:off x="4038480" y="1143000"/>
            <a:ext cx="1067040" cy="1066680"/>
            <a:chOff x="4038480" y="1143000"/>
            <a:chExt cx="1067040" cy="1066680"/>
          </a:xfrm>
        </p:grpSpPr>
        <p:sp>
          <p:nvSpPr>
            <p:cNvPr id="3285" name=""/>
            <p:cNvSpPr/>
            <p:nvPr/>
          </p:nvSpPr>
          <p:spPr>
            <a:xfrm>
              <a:off x="4038480" y="1143000"/>
              <a:ext cx="1067040" cy="106668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4191120" y="1295280"/>
              <a:ext cx="761760" cy="76140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ate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 Ea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7" name=""/>
          <p:cNvGrpSpPr/>
          <p:nvPr/>
        </p:nvGrpSpPr>
        <p:grpSpPr>
          <a:xfrm>
            <a:off x="4038480" y="4572000"/>
            <a:ext cx="1067040" cy="1066680"/>
            <a:chOff x="4038480" y="4572000"/>
            <a:chExt cx="1067040" cy="1066680"/>
          </a:xfrm>
        </p:grpSpPr>
        <p:sp>
          <p:nvSpPr>
            <p:cNvPr id="3288" name=""/>
            <p:cNvSpPr/>
            <p:nvPr/>
          </p:nvSpPr>
          <p:spPr>
            <a:xfrm>
              <a:off x="4038480" y="4572000"/>
              <a:ext cx="1067040" cy="106668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4191120" y="4724280"/>
              <a:ext cx="761760" cy="76212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 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0" name=""/>
          <p:cNvGrpSpPr/>
          <p:nvPr/>
        </p:nvGrpSpPr>
        <p:grpSpPr>
          <a:xfrm>
            <a:off x="990720" y="4572000"/>
            <a:ext cx="1066680" cy="1066680"/>
            <a:chOff x="990720" y="4572000"/>
            <a:chExt cx="1066680" cy="1066680"/>
          </a:xfrm>
        </p:grpSpPr>
        <p:sp>
          <p:nvSpPr>
            <p:cNvPr id="3291" name=""/>
            <p:cNvSpPr/>
            <p:nvPr/>
          </p:nvSpPr>
          <p:spPr>
            <a:xfrm>
              <a:off x="990720" y="4572000"/>
              <a:ext cx="1066680" cy="106668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sq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F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/Ea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1066680" y="4647960"/>
              <a:ext cx="228240" cy="2282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3" name=""/>
          <p:cNvGrpSpPr/>
          <p:nvPr/>
        </p:nvGrpSpPr>
        <p:grpSpPr>
          <a:xfrm>
            <a:off x="7010280" y="4572000"/>
            <a:ext cx="1066680" cy="1066680"/>
            <a:chOff x="7010280" y="4572000"/>
            <a:chExt cx="1066680" cy="1066680"/>
          </a:xfrm>
        </p:grpSpPr>
        <p:sp>
          <p:nvSpPr>
            <p:cNvPr id="3294" name=""/>
            <p:cNvSpPr/>
            <p:nvPr/>
          </p:nvSpPr>
          <p:spPr>
            <a:xfrm>
              <a:off x="7010280" y="4572000"/>
              <a:ext cx="1066680" cy="106668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162560" y="4724280"/>
              <a:ext cx="762120" cy="76140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 Ea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6" name=""/>
          <p:cNvGrpSpPr/>
          <p:nvPr/>
        </p:nvGrpSpPr>
        <p:grpSpPr>
          <a:xfrm>
            <a:off x="7010280" y="3429000"/>
            <a:ext cx="1066680" cy="1066680"/>
            <a:chOff x="7010280" y="3429000"/>
            <a:chExt cx="1066680" cy="1066680"/>
          </a:xfrm>
        </p:grpSpPr>
        <p:sp>
          <p:nvSpPr>
            <p:cNvPr id="3297" name=""/>
            <p:cNvSpPr/>
            <p:nvPr/>
          </p:nvSpPr>
          <p:spPr>
            <a:xfrm>
              <a:off x="7010280" y="3429000"/>
              <a:ext cx="106668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162560" y="3581280"/>
              <a:ext cx="762120" cy="76140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q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 Ea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9" name=""/>
          <p:cNvGrpSpPr/>
          <p:nvPr/>
        </p:nvGrpSpPr>
        <p:grpSpPr>
          <a:xfrm>
            <a:off x="4038480" y="3429000"/>
            <a:ext cx="1067040" cy="1066680"/>
            <a:chOff x="4038480" y="3429000"/>
            <a:chExt cx="1067040" cy="1066680"/>
          </a:xfrm>
        </p:grpSpPr>
        <p:sp>
          <p:nvSpPr>
            <p:cNvPr id="3300" name=""/>
            <p:cNvSpPr/>
            <p:nvPr/>
          </p:nvSpPr>
          <p:spPr>
            <a:xfrm>
              <a:off x="4038480" y="3429000"/>
              <a:ext cx="106704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4191120" y="3581280"/>
              <a:ext cx="761760" cy="76140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 Ea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2" name=""/>
          <p:cNvGrpSpPr/>
          <p:nvPr/>
        </p:nvGrpSpPr>
        <p:grpSpPr>
          <a:xfrm>
            <a:off x="990720" y="3429000"/>
            <a:ext cx="1066680" cy="1066680"/>
            <a:chOff x="990720" y="3429000"/>
            <a:chExt cx="1066680" cy="1066680"/>
          </a:xfrm>
        </p:grpSpPr>
        <p:sp>
          <p:nvSpPr>
            <p:cNvPr id="3303" name=""/>
            <p:cNvSpPr/>
            <p:nvPr/>
          </p:nvSpPr>
          <p:spPr>
            <a:xfrm>
              <a:off x="990720" y="3429000"/>
              <a:ext cx="106668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F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/ W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1066680" y="3505320"/>
              <a:ext cx="228240" cy="22860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5" name=""/>
          <p:cNvGrpSpPr/>
          <p:nvPr/>
        </p:nvGrpSpPr>
        <p:grpSpPr>
          <a:xfrm>
            <a:off x="990720" y="2286000"/>
            <a:ext cx="1066680" cy="1066680"/>
            <a:chOff x="990720" y="2286000"/>
            <a:chExt cx="1066680" cy="1066680"/>
          </a:xfrm>
        </p:grpSpPr>
        <p:sp>
          <p:nvSpPr>
            <p:cNvPr id="3306" name=""/>
            <p:cNvSpPr/>
            <p:nvPr/>
          </p:nvSpPr>
          <p:spPr>
            <a:xfrm>
              <a:off x="990720" y="2286000"/>
              <a:ext cx="1066680" cy="10666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/ W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066680" y="2361960"/>
              <a:ext cx="228240" cy="22860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8" name=""/>
          <p:cNvGrpSpPr/>
          <p:nvPr/>
        </p:nvGrpSpPr>
        <p:grpSpPr>
          <a:xfrm>
            <a:off x="7010280" y="2286000"/>
            <a:ext cx="1066680" cy="1066680"/>
            <a:chOff x="7010280" y="2286000"/>
            <a:chExt cx="1066680" cy="1066680"/>
          </a:xfrm>
        </p:grpSpPr>
        <p:sp>
          <p:nvSpPr>
            <p:cNvPr id="3309" name=""/>
            <p:cNvSpPr/>
            <p:nvPr/>
          </p:nvSpPr>
          <p:spPr>
            <a:xfrm>
              <a:off x="7010280" y="2286000"/>
              <a:ext cx="1066680" cy="10666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162560" y="2438280"/>
              <a:ext cx="762120" cy="76140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re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ate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1" name=""/>
          <p:cNvGrpSpPr/>
          <p:nvPr/>
        </p:nvGrpSpPr>
        <p:grpSpPr>
          <a:xfrm>
            <a:off x="4038480" y="2286000"/>
            <a:ext cx="1067040" cy="1066680"/>
            <a:chOff x="4038480" y="2286000"/>
            <a:chExt cx="1067040" cy="1066680"/>
          </a:xfrm>
        </p:grpSpPr>
        <p:sp>
          <p:nvSpPr>
            <p:cNvPr id="3312" name=""/>
            <p:cNvSpPr/>
            <p:nvPr/>
          </p:nvSpPr>
          <p:spPr>
            <a:xfrm>
              <a:off x="4038480" y="2286000"/>
              <a:ext cx="1067040" cy="10666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4191120" y="2438280"/>
              <a:ext cx="761760" cy="762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ir^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 F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4" name=""/>
          <p:cNvGrpSpPr/>
          <p:nvPr/>
        </p:nvGrpSpPr>
        <p:grpSpPr>
          <a:xfrm>
            <a:off x="7924680" y="2286000"/>
            <a:ext cx="1067040" cy="1066680"/>
            <a:chOff x="7924680" y="2286000"/>
            <a:chExt cx="1067040" cy="1066680"/>
          </a:xfrm>
        </p:grpSpPr>
        <p:sp>
          <p:nvSpPr>
            <p:cNvPr id="3315" name=""/>
            <p:cNvSpPr/>
            <p:nvPr/>
          </p:nvSpPr>
          <p:spPr>
            <a:xfrm>
              <a:off x="7924680" y="2286000"/>
              <a:ext cx="1067040" cy="106668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077320" y="2438280"/>
              <a:ext cx="761760" cy="76212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7" name=""/>
          <p:cNvGrpSpPr/>
          <p:nvPr/>
        </p:nvGrpSpPr>
        <p:grpSpPr>
          <a:xfrm>
            <a:off x="4952880" y="2286000"/>
            <a:ext cx="1066680" cy="1066680"/>
            <a:chOff x="4952880" y="2286000"/>
            <a:chExt cx="1066680" cy="1066680"/>
          </a:xfrm>
        </p:grpSpPr>
        <p:sp>
          <p:nvSpPr>
            <p:cNvPr id="3318" name=""/>
            <p:cNvSpPr/>
            <p:nvPr/>
          </p:nvSpPr>
          <p:spPr>
            <a:xfrm>
              <a:off x="4952880" y="2286000"/>
              <a:ext cx="1066680" cy="106668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105160" y="2438280"/>
              <a:ext cx="762120" cy="761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0" name=""/>
          <p:cNvGrpSpPr/>
          <p:nvPr/>
        </p:nvGrpSpPr>
        <p:grpSpPr>
          <a:xfrm>
            <a:off x="1981080" y="2286000"/>
            <a:ext cx="1067040" cy="1066680"/>
            <a:chOff x="1981080" y="2286000"/>
            <a:chExt cx="1067040" cy="1066680"/>
          </a:xfrm>
        </p:grpSpPr>
        <p:sp>
          <p:nvSpPr>
            <p:cNvPr id="3321" name=""/>
            <p:cNvSpPr/>
            <p:nvPr/>
          </p:nvSpPr>
          <p:spPr>
            <a:xfrm>
              <a:off x="1981080" y="2286000"/>
              <a:ext cx="1067040" cy="106668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133720" y="2438280"/>
              <a:ext cx="761760" cy="761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3" name=""/>
          <p:cNvGrpSpPr/>
          <p:nvPr/>
        </p:nvGrpSpPr>
        <p:grpSpPr>
          <a:xfrm>
            <a:off x="7924680" y="3429000"/>
            <a:ext cx="1067040" cy="1066680"/>
            <a:chOff x="7924680" y="3429000"/>
            <a:chExt cx="1067040" cy="1066680"/>
          </a:xfrm>
        </p:grpSpPr>
        <p:sp>
          <p:nvSpPr>
            <p:cNvPr id="3324" name=""/>
            <p:cNvSpPr/>
            <p:nvPr/>
          </p:nvSpPr>
          <p:spPr>
            <a:xfrm>
              <a:off x="7924680" y="3429000"/>
              <a:ext cx="1067040" cy="106668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077320" y="3581280"/>
              <a:ext cx="761760" cy="76140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6" name=""/>
          <p:cNvGrpSpPr/>
          <p:nvPr/>
        </p:nvGrpSpPr>
        <p:grpSpPr>
          <a:xfrm>
            <a:off x="4952880" y="3429000"/>
            <a:ext cx="1066680" cy="1066680"/>
            <a:chOff x="4952880" y="3429000"/>
            <a:chExt cx="1066680" cy="1066680"/>
          </a:xfrm>
        </p:grpSpPr>
        <p:sp>
          <p:nvSpPr>
            <p:cNvPr id="3327" name=""/>
            <p:cNvSpPr/>
            <p:nvPr/>
          </p:nvSpPr>
          <p:spPr>
            <a:xfrm>
              <a:off x="4952880" y="3429000"/>
              <a:ext cx="1066680" cy="106668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105160" y="3581280"/>
              <a:ext cx="762120" cy="76140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9" name=""/>
          <p:cNvGrpSpPr/>
          <p:nvPr/>
        </p:nvGrpSpPr>
        <p:grpSpPr>
          <a:xfrm>
            <a:off x="1981080" y="3429000"/>
            <a:ext cx="1067040" cy="1066680"/>
            <a:chOff x="1981080" y="3429000"/>
            <a:chExt cx="1067040" cy="1066680"/>
          </a:xfrm>
        </p:grpSpPr>
        <p:sp>
          <p:nvSpPr>
            <p:cNvPr id="3330" name=""/>
            <p:cNvSpPr/>
            <p:nvPr/>
          </p:nvSpPr>
          <p:spPr>
            <a:xfrm>
              <a:off x="1981080" y="3429000"/>
              <a:ext cx="1067040" cy="106668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133720" y="3581280"/>
              <a:ext cx="761760" cy="76212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2" name=""/>
          <p:cNvGrpSpPr/>
          <p:nvPr/>
        </p:nvGrpSpPr>
        <p:grpSpPr>
          <a:xfrm>
            <a:off x="7924680" y="4572000"/>
            <a:ext cx="1067040" cy="1066680"/>
            <a:chOff x="7924680" y="4572000"/>
            <a:chExt cx="1067040" cy="1066680"/>
          </a:xfrm>
        </p:grpSpPr>
        <p:sp>
          <p:nvSpPr>
            <p:cNvPr id="3333" name=""/>
            <p:cNvSpPr/>
            <p:nvPr/>
          </p:nvSpPr>
          <p:spPr>
            <a:xfrm>
              <a:off x="7924680" y="4572000"/>
              <a:ext cx="106704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077320" y="4724280"/>
              <a:ext cx="761760" cy="7621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5" name=""/>
          <p:cNvGrpSpPr/>
          <p:nvPr/>
        </p:nvGrpSpPr>
        <p:grpSpPr>
          <a:xfrm>
            <a:off x="4952880" y="4572000"/>
            <a:ext cx="1066680" cy="1066680"/>
            <a:chOff x="4952880" y="4572000"/>
            <a:chExt cx="1066680" cy="1066680"/>
          </a:xfrm>
        </p:grpSpPr>
        <p:sp>
          <p:nvSpPr>
            <p:cNvPr id="3336" name=""/>
            <p:cNvSpPr/>
            <p:nvPr/>
          </p:nvSpPr>
          <p:spPr>
            <a:xfrm>
              <a:off x="4952880" y="4572000"/>
              <a:ext cx="106668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105160" y="4724280"/>
              <a:ext cx="762120" cy="76140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8" name=""/>
          <p:cNvGrpSpPr/>
          <p:nvPr/>
        </p:nvGrpSpPr>
        <p:grpSpPr>
          <a:xfrm>
            <a:off x="1981080" y="4572000"/>
            <a:ext cx="1067040" cy="1066680"/>
            <a:chOff x="1981080" y="4572000"/>
            <a:chExt cx="1067040" cy="1066680"/>
          </a:xfrm>
        </p:grpSpPr>
        <p:sp>
          <p:nvSpPr>
            <p:cNvPr id="3339" name=""/>
            <p:cNvSpPr/>
            <p:nvPr/>
          </p:nvSpPr>
          <p:spPr>
            <a:xfrm>
              <a:off x="1981080" y="4572000"/>
              <a:ext cx="1067040" cy="10666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2133720" y="4724280"/>
              <a:ext cx="761760" cy="76140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1" name=""/>
          <p:cNvGrpSpPr/>
          <p:nvPr/>
        </p:nvGrpSpPr>
        <p:grpSpPr>
          <a:xfrm>
            <a:off x="7924680" y="1143000"/>
            <a:ext cx="1067040" cy="1066680"/>
            <a:chOff x="7924680" y="1143000"/>
            <a:chExt cx="1067040" cy="1066680"/>
          </a:xfrm>
        </p:grpSpPr>
        <p:sp>
          <p:nvSpPr>
            <p:cNvPr id="3342" name=""/>
            <p:cNvSpPr/>
            <p:nvPr/>
          </p:nvSpPr>
          <p:spPr>
            <a:xfrm>
              <a:off x="7924680" y="1143000"/>
              <a:ext cx="106704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077320" y="1295280"/>
              <a:ext cx="761760" cy="76140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4" name=""/>
          <p:cNvGrpSpPr/>
          <p:nvPr/>
        </p:nvGrpSpPr>
        <p:grpSpPr>
          <a:xfrm>
            <a:off x="4952880" y="1143000"/>
            <a:ext cx="1066680" cy="1066680"/>
            <a:chOff x="4952880" y="1143000"/>
            <a:chExt cx="1066680" cy="1066680"/>
          </a:xfrm>
        </p:grpSpPr>
        <p:sp>
          <p:nvSpPr>
            <p:cNvPr id="3345" name=""/>
            <p:cNvSpPr/>
            <p:nvPr/>
          </p:nvSpPr>
          <p:spPr>
            <a:xfrm>
              <a:off x="4952880" y="1143000"/>
              <a:ext cx="1066680" cy="10666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105160" y="1295280"/>
              <a:ext cx="762120" cy="76140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7" name=""/>
          <p:cNvGrpSpPr/>
          <p:nvPr/>
        </p:nvGrpSpPr>
        <p:grpSpPr>
          <a:xfrm>
            <a:off x="1981080" y="1143000"/>
            <a:ext cx="1067040" cy="1066680"/>
            <a:chOff x="1981080" y="1143000"/>
            <a:chExt cx="1067040" cy="1066680"/>
          </a:xfrm>
        </p:grpSpPr>
        <p:sp>
          <p:nvSpPr>
            <p:cNvPr id="3348" name=""/>
            <p:cNvSpPr/>
            <p:nvPr/>
          </p:nvSpPr>
          <p:spPr>
            <a:xfrm>
              <a:off x="1981080" y="1143000"/>
              <a:ext cx="1067040" cy="10666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133720" y="1295280"/>
              <a:ext cx="761760" cy="762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0" name=""/>
          <p:cNvSpPr/>
          <p:nvPr/>
        </p:nvSpPr>
        <p:spPr>
          <a:xfrm>
            <a:off x="228600" y="5867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 fundamental pa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mmariz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6" name=""/>
          <p:cNvGrpSpPr/>
          <p:nvPr/>
        </p:nvGrpSpPr>
        <p:grpSpPr>
          <a:xfrm>
            <a:off x="838080" y="1600200"/>
            <a:ext cx="1067040" cy="1066680"/>
            <a:chOff x="838080" y="1600200"/>
            <a:chExt cx="1067040" cy="1066680"/>
          </a:xfrm>
        </p:grpSpPr>
        <p:sp>
          <p:nvSpPr>
            <p:cNvPr id="3357" name=""/>
            <p:cNvSpPr/>
            <p:nvPr/>
          </p:nvSpPr>
          <p:spPr>
            <a:xfrm>
              <a:off x="8380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990720" y="1752480"/>
              <a:ext cx="76176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9" name=""/>
          <p:cNvGrpSpPr/>
          <p:nvPr/>
        </p:nvGrpSpPr>
        <p:grpSpPr>
          <a:xfrm>
            <a:off x="3276720" y="1600200"/>
            <a:ext cx="1066680" cy="1066680"/>
            <a:chOff x="3276720" y="1600200"/>
            <a:chExt cx="1066680" cy="1066680"/>
          </a:xfrm>
        </p:grpSpPr>
        <p:sp>
          <p:nvSpPr>
            <p:cNvPr id="3360" name=""/>
            <p:cNvSpPr/>
            <p:nvPr/>
          </p:nvSpPr>
          <p:spPr>
            <a:xfrm>
              <a:off x="32767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3429000" y="1752480"/>
              <a:ext cx="76140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2" name=""/>
          <p:cNvGrpSpPr/>
          <p:nvPr/>
        </p:nvGrpSpPr>
        <p:grpSpPr>
          <a:xfrm>
            <a:off x="2057400" y="1600200"/>
            <a:ext cx="1066680" cy="1066680"/>
            <a:chOff x="2057400" y="1600200"/>
            <a:chExt cx="1066680" cy="1066680"/>
          </a:xfrm>
        </p:grpSpPr>
        <p:sp>
          <p:nvSpPr>
            <p:cNvPr id="3363" name=""/>
            <p:cNvSpPr/>
            <p:nvPr/>
          </p:nvSpPr>
          <p:spPr>
            <a:xfrm>
              <a:off x="2057400" y="1600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2209680" y="175248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J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5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5867280" y="1523880"/>
            <a:ext cx="121932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9" name=""/>
          <p:cNvGrpSpPr/>
          <p:nvPr/>
        </p:nvGrpSpPr>
        <p:grpSpPr>
          <a:xfrm>
            <a:off x="4724280" y="1600200"/>
            <a:ext cx="1067040" cy="1066680"/>
            <a:chOff x="4724280" y="1600200"/>
            <a:chExt cx="1067040" cy="1066680"/>
          </a:xfrm>
        </p:grpSpPr>
        <p:sp>
          <p:nvSpPr>
            <p:cNvPr id="3370" name=""/>
            <p:cNvSpPr/>
            <p:nvPr/>
          </p:nvSpPr>
          <p:spPr>
            <a:xfrm>
              <a:off x="47242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4876920" y="1752480"/>
              <a:ext cx="76176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2" name=""/>
          <p:cNvGrpSpPr/>
          <p:nvPr/>
        </p:nvGrpSpPr>
        <p:grpSpPr>
          <a:xfrm>
            <a:off x="7162920" y="1600200"/>
            <a:ext cx="1066680" cy="1066680"/>
            <a:chOff x="7162920" y="1600200"/>
            <a:chExt cx="1066680" cy="1066680"/>
          </a:xfrm>
        </p:grpSpPr>
        <p:sp>
          <p:nvSpPr>
            <p:cNvPr id="3373" name=""/>
            <p:cNvSpPr/>
            <p:nvPr/>
          </p:nvSpPr>
          <p:spPr>
            <a:xfrm>
              <a:off x="71629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315200" y="175248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5" name=""/>
          <p:cNvGrpSpPr/>
          <p:nvPr/>
        </p:nvGrpSpPr>
        <p:grpSpPr>
          <a:xfrm>
            <a:off x="5943600" y="1600200"/>
            <a:ext cx="1066680" cy="1066680"/>
            <a:chOff x="5943600" y="1600200"/>
            <a:chExt cx="1066680" cy="1066680"/>
          </a:xfrm>
        </p:grpSpPr>
        <p:sp>
          <p:nvSpPr>
            <p:cNvPr id="3376" name=""/>
            <p:cNvSpPr/>
            <p:nvPr/>
          </p:nvSpPr>
          <p:spPr>
            <a:xfrm>
              <a:off x="594360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6095880" y="175248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8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4648320" y="3962520"/>
            <a:ext cx="1218960" cy="2209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2" name=""/>
          <p:cNvGrpSpPr/>
          <p:nvPr/>
        </p:nvGrpSpPr>
        <p:grpSpPr>
          <a:xfrm>
            <a:off x="7162920" y="5029200"/>
            <a:ext cx="1066680" cy="1066680"/>
            <a:chOff x="7162920" y="5029200"/>
            <a:chExt cx="1066680" cy="1066680"/>
          </a:xfrm>
        </p:grpSpPr>
        <p:sp>
          <p:nvSpPr>
            <p:cNvPr id="3383" name=""/>
            <p:cNvSpPr/>
            <p:nvPr/>
          </p:nvSpPr>
          <p:spPr>
            <a:xfrm>
              <a:off x="71629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315200" y="5181480"/>
              <a:ext cx="7614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5" name=""/>
          <p:cNvGrpSpPr/>
          <p:nvPr/>
        </p:nvGrpSpPr>
        <p:grpSpPr>
          <a:xfrm>
            <a:off x="4724280" y="5029200"/>
            <a:ext cx="1067040" cy="1066680"/>
            <a:chOff x="4724280" y="5029200"/>
            <a:chExt cx="1067040" cy="1066680"/>
          </a:xfrm>
        </p:grpSpPr>
        <p:sp>
          <p:nvSpPr>
            <p:cNvPr id="3386" name=""/>
            <p:cNvSpPr/>
            <p:nvPr/>
          </p:nvSpPr>
          <p:spPr>
            <a:xfrm>
              <a:off x="47242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4876920" y="5181480"/>
              <a:ext cx="76176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NS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8" name=""/>
          <p:cNvGrpSpPr/>
          <p:nvPr/>
        </p:nvGrpSpPr>
        <p:grpSpPr>
          <a:xfrm>
            <a:off x="5943600" y="5029200"/>
            <a:ext cx="1066680" cy="1066680"/>
            <a:chOff x="5943600" y="5029200"/>
            <a:chExt cx="1066680" cy="1066680"/>
          </a:xfrm>
        </p:grpSpPr>
        <p:sp>
          <p:nvSpPr>
            <p:cNvPr id="3389" name=""/>
            <p:cNvSpPr/>
            <p:nvPr/>
          </p:nvSpPr>
          <p:spPr>
            <a:xfrm>
              <a:off x="594360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6095880" y="518148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1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3200400" y="3962520"/>
            <a:ext cx="121932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5" name=""/>
          <p:cNvGrpSpPr/>
          <p:nvPr/>
        </p:nvGrpSpPr>
        <p:grpSpPr>
          <a:xfrm>
            <a:off x="3276720" y="5029200"/>
            <a:ext cx="1066680" cy="1066680"/>
            <a:chOff x="3276720" y="5029200"/>
            <a:chExt cx="1066680" cy="1066680"/>
          </a:xfrm>
        </p:grpSpPr>
        <p:sp>
          <p:nvSpPr>
            <p:cNvPr id="3396" name=""/>
            <p:cNvSpPr/>
            <p:nvPr/>
          </p:nvSpPr>
          <p:spPr>
            <a:xfrm>
              <a:off x="32767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3429000" y="518148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T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T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8" name=""/>
          <p:cNvGrpSpPr/>
          <p:nvPr/>
        </p:nvGrpSpPr>
        <p:grpSpPr>
          <a:xfrm>
            <a:off x="2057400" y="5029200"/>
            <a:ext cx="1066680" cy="1066680"/>
            <a:chOff x="2057400" y="5029200"/>
            <a:chExt cx="1066680" cy="1066680"/>
          </a:xfrm>
        </p:grpSpPr>
        <p:sp>
          <p:nvSpPr>
            <p:cNvPr id="3399" name=""/>
            <p:cNvSpPr/>
            <p:nvPr/>
          </p:nvSpPr>
          <p:spPr>
            <a:xfrm>
              <a:off x="2057400" y="50292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209680" y="518148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1" name=""/>
          <p:cNvGrpSpPr/>
          <p:nvPr/>
        </p:nvGrpSpPr>
        <p:grpSpPr>
          <a:xfrm>
            <a:off x="838080" y="5029200"/>
            <a:ext cx="1067040" cy="1066680"/>
            <a:chOff x="838080" y="5029200"/>
            <a:chExt cx="1067040" cy="1066680"/>
          </a:xfrm>
        </p:grpSpPr>
        <p:sp>
          <p:nvSpPr>
            <p:cNvPr id="3402" name=""/>
            <p:cNvSpPr/>
            <p:nvPr/>
          </p:nvSpPr>
          <p:spPr>
            <a:xfrm>
              <a:off x="8380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990720" y="5181480"/>
              <a:ext cx="761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 ‘half’ sig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 signs.. Processes..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insides and outsid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804960" y="4572000"/>
            <a:ext cx="31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eft and right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004920" y="149688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ngredients, processes,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9" name="earthhandsplash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0" name="Butterfly" descr=""/>
          <p:cNvPicPr/>
          <p:nvPr/>
        </p:nvPicPr>
        <p:blipFill>
          <a:blip r:embed="rId1"/>
          <a:stretch/>
        </p:blipFill>
        <p:spPr>
          <a:xfrm>
            <a:off x="1066680" y="291960"/>
            <a:ext cx="6782040" cy="6069240"/>
          </a:xfrm>
          <a:prstGeom prst="rect">
            <a:avLst/>
          </a:prstGeom>
          <a:ln w="0">
            <a:noFill/>
          </a:ln>
        </p:spPr>
      </p:pic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2020320" y="2577960"/>
            <a:ext cx="499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ichael 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ife and Business Consul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505-349-82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x@sonic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2470320" y="327672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 Black"/>
              </a:rPr>
              <a:t>Stel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5366880" y="327672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 Black"/>
              </a:rPr>
              <a:t>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676520" y="2438280"/>
            <a:ext cx="601956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Astrology tells us so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Signs to the Plane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Ura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Nept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0" name=""/>
          <p:cNvGrpSpPr/>
          <p:nvPr/>
        </p:nvGrpSpPr>
        <p:grpSpPr>
          <a:xfrm>
            <a:off x="838080" y="1600200"/>
            <a:ext cx="1067040" cy="1066680"/>
            <a:chOff x="838080" y="1600200"/>
            <a:chExt cx="1067040" cy="1066680"/>
          </a:xfrm>
        </p:grpSpPr>
        <p:sp>
          <p:nvSpPr>
            <p:cNvPr id="3421" name=""/>
            <p:cNvSpPr/>
            <p:nvPr/>
          </p:nvSpPr>
          <p:spPr>
            <a:xfrm>
              <a:off x="8380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990720" y="1752480"/>
              <a:ext cx="761760" cy="762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3" name=""/>
          <p:cNvGrpSpPr/>
          <p:nvPr/>
        </p:nvGrpSpPr>
        <p:grpSpPr>
          <a:xfrm>
            <a:off x="3276720" y="1600200"/>
            <a:ext cx="1066680" cy="1066680"/>
            <a:chOff x="3276720" y="1600200"/>
            <a:chExt cx="1066680" cy="1066680"/>
          </a:xfrm>
        </p:grpSpPr>
        <p:sp>
          <p:nvSpPr>
            <p:cNvPr id="3424" name=""/>
            <p:cNvSpPr/>
            <p:nvPr/>
          </p:nvSpPr>
          <p:spPr>
            <a:xfrm>
              <a:off x="32767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3429000" y="1752480"/>
              <a:ext cx="76140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6" name=""/>
          <p:cNvGrpSpPr/>
          <p:nvPr/>
        </p:nvGrpSpPr>
        <p:grpSpPr>
          <a:xfrm>
            <a:off x="2057400" y="1600200"/>
            <a:ext cx="1066680" cy="1066680"/>
            <a:chOff x="2057400" y="1600200"/>
            <a:chExt cx="1066680" cy="1066680"/>
          </a:xfrm>
        </p:grpSpPr>
        <p:sp>
          <p:nvSpPr>
            <p:cNvPr id="3427" name=""/>
            <p:cNvSpPr/>
            <p:nvPr/>
          </p:nvSpPr>
          <p:spPr>
            <a:xfrm>
              <a:off x="2057400" y="1600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2209680" y="175248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9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5867280" y="1523880"/>
            <a:ext cx="121932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P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3" name=""/>
          <p:cNvGrpSpPr/>
          <p:nvPr/>
        </p:nvGrpSpPr>
        <p:grpSpPr>
          <a:xfrm>
            <a:off x="4724280" y="1600200"/>
            <a:ext cx="1067040" cy="1066680"/>
            <a:chOff x="4724280" y="1600200"/>
            <a:chExt cx="1067040" cy="1066680"/>
          </a:xfrm>
        </p:grpSpPr>
        <p:sp>
          <p:nvSpPr>
            <p:cNvPr id="3434" name=""/>
            <p:cNvSpPr/>
            <p:nvPr/>
          </p:nvSpPr>
          <p:spPr>
            <a:xfrm>
              <a:off x="4724280" y="1600200"/>
              <a:ext cx="106704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4876920" y="1752480"/>
              <a:ext cx="76176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J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6" name=""/>
          <p:cNvGrpSpPr/>
          <p:nvPr/>
        </p:nvGrpSpPr>
        <p:grpSpPr>
          <a:xfrm>
            <a:off x="7162920" y="1600200"/>
            <a:ext cx="1066680" cy="1066680"/>
            <a:chOff x="7162920" y="1600200"/>
            <a:chExt cx="1066680" cy="1066680"/>
          </a:xfrm>
        </p:grpSpPr>
        <p:sp>
          <p:nvSpPr>
            <p:cNvPr id="3437" name=""/>
            <p:cNvSpPr/>
            <p:nvPr/>
          </p:nvSpPr>
          <p:spPr>
            <a:xfrm>
              <a:off x="71629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315200" y="175248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9" name=""/>
          <p:cNvGrpSpPr/>
          <p:nvPr/>
        </p:nvGrpSpPr>
        <p:grpSpPr>
          <a:xfrm>
            <a:off x="5943600" y="1600200"/>
            <a:ext cx="1066680" cy="1066680"/>
            <a:chOff x="5943600" y="1600200"/>
            <a:chExt cx="1066680" cy="1066680"/>
          </a:xfrm>
        </p:grpSpPr>
        <p:sp>
          <p:nvSpPr>
            <p:cNvPr id="3440" name=""/>
            <p:cNvSpPr/>
            <p:nvPr/>
          </p:nvSpPr>
          <p:spPr>
            <a:xfrm>
              <a:off x="594360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6095880" y="175248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2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4648320" y="3962520"/>
            <a:ext cx="1218960" cy="2209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6" name=""/>
          <p:cNvGrpSpPr/>
          <p:nvPr/>
        </p:nvGrpSpPr>
        <p:grpSpPr>
          <a:xfrm>
            <a:off x="7162920" y="5029200"/>
            <a:ext cx="1066680" cy="1066680"/>
            <a:chOff x="7162920" y="5029200"/>
            <a:chExt cx="1066680" cy="1066680"/>
          </a:xfrm>
        </p:grpSpPr>
        <p:sp>
          <p:nvSpPr>
            <p:cNvPr id="3447" name=""/>
            <p:cNvSpPr/>
            <p:nvPr/>
          </p:nvSpPr>
          <p:spPr>
            <a:xfrm>
              <a:off x="71629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315200" y="5181480"/>
              <a:ext cx="7614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9" name=""/>
          <p:cNvGrpSpPr/>
          <p:nvPr/>
        </p:nvGrpSpPr>
        <p:grpSpPr>
          <a:xfrm>
            <a:off x="4724280" y="5029200"/>
            <a:ext cx="1067040" cy="1066680"/>
            <a:chOff x="4724280" y="5029200"/>
            <a:chExt cx="1067040" cy="1066680"/>
          </a:xfrm>
        </p:grpSpPr>
        <p:sp>
          <p:nvSpPr>
            <p:cNvPr id="3450" name=""/>
            <p:cNvSpPr/>
            <p:nvPr/>
          </p:nvSpPr>
          <p:spPr>
            <a:xfrm>
              <a:off x="47242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4876920" y="5181480"/>
              <a:ext cx="76176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u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2" name=""/>
          <p:cNvGrpSpPr/>
          <p:nvPr/>
        </p:nvGrpSpPr>
        <p:grpSpPr>
          <a:xfrm>
            <a:off x="5943600" y="5029200"/>
            <a:ext cx="1066680" cy="1066680"/>
            <a:chOff x="5943600" y="5029200"/>
            <a:chExt cx="1066680" cy="1066680"/>
          </a:xfrm>
        </p:grpSpPr>
        <p:sp>
          <p:nvSpPr>
            <p:cNvPr id="3453" name=""/>
            <p:cNvSpPr/>
            <p:nvPr/>
          </p:nvSpPr>
          <p:spPr>
            <a:xfrm>
              <a:off x="594360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6095880" y="518148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5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3200400" y="3962520"/>
            <a:ext cx="121932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9" name=""/>
          <p:cNvGrpSpPr/>
          <p:nvPr/>
        </p:nvGrpSpPr>
        <p:grpSpPr>
          <a:xfrm>
            <a:off x="3276720" y="5029200"/>
            <a:ext cx="1066680" cy="1066680"/>
            <a:chOff x="3276720" y="5029200"/>
            <a:chExt cx="1066680" cy="1066680"/>
          </a:xfrm>
        </p:grpSpPr>
        <p:sp>
          <p:nvSpPr>
            <p:cNvPr id="3460" name=""/>
            <p:cNvSpPr/>
            <p:nvPr/>
          </p:nvSpPr>
          <p:spPr>
            <a:xfrm>
              <a:off x="32767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3429000" y="518148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2" name=""/>
          <p:cNvGrpSpPr/>
          <p:nvPr/>
        </p:nvGrpSpPr>
        <p:grpSpPr>
          <a:xfrm>
            <a:off x="2057400" y="5029200"/>
            <a:ext cx="1066680" cy="1066680"/>
            <a:chOff x="2057400" y="5029200"/>
            <a:chExt cx="1066680" cy="1066680"/>
          </a:xfrm>
        </p:grpSpPr>
        <p:sp>
          <p:nvSpPr>
            <p:cNvPr id="3463" name=""/>
            <p:cNvSpPr/>
            <p:nvPr/>
          </p:nvSpPr>
          <p:spPr>
            <a:xfrm>
              <a:off x="2057400" y="50292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2209680" y="518148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5" name=""/>
          <p:cNvGrpSpPr/>
          <p:nvPr/>
        </p:nvGrpSpPr>
        <p:grpSpPr>
          <a:xfrm>
            <a:off x="838080" y="5029200"/>
            <a:ext cx="1067040" cy="1066680"/>
            <a:chOff x="838080" y="5029200"/>
            <a:chExt cx="1067040" cy="1066680"/>
          </a:xfrm>
        </p:grpSpPr>
        <p:sp>
          <p:nvSpPr>
            <p:cNvPr id="3466" name=""/>
            <p:cNvSpPr/>
            <p:nvPr/>
          </p:nvSpPr>
          <p:spPr>
            <a:xfrm>
              <a:off x="838080" y="5029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990720" y="5181480"/>
              <a:ext cx="761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0" name=""/>
          <p:cNvGrpSpPr/>
          <p:nvPr/>
        </p:nvGrpSpPr>
        <p:grpSpPr>
          <a:xfrm>
            <a:off x="762120" y="1523880"/>
            <a:ext cx="1218960" cy="2210040"/>
            <a:chOff x="762120" y="1523880"/>
            <a:chExt cx="1218960" cy="2210040"/>
          </a:xfrm>
        </p:grpSpPr>
        <p:sp>
          <p:nvSpPr>
            <p:cNvPr id="3471" name=""/>
            <p:cNvSpPr/>
            <p:nvPr/>
          </p:nvSpPr>
          <p:spPr>
            <a:xfrm>
              <a:off x="762120" y="1523880"/>
              <a:ext cx="1218960" cy="221004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/ Wate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838080" y="1600200"/>
              <a:ext cx="1067040" cy="1066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990720" y="1752480"/>
              <a:ext cx="761760" cy="7621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4" name=""/>
          <p:cNvGrpSpPr/>
          <p:nvPr/>
        </p:nvGrpSpPr>
        <p:grpSpPr>
          <a:xfrm>
            <a:off x="3200400" y="1523880"/>
            <a:ext cx="1219320" cy="2210040"/>
            <a:chOff x="3200400" y="1523880"/>
            <a:chExt cx="1219320" cy="2210040"/>
          </a:xfrm>
        </p:grpSpPr>
        <p:sp>
          <p:nvSpPr>
            <p:cNvPr id="3475" name=""/>
            <p:cNvSpPr/>
            <p:nvPr/>
          </p:nvSpPr>
          <p:spPr>
            <a:xfrm>
              <a:off x="3200400" y="1523880"/>
              <a:ext cx="1219320" cy="2210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C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=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/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276720" y="1600200"/>
              <a:ext cx="1066680" cy="1066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3429000" y="1752480"/>
              <a:ext cx="762120" cy="7621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8" name=""/>
          <p:cNvGrpSpPr/>
          <p:nvPr/>
        </p:nvGrpSpPr>
        <p:grpSpPr>
          <a:xfrm>
            <a:off x="1981080" y="1523880"/>
            <a:ext cx="1219320" cy="2210040"/>
            <a:chOff x="1981080" y="1523880"/>
            <a:chExt cx="1219320" cy="2210040"/>
          </a:xfrm>
        </p:grpSpPr>
        <p:sp>
          <p:nvSpPr>
            <p:cNvPr id="3479" name=""/>
            <p:cNvSpPr/>
            <p:nvPr/>
          </p:nvSpPr>
          <p:spPr>
            <a:xfrm>
              <a:off x="1981080" y="1523880"/>
              <a:ext cx="1219320" cy="2210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q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Ai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/ 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2057400" y="1600200"/>
              <a:ext cx="1066680" cy="1066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209680" y="1752480"/>
              <a:ext cx="762120" cy="7621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2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4724280" y="1600200"/>
            <a:ext cx="106704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4876920" y="1752480"/>
            <a:ext cx="761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6" name=""/>
          <p:cNvGrpSpPr/>
          <p:nvPr/>
        </p:nvGrpSpPr>
        <p:grpSpPr>
          <a:xfrm>
            <a:off x="7086600" y="1523880"/>
            <a:ext cx="1219320" cy="2210040"/>
            <a:chOff x="7086600" y="1523880"/>
            <a:chExt cx="1219320" cy="2210040"/>
          </a:xfrm>
        </p:grpSpPr>
        <p:sp>
          <p:nvSpPr>
            <p:cNvPr id="3487" name=""/>
            <p:cNvSpPr/>
            <p:nvPr/>
          </p:nvSpPr>
          <p:spPr>
            <a:xfrm>
              <a:off x="7086600" y="1523880"/>
              <a:ext cx="1219320" cy="2210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Li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= 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/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162920" y="1600200"/>
              <a:ext cx="1066680" cy="1066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7315200" y="1752480"/>
              <a:ext cx="762120" cy="76212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0" name=""/>
          <p:cNvGrpSpPr/>
          <p:nvPr/>
        </p:nvGrpSpPr>
        <p:grpSpPr>
          <a:xfrm>
            <a:off x="5867280" y="1523880"/>
            <a:ext cx="1219320" cy="2210040"/>
            <a:chOff x="5867280" y="1523880"/>
            <a:chExt cx="1219320" cy="2210040"/>
          </a:xfrm>
        </p:grpSpPr>
        <p:sp>
          <p:nvSpPr>
            <p:cNvPr id="3491" name=""/>
            <p:cNvSpPr/>
            <p:nvPr/>
          </p:nvSpPr>
          <p:spPr>
            <a:xfrm>
              <a:off x="5867280" y="1523880"/>
              <a:ext cx="1219320" cy="221004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5943600" y="1600200"/>
              <a:ext cx="1066680" cy="1066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095880" y="1752480"/>
              <a:ext cx="762120" cy="762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4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7086600" y="3962520"/>
            <a:ext cx="1219320" cy="2209680"/>
            <a:chOff x="7086600" y="3962520"/>
            <a:chExt cx="1219320" cy="2209680"/>
          </a:xfrm>
        </p:grpSpPr>
        <p:sp>
          <p:nvSpPr>
            <p:cNvPr id="3497" name=""/>
            <p:cNvSpPr/>
            <p:nvPr/>
          </p:nvSpPr>
          <p:spPr>
            <a:xfrm>
              <a:off x="7086600" y="3962520"/>
              <a:ext cx="1219320" cy="2209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/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162920" y="5029200"/>
              <a:ext cx="106668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315200" y="5181480"/>
              <a:ext cx="762120" cy="762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0" name=""/>
          <p:cNvGrpSpPr/>
          <p:nvPr/>
        </p:nvGrpSpPr>
        <p:grpSpPr>
          <a:xfrm>
            <a:off x="4648320" y="3962520"/>
            <a:ext cx="1218960" cy="2209680"/>
            <a:chOff x="4648320" y="3962520"/>
            <a:chExt cx="1218960" cy="2209680"/>
          </a:xfrm>
        </p:grpSpPr>
        <p:sp>
          <p:nvSpPr>
            <p:cNvPr id="3501" name=""/>
            <p:cNvSpPr/>
            <p:nvPr/>
          </p:nvSpPr>
          <p:spPr>
            <a:xfrm>
              <a:off x="4648320" y="3962520"/>
              <a:ext cx="1218960" cy="2209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C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= sqr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/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4724280" y="5029200"/>
              <a:ext cx="1067040" cy="1066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876920" y="5181480"/>
              <a:ext cx="761760" cy="76212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4" name=""/>
          <p:cNvSpPr/>
          <p:nvPr/>
        </p:nvSpPr>
        <p:spPr>
          <a:xfrm>
            <a:off x="5943600" y="50292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6095880" y="518148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8" name=""/>
          <p:cNvGrpSpPr/>
          <p:nvPr/>
        </p:nvGrpSpPr>
        <p:grpSpPr>
          <a:xfrm>
            <a:off x="3200400" y="3962520"/>
            <a:ext cx="1219320" cy="2209680"/>
            <a:chOff x="3200400" y="3962520"/>
            <a:chExt cx="1219320" cy="2209680"/>
          </a:xfrm>
        </p:grpSpPr>
        <p:sp>
          <p:nvSpPr>
            <p:cNvPr id="3509" name=""/>
            <p:cNvSpPr/>
            <p:nvPr/>
          </p:nvSpPr>
          <p:spPr>
            <a:xfrm>
              <a:off x="3200400" y="3962520"/>
              <a:ext cx="1219320" cy="2209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3276720" y="5029200"/>
              <a:ext cx="106668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3429000" y="5181480"/>
              <a:ext cx="762120" cy="7621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1981080" y="3962520"/>
            <a:ext cx="1219320" cy="2209680"/>
            <a:chOff x="1981080" y="3962520"/>
            <a:chExt cx="1219320" cy="2209680"/>
          </a:xfrm>
        </p:grpSpPr>
        <p:sp>
          <p:nvSpPr>
            <p:cNvPr id="3513" name=""/>
            <p:cNvSpPr/>
            <p:nvPr/>
          </p:nvSpPr>
          <p:spPr>
            <a:xfrm>
              <a:off x="1981080" y="3962520"/>
              <a:ext cx="1219320" cy="2209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Wate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057400" y="5029200"/>
              <a:ext cx="1066680" cy="1066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209680" y="5181480"/>
              <a:ext cx="762120" cy="7621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6" name=""/>
          <p:cNvSpPr/>
          <p:nvPr/>
        </p:nvSpPr>
        <p:spPr>
          <a:xfrm>
            <a:off x="838080" y="5029200"/>
            <a:ext cx="10670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990720" y="5181480"/>
            <a:ext cx="76176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4724280" y="1600200"/>
            <a:ext cx="106704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4876920" y="1752480"/>
            <a:ext cx="761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5943600" y="50292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6095880" y="518148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838080" y="5029200"/>
            <a:ext cx="10670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990720" y="5181480"/>
            <a:ext cx="76176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u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Nept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838080" y="1600200"/>
            <a:ext cx="106704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990720" y="1752480"/>
            <a:ext cx="76176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6" name=""/>
          <p:cNvGrpSpPr/>
          <p:nvPr/>
        </p:nvGrpSpPr>
        <p:grpSpPr>
          <a:xfrm>
            <a:off x="3200400" y="1523880"/>
            <a:ext cx="1219320" cy="2210040"/>
            <a:chOff x="3200400" y="1523880"/>
            <a:chExt cx="1219320" cy="2210040"/>
          </a:xfrm>
        </p:grpSpPr>
        <p:sp>
          <p:nvSpPr>
            <p:cNvPr id="3537" name=""/>
            <p:cNvSpPr/>
            <p:nvPr/>
          </p:nvSpPr>
          <p:spPr>
            <a:xfrm>
              <a:off x="3200400" y="1523880"/>
              <a:ext cx="1219320" cy="2210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C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=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/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276720" y="1600200"/>
              <a:ext cx="1066680" cy="1066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429000" y="1752480"/>
              <a:ext cx="762120" cy="7621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0" name=""/>
          <p:cNvGrpSpPr/>
          <p:nvPr/>
        </p:nvGrpSpPr>
        <p:grpSpPr>
          <a:xfrm>
            <a:off x="1981080" y="1523880"/>
            <a:ext cx="1219320" cy="2210040"/>
            <a:chOff x="1981080" y="1523880"/>
            <a:chExt cx="1219320" cy="2210040"/>
          </a:xfrm>
        </p:grpSpPr>
        <p:sp>
          <p:nvSpPr>
            <p:cNvPr id="3541" name=""/>
            <p:cNvSpPr/>
            <p:nvPr/>
          </p:nvSpPr>
          <p:spPr>
            <a:xfrm>
              <a:off x="1981080" y="1523880"/>
              <a:ext cx="1219320" cy="2210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q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Ai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/ 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057400" y="1600200"/>
              <a:ext cx="1066680" cy="1066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209680" y="1752480"/>
              <a:ext cx="762120" cy="7621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4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5" name=""/>
          <p:cNvGrpSpPr/>
          <p:nvPr/>
        </p:nvGrpSpPr>
        <p:grpSpPr>
          <a:xfrm>
            <a:off x="4648320" y="1523880"/>
            <a:ext cx="1218960" cy="2210040"/>
            <a:chOff x="4648320" y="1523880"/>
            <a:chExt cx="1218960" cy="2210040"/>
          </a:xfrm>
        </p:grpSpPr>
        <p:sp>
          <p:nvSpPr>
            <p:cNvPr id="3546" name=""/>
            <p:cNvSpPr/>
            <p:nvPr/>
          </p:nvSpPr>
          <p:spPr>
            <a:xfrm>
              <a:off x="4648320" y="1523880"/>
              <a:ext cx="1218960" cy="221004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sqr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724280" y="1600200"/>
              <a:ext cx="1067040" cy="1066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876920" y="1752480"/>
              <a:ext cx="761760" cy="762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9" name=""/>
          <p:cNvGrpSpPr/>
          <p:nvPr/>
        </p:nvGrpSpPr>
        <p:grpSpPr>
          <a:xfrm>
            <a:off x="7086600" y="1523880"/>
            <a:ext cx="1219320" cy="2210040"/>
            <a:chOff x="7086600" y="1523880"/>
            <a:chExt cx="1219320" cy="2210040"/>
          </a:xfrm>
        </p:grpSpPr>
        <p:sp>
          <p:nvSpPr>
            <p:cNvPr id="3550" name=""/>
            <p:cNvSpPr/>
            <p:nvPr/>
          </p:nvSpPr>
          <p:spPr>
            <a:xfrm>
              <a:off x="7086600" y="1523880"/>
              <a:ext cx="1219320" cy="2210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Li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= 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/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16292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315200" y="1752480"/>
              <a:ext cx="76212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3" name=""/>
          <p:cNvGrpSpPr/>
          <p:nvPr/>
        </p:nvGrpSpPr>
        <p:grpSpPr>
          <a:xfrm>
            <a:off x="5867280" y="1523880"/>
            <a:ext cx="1219320" cy="2210040"/>
            <a:chOff x="5867280" y="1523880"/>
            <a:chExt cx="1219320" cy="2210040"/>
          </a:xfrm>
        </p:grpSpPr>
        <p:sp>
          <p:nvSpPr>
            <p:cNvPr id="3554" name=""/>
            <p:cNvSpPr/>
            <p:nvPr/>
          </p:nvSpPr>
          <p:spPr>
            <a:xfrm>
              <a:off x="5867280" y="1523880"/>
              <a:ext cx="1219320" cy="22100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Plu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5943600" y="16002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6095880" y="1752480"/>
              <a:ext cx="76212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7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4648320" y="3962520"/>
            <a:ext cx="1218960" cy="2209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7162920" y="50292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7315200" y="5181480"/>
            <a:ext cx="7621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4724280" y="5029200"/>
            <a:ext cx="10670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4876920" y="5181480"/>
            <a:ext cx="76176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4" name=""/>
          <p:cNvGrpSpPr/>
          <p:nvPr/>
        </p:nvGrpSpPr>
        <p:grpSpPr>
          <a:xfrm>
            <a:off x="5867280" y="3962520"/>
            <a:ext cx="1219320" cy="2209680"/>
            <a:chOff x="5867280" y="3962520"/>
            <a:chExt cx="1219320" cy="2209680"/>
          </a:xfrm>
        </p:grpSpPr>
        <p:sp>
          <p:nvSpPr>
            <p:cNvPr id="3565" name=""/>
            <p:cNvSpPr/>
            <p:nvPr/>
          </p:nvSpPr>
          <p:spPr>
            <a:xfrm>
              <a:off x="5867280" y="3962520"/>
              <a:ext cx="1219320" cy="2209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/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943600" y="5029200"/>
              <a:ext cx="106668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6095880" y="5181480"/>
              <a:ext cx="762120" cy="76212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8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0" name=""/>
          <p:cNvGrpSpPr/>
          <p:nvPr/>
        </p:nvGrpSpPr>
        <p:grpSpPr>
          <a:xfrm>
            <a:off x="3200400" y="3962520"/>
            <a:ext cx="1219320" cy="2209680"/>
            <a:chOff x="3200400" y="3962520"/>
            <a:chExt cx="1219320" cy="2209680"/>
          </a:xfrm>
        </p:grpSpPr>
        <p:sp>
          <p:nvSpPr>
            <p:cNvPr id="3571" name=""/>
            <p:cNvSpPr/>
            <p:nvPr/>
          </p:nvSpPr>
          <p:spPr>
            <a:xfrm>
              <a:off x="3200400" y="3962520"/>
              <a:ext cx="1219320" cy="2209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276720" y="5029200"/>
              <a:ext cx="106668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429000" y="5181480"/>
              <a:ext cx="762120" cy="7621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4" name=""/>
          <p:cNvSpPr/>
          <p:nvPr/>
        </p:nvSpPr>
        <p:spPr>
          <a:xfrm>
            <a:off x="2057400" y="5029200"/>
            <a:ext cx="10666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2209680" y="5181480"/>
            <a:ext cx="762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6" name=""/>
          <p:cNvGrpSpPr/>
          <p:nvPr/>
        </p:nvGrpSpPr>
        <p:grpSpPr>
          <a:xfrm>
            <a:off x="762120" y="3962520"/>
            <a:ext cx="1218960" cy="2209680"/>
            <a:chOff x="762120" y="3962520"/>
            <a:chExt cx="1218960" cy="2209680"/>
          </a:xfrm>
        </p:grpSpPr>
        <p:sp>
          <p:nvSpPr>
            <p:cNvPr id="3577" name=""/>
            <p:cNvSpPr/>
            <p:nvPr/>
          </p:nvSpPr>
          <p:spPr>
            <a:xfrm>
              <a:off x="762120" y="3962520"/>
              <a:ext cx="1218960" cy="2209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A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= Ai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/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838080" y="5029200"/>
              <a:ext cx="1067040" cy="1066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990720" y="5181480"/>
              <a:ext cx="761760" cy="7621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u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Nept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838080" y="1600200"/>
            <a:ext cx="106704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990720" y="1752480"/>
            <a:ext cx="76176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4648320" y="3962520"/>
            <a:ext cx="1218960" cy="2209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7162920" y="50292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7315200" y="5181480"/>
            <a:ext cx="7621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4724280" y="5029200"/>
            <a:ext cx="10670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4876920" y="5181480"/>
            <a:ext cx="76176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2057400" y="5029200"/>
            <a:ext cx="10666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2209680" y="5181480"/>
            <a:ext cx="762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Ura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0" name=""/>
          <p:cNvGrpSpPr/>
          <p:nvPr/>
        </p:nvGrpSpPr>
        <p:grpSpPr>
          <a:xfrm>
            <a:off x="762120" y="1523880"/>
            <a:ext cx="1218960" cy="2210040"/>
            <a:chOff x="762120" y="1523880"/>
            <a:chExt cx="1218960" cy="2210040"/>
          </a:xfrm>
        </p:grpSpPr>
        <p:sp>
          <p:nvSpPr>
            <p:cNvPr id="3601" name=""/>
            <p:cNvSpPr/>
            <p:nvPr/>
          </p:nvSpPr>
          <p:spPr>
            <a:xfrm>
              <a:off x="762120" y="1523880"/>
              <a:ext cx="1218960" cy="221004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/ Wate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838080" y="1600200"/>
              <a:ext cx="1067040" cy="1066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990720" y="1752480"/>
              <a:ext cx="761760" cy="7621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4" name=""/>
          <p:cNvSpPr/>
          <p:nvPr/>
        </p:nvSpPr>
        <p:spPr>
          <a:xfrm>
            <a:off x="327672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3429000" y="17524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2057400" y="1600200"/>
            <a:ext cx="106668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2209680" y="17524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0" name=""/>
          <p:cNvGrpSpPr/>
          <p:nvPr/>
        </p:nvGrpSpPr>
        <p:grpSpPr>
          <a:xfrm>
            <a:off x="4648320" y="1523880"/>
            <a:ext cx="1218960" cy="2210040"/>
            <a:chOff x="4648320" y="1523880"/>
            <a:chExt cx="1218960" cy="2210040"/>
          </a:xfrm>
        </p:grpSpPr>
        <p:sp>
          <p:nvSpPr>
            <p:cNvPr id="3611" name=""/>
            <p:cNvSpPr/>
            <p:nvPr/>
          </p:nvSpPr>
          <p:spPr>
            <a:xfrm>
              <a:off x="4648320" y="1523880"/>
              <a:ext cx="1218960" cy="221004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sqr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724280" y="1600200"/>
              <a:ext cx="1067040" cy="1066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4876920" y="1752480"/>
              <a:ext cx="761760" cy="762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4" name=""/>
          <p:cNvSpPr/>
          <p:nvPr/>
        </p:nvSpPr>
        <p:spPr>
          <a:xfrm>
            <a:off x="716292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7315200" y="175248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6" name=""/>
          <p:cNvGrpSpPr/>
          <p:nvPr/>
        </p:nvGrpSpPr>
        <p:grpSpPr>
          <a:xfrm>
            <a:off x="5867280" y="1523880"/>
            <a:ext cx="1219320" cy="2210040"/>
            <a:chOff x="5867280" y="1523880"/>
            <a:chExt cx="1219320" cy="2210040"/>
          </a:xfrm>
        </p:grpSpPr>
        <p:sp>
          <p:nvSpPr>
            <p:cNvPr id="3617" name=""/>
            <p:cNvSpPr/>
            <p:nvPr/>
          </p:nvSpPr>
          <p:spPr>
            <a:xfrm>
              <a:off x="5867280" y="1523880"/>
              <a:ext cx="1219320" cy="221004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5943600" y="1600200"/>
              <a:ext cx="1066680" cy="1066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095880" y="1752480"/>
              <a:ext cx="762120" cy="762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0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7162920" y="50292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7315200" y="5181480"/>
            <a:ext cx="7621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4" name=""/>
          <p:cNvGrpSpPr/>
          <p:nvPr/>
        </p:nvGrpSpPr>
        <p:grpSpPr>
          <a:xfrm>
            <a:off x="4648320" y="3962520"/>
            <a:ext cx="1218960" cy="2209680"/>
            <a:chOff x="4648320" y="3962520"/>
            <a:chExt cx="1218960" cy="2209680"/>
          </a:xfrm>
        </p:grpSpPr>
        <p:sp>
          <p:nvSpPr>
            <p:cNvPr id="3625" name=""/>
            <p:cNvSpPr/>
            <p:nvPr/>
          </p:nvSpPr>
          <p:spPr>
            <a:xfrm>
              <a:off x="4648320" y="3962520"/>
              <a:ext cx="1218960" cy="2209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C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= sqr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/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4724280" y="5029200"/>
              <a:ext cx="1067040" cy="1066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4876920" y="5181480"/>
              <a:ext cx="761760" cy="76212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5867280" y="3962520"/>
            <a:ext cx="1219320" cy="2209680"/>
            <a:chOff x="5867280" y="3962520"/>
            <a:chExt cx="1219320" cy="2209680"/>
          </a:xfrm>
        </p:grpSpPr>
        <p:sp>
          <p:nvSpPr>
            <p:cNvPr id="3629" name=""/>
            <p:cNvSpPr/>
            <p:nvPr/>
          </p:nvSpPr>
          <p:spPr>
            <a:xfrm>
              <a:off x="5867280" y="3962520"/>
              <a:ext cx="1219320" cy="2209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/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5943600" y="5029200"/>
              <a:ext cx="106668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095880" y="5181480"/>
              <a:ext cx="762120" cy="76212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2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3200400" y="3962520"/>
            <a:ext cx="121932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3276720" y="50292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3429000" y="5181480"/>
            <a:ext cx="762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2057400" y="5029200"/>
            <a:ext cx="10666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2209680" y="5181480"/>
            <a:ext cx="762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9" name=""/>
          <p:cNvGrpSpPr/>
          <p:nvPr/>
        </p:nvGrpSpPr>
        <p:grpSpPr>
          <a:xfrm>
            <a:off x="762120" y="3962520"/>
            <a:ext cx="1218960" cy="2209680"/>
            <a:chOff x="762120" y="3962520"/>
            <a:chExt cx="1218960" cy="2209680"/>
          </a:xfrm>
        </p:grpSpPr>
        <p:sp>
          <p:nvSpPr>
            <p:cNvPr id="3640" name=""/>
            <p:cNvSpPr/>
            <p:nvPr/>
          </p:nvSpPr>
          <p:spPr>
            <a:xfrm>
              <a:off x="762120" y="3962520"/>
              <a:ext cx="1218960" cy="2209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A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= Ai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/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838080" y="5029200"/>
              <a:ext cx="1067040" cy="1066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990720" y="5181480"/>
              <a:ext cx="761760" cy="7621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Ura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327672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3429000" y="17524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2057400" y="1600200"/>
            <a:ext cx="106668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209680" y="17524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716292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7315200" y="175248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7162920" y="50292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7315200" y="5181480"/>
            <a:ext cx="7621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3200400" y="3962520"/>
            <a:ext cx="121932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3276720" y="50292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3429000" y="5181480"/>
            <a:ext cx="762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2057400" y="5029200"/>
            <a:ext cx="10666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2209680" y="5181480"/>
            <a:ext cx="762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Ura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Nept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838080" y="1600200"/>
            <a:ext cx="106704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990720" y="1752480"/>
            <a:ext cx="76176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327672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3429000" y="17524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2057400" y="1600200"/>
            <a:ext cx="106668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2209680" y="17524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9" name=""/>
          <p:cNvGrpSpPr/>
          <p:nvPr/>
        </p:nvGrpSpPr>
        <p:grpSpPr>
          <a:xfrm>
            <a:off x="4648320" y="1523880"/>
            <a:ext cx="1218960" cy="2210040"/>
            <a:chOff x="4648320" y="1523880"/>
            <a:chExt cx="1218960" cy="2210040"/>
          </a:xfrm>
        </p:grpSpPr>
        <p:sp>
          <p:nvSpPr>
            <p:cNvPr id="3680" name=""/>
            <p:cNvSpPr/>
            <p:nvPr/>
          </p:nvSpPr>
          <p:spPr>
            <a:xfrm>
              <a:off x="4648320" y="1523880"/>
              <a:ext cx="1218960" cy="221004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sqr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4724280" y="1600200"/>
              <a:ext cx="1067040" cy="1066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4876920" y="1752480"/>
              <a:ext cx="761760" cy="762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3" name=""/>
          <p:cNvSpPr/>
          <p:nvPr/>
        </p:nvSpPr>
        <p:spPr>
          <a:xfrm>
            <a:off x="716292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7315200" y="175248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5" name=""/>
          <p:cNvGrpSpPr/>
          <p:nvPr/>
        </p:nvGrpSpPr>
        <p:grpSpPr>
          <a:xfrm>
            <a:off x="5867280" y="1523880"/>
            <a:ext cx="1219320" cy="2210040"/>
            <a:chOff x="5867280" y="1523880"/>
            <a:chExt cx="1219320" cy="2210040"/>
          </a:xfrm>
        </p:grpSpPr>
        <p:sp>
          <p:nvSpPr>
            <p:cNvPr id="3686" name=""/>
            <p:cNvSpPr/>
            <p:nvPr/>
          </p:nvSpPr>
          <p:spPr>
            <a:xfrm>
              <a:off x="5867280" y="1523880"/>
              <a:ext cx="1219320" cy="221004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943600" y="1600200"/>
              <a:ext cx="1066680" cy="1066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6095880" y="1752480"/>
              <a:ext cx="762120" cy="762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9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0" name=""/>
          <p:cNvGrpSpPr/>
          <p:nvPr/>
        </p:nvGrpSpPr>
        <p:grpSpPr>
          <a:xfrm>
            <a:off x="7086600" y="3962520"/>
            <a:ext cx="1219320" cy="2209680"/>
            <a:chOff x="7086600" y="3962520"/>
            <a:chExt cx="1219320" cy="2209680"/>
          </a:xfrm>
        </p:grpSpPr>
        <p:sp>
          <p:nvSpPr>
            <p:cNvPr id="3691" name=""/>
            <p:cNvSpPr/>
            <p:nvPr/>
          </p:nvSpPr>
          <p:spPr>
            <a:xfrm>
              <a:off x="7086600" y="3962520"/>
              <a:ext cx="1219320" cy="2209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/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162920" y="50292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315200" y="5181480"/>
              <a:ext cx="76212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4" name=""/>
          <p:cNvGrpSpPr/>
          <p:nvPr/>
        </p:nvGrpSpPr>
        <p:grpSpPr>
          <a:xfrm>
            <a:off x="4648320" y="3962520"/>
            <a:ext cx="1218960" cy="2209680"/>
            <a:chOff x="4648320" y="3962520"/>
            <a:chExt cx="1218960" cy="2209680"/>
          </a:xfrm>
        </p:grpSpPr>
        <p:sp>
          <p:nvSpPr>
            <p:cNvPr id="3695" name=""/>
            <p:cNvSpPr/>
            <p:nvPr/>
          </p:nvSpPr>
          <p:spPr>
            <a:xfrm>
              <a:off x="4648320" y="3962520"/>
              <a:ext cx="1218960" cy="2209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C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= sqr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/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4724280" y="5029200"/>
              <a:ext cx="1067040" cy="1066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4876920" y="5181480"/>
              <a:ext cx="761760" cy="76212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8" name=""/>
          <p:cNvGrpSpPr/>
          <p:nvPr/>
        </p:nvGrpSpPr>
        <p:grpSpPr>
          <a:xfrm>
            <a:off x="5867280" y="3962520"/>
            <a:ext cx="1219320" cy="2209680"/>
            <a:chOff x="5867280" y="3962520"/>
            <a:chExt cx="1219320" cy="2209680"/>
          </a:xfrm>
        </p:grpSpPr>
        <p:sp>
          <p:nvSpPr>
            <p:cNvPr id="3699" name=""/>
            <p:cNvSpPr/>
            <p:nvPr/>
          </p:nvSpPr>
          <p:spPr>
            <a:xfrm>
              <a:off x="5867280" y="3962520"/>
              <a:ext cx="1219320" cy="2209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/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943600" y="5029200"/>
              <a:ext cx="106668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6095880" y="5181480"/>
              <a:ext cx="762120" cy="76212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2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4" name=""/>
          <p:cNvGrpSpPr/>
          <p:nvPr/>
        </p:nvGrpSpPr>
        <p:grpSpPr>
          <a:xfrm>
            <a:off x="3200400" y="3962520"/>
            <a:ext cx="1219320" cy="2209680"/>
            <a:chOff x="3200400" y="3962520"/>
            <a:chExt cx="1219320" cy="2209680"/>
          </a:xfrm>
        </p:grpSpPr>
        <p:sp>
          <p:nvSpPr>
            <p:cNvPr id="3705" name=""/>
            <p:cNvSpPr/>
            <p:nvPr/>
          </p:nvSpPr>
          <p:spPr>
            <a:xfrm>
              <a:off x="3200400" y="3962520"/>
              <a:ext cx="1219320" cy="2209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3276720" y="5029200"/>
              <a:ext cx="106668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429000" y="5181480"/>
              <a:ext cx="762120" cy="7621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8" name=""/>
          <p:cNvSpPr/>
          <p:nvPr/>
        </p:nvSpPr>
        <p:spPr>
          <a:xfrm>
            <a:off x="2057400" y="5029200"/>
            <a:ext cx="10666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2209680" y="5181480"/>
            <a:ext cx="762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0" name=""/>
          <p:cNvGrpSpPr/>
          <p:nvPr/>
        </p:nvGrpSpPr>
        <p:grpSpPr>
          <a:xfrm>
            <a:off x="762120" y="3962520"/>
            <a:ext cx="1218960" cy="2209680"/>
            <a:chOff x="762120" y="3962520"/>
            <a:chExt cx="1218960" cy="2209680"/>
          </a:xfrm>
        </p:grpSpPr>
        <p:sp>
          <p:nvSpPr>
            <p:cNvPr id="3711" name=""/>
            <p:cNvSpPr/>
            <p:nvPr/>
          </p:nvSpPr>
          <p:spPr>
            <a:xfrm>
              <a:off x="762120" y="3962520"/>
              <a:ext cx="1218960" cy="2209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A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= Ai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/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838080" y="5029200"/>
              <a:ext cx="1067040" cy="1066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990720" y="5181480"/>
              <a:ext cx="761760" cy="7621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Ura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Nept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838080" y="1600200"/>
            <a:ext cx="106704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990720" y="1752480"/>
            <a:ext cx="76176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327672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3429000" y="17524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2057400" y="1600200"/>
            <a:ext cx="106668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2209680" y="17524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716292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7315200" y="175248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2057400" y="5029200"/>
            <a:ext cx="10666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2209680" y="5181480"/>
            <a:ext cx="762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Nept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838080" y="1600200"/>
            <a:ext cx="106704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990720" y="1752480"/>
            <a:ext cx="76176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327672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3429000" y="17524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1981080" y="1523880"/>
            <a:ext cx="1219320" cy="2210040"/>
            <a:chOff x="1981080" y="1523880"/>
            <a:chExt cx="1219320" cy="2210040"/>
          </a:xfrm>
        </p:grpSpPr>
        <p:sp>
          <p:nvSpPr>
            <p:cNvPr id="3742" name=""/>
            <p:cNvSpPr/>
            <p:nvPr/>
          </p:nvSpPr>
          <p:spPr>
            <a:xfrm>
              <a:off x="1981080" y="1523880"/>
              <a:ext cx="1219320" cy="2210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q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Ai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/ 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057400" y="1600200"/>
              <a:ext cx="1066680" cy="1066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209680" y="1752480"/>
              <a:ext cx="762120" cy="7621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5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5867280" y="1523880"/>
            <a:ext cx="121932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P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4724280" y="1600200"/>
            <a:ext cx="106704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4876920" y="1752480"/>
            <a:ext cx="761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0" name=""/>
          <p:cNvGrpSpPr/>
          <p:nvPr/>
        </p:nvGrpSpPr>
        <p:grpSpPr>
          <a:xfrm>
            <a:off x="7086600" y="1523880"/>
            <a:ext cx="1219320" cy="2210040"/>
            <a:chOff x="7086600" y="1523880"/>
            <a:chExt cx="1219320" cy="2210040"/>
          </a:xfrm>
        </p:grpSpPr>
        <p:sp>
          <p:nvSpPr>
            <p:cNvPr id="3751" name=""/>
            <p:cNvSpPr/>
            <p:nvPr/>
          </p:nvSpPr>
          <p:spPr>
            <a:xfrm>
              <a:off x="7086600" y="1523880"/>
              <a:ext cx="1219320" cy="2210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Li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= 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/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162920" y="1600200"/>
              <a:ext cx="1066680" cy="1066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315200" y="1752480"/>
              <a:ext cx="762120" cy="76212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4" name=""/>
          <p:cNvSpPr/>
          <p:nvPr/>
        </p:nvSpPr>
        <p:spPr>
          <a:xfrm>
            <a:off x="594360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6095880" y="1752480"/>
            <a:ext cx="7621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8" name=""/>
          <p:cNvGrpSpPr/>
          <p:nvPr/>
        </p:nvGrpSpPr>
        <p:grpSpPr>
          <a:xfrm>
            <a:off x="7086600" y="3962520"/>
            <a:ext cx="1219320" cy="2209680"/>
            <a:chOff x="7086600" y="3962520"/>
            <a:chExt cx="1219320" cy="2209680"/>
          </a:xfrm>
        </p:grpSpPr>
        <p:sp>
          <p:nvSpPr>
            <p:cNvPr id="3759" name=""/>
            <p:cNvSpPr/>
            <p:nvPr/>
          </p:nvSpPr>
          <p:spPr>
            <a:xfrm>
              <a:off x="7086600" y="3962520"/>
              <a:ext cx="1219320" cy="2209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/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162920" y="5029200"/>
              <a:ext cx="106668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315200" y="5181480"/>
              <a:ext cx="762120" cy="762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2" name=""/>
          <p:cNvGrpSpPr/>
          <p:nvPr/>
        </p:nvGrpSpPr>
        <p:grpSpPr>
          <a:xfrm>
            <a:off x="4648320" y="3962520"/>
            <a:ext cx="1218960" cy="2209680"/>
            <a:chOff x="4648320" y="3962520"/>
            <a:chExt cx="1218960" cy="2209680"/>
          </a:xfrm>
        </p:grpSpPr>
        <p:sp>
          <p:nvSpPr>
            <p:cNvPr id="3763" name=""/>
            <p:cNvSpPr/>
            <p:nvPr/>
          </p:nvSpPr>
          <p:spPr>
            <a:xfrm>
              <a:off x="4648320" y="3962520"/>
              <a:ext cx="1218960" cy="2209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C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= sqr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/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724280" y="5029200"/>
              <a:ext cx="1067040" cy="1066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876920" y="5181480"/>
              <a:ext cx="761760" cy="76212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6" name=""/>
          <p:cNvSpPr/>
          <p:nvPr/>
        </p:nvSpPr>
        <p:spPr>
          <a:xfrm>
            <a:off x="5943600" y="50292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6095880" y="518148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0" name=""/>
          <p:cNvGrpSpPr/>
          <p:nvPr/>
        </p:nvGrpSpPr>
        <p:grpSpPr>
          <a:xfrm>
            <a:off x="3200400" y="3962520"/>
            <a:ext cx="1219320" cy="2209680"/>
            <a:chOff x="3200400" y="3962520"/>
            <a:chExt cx="1219320" cy="2209680"/>
          </a:xfrm>
        </p:grpSpPr>
        <p:sp>
          <p:nvSpPr>
            <p:cNvPr id="3771" name=""/>
            <p:cNvSpPr/>
            <p:nvPr/>
          </p:nvSpPr>
          <p:spPr>
            <a:xfrm>
              <a:off x="3200400" y="3962520"/>
              <a:ext cx="1219320" cy="2209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3276720" y="5029200"/>
              <a:ext cx="106668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3429000" y="5181480"/>
              <a:ext cx="762120" cy="7621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4" name=""/>
          <p:cNvGrpSpPr/>
          <p:nvPr/>
        </p:nvGrpSpPr>
        <p:grpSpPr>
          <a:xfrm>
            <a:off x="1981080" y="3962520"/>
            <a:ext cx="1219320" cy="2209680"/>
            <a:chOff x="1981080" y="3962520"/>
            <a:chExt cx="1219320" cy="2209680"/>
          </a:xfrm>
        </p:grpSpPr>
        <p:sp>
          <p:nvSpPr>
            <p:cNvPr id="3775" name=""/>
            <p:cNvSpPr/>
            <p:nvPr/>
          </p:nvSpPr>
          <p:spPr>
            <a:xfrm>
              <a:off x="1981080" y="3962520"/>
              <a:ext cx="1219320" cy="2209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Wate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2057400" y="5029200"/>
              <a:ext cx="1066680" cy="1066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2209680" y="5181480"/>
              <a:ext cx="762120" cy="7621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8" name=""/>
          <p:cNvSpPr/>
          <p:nvPr/>
        </p:nvSpPr>
        <p:spPr>
          <a:xfrm>
            <a:off x="838080" y="5029200"/>
            <a:ext cx="10670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990720" y="5181480"/>
            <a:ext cx="76176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ll of dogma and great gues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676520" y="2438280"/>
            <a:ext cx="601956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Astrology tells us so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Nept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838080" y="1600200"/>
            <a:ext cx="106704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990720" y="1752480"/>
            <a:ext cx="76176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327672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3429000" y="17524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5867280" y="1523880"/>
            <a:ext cx="121932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P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4724280" y="1600200"/>
            <a:ext cx="106704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4876920" y="1752480"/>
            <a:ext cx="761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594360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6095880" y="1752480"/>
            <a:ext cx="7621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5943600" y="50292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6095880" y="518148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838080" y="5029200"/>
            <a:ext cx="10670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990720" y="5181480"/>
            <a:ext cx="76176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Nept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838080" y="1600200"/>
            <a:ext cx="106704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990720" y="1752480"/>
            <a:ext cx="76176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8" name=""/>
          <p:cNvGrpSpPr/>
          <p:nvPr/>
        </p:nvGrpSpPr>
        <p:grpSpPr>
          <a:xfrm>
            <a:off x="3200400" y="1523880"/>
            <a:ext cx="1219320" cy="2210040"/>
            <a:chOff x="3200400" y="1523880"/>
            <a:chExt cx="1219320" cy="2210040"/>
          </a:xfrm>
        </p:grpSpPr>
        <p:sp>
          <p:nvSpPr>
            <p:cNvPr id="3809" name=""/>
            <p:cNvSpPr/>
            <p:nvPr/>
          </p:nvSpPr>
          <p:spPr>
            <a:xfrm>
              <a:off x="3200400" y="1523880"/>
              <a:ext cx="1219320" cy="22100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C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=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/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3276720" y="1600200"/>
              <a:ext cx="1066680" cy="1066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3429000" y="1752480"/>
              <a:ext cx="762120" cy="7621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2" name=""/>
          <p:cNvGrpSpPr/>
          <p:nvPr/>
        </p:nvGrpSpPr>
        <p:grpSpPr>
          <a:xfrm>
            <a:off x="1981080" y="1523880"/>
            <a:ext cx="1219320" cy="2210040"/>
            <a:chOff x="1981080" y="1523880"/>
            <a:chExt cx="1219320" cy="2210040"/>
          </a:xfrm>
        </p:grpSpPr>
        <p:sp>
          <p:nvSpPr>
            <p:cNvPr id="3813" name=""/>
            <p:cNvSpPr/>
            <p:nvPr/>
          </p:nvSpPr>
          <p:spPr>
            <a:xfrm>
              <a:off x="1981080" y="1523880"/>
              <a:ext cx="1219320" cy="2210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q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Ai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/ 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2057400" y="1600200"/>
              <a:ext cx="1066680" cy="1066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2209680" y="1752480"/>
              <a:ext cx="762120" cy="7621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6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5867280" y="1523880"/>
            <a:ext cx="121932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P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4724280" y="1600200"/>
            <a:ext cx="106704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4876920" y="1752480"/>
            <a:ext cx="761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1" name=""/>
          <p:cNvGrpSpPr/>
          <p:nvPr/>
        </p:nvGrpSpPr>
        <p:grpSpPr>
          <a:xfrm>
            <a:off x="7086600" y="1523880"/>
            <a:ext cx="1219320" cy="2210040"/>
            <a:chOff x="7086600" y="1523880"/>
            <a:chExt cx="1219320" cy="2210040"/>
          </a:xfrm>
        </p:grpSpPr>
        <p:sp>
          <p:nvSpPr>
            <p:cNvPr id="3822" name=""/>
            <p:cNvSpPr/>
            <p:nvPr/>
          </p:nvSpPr>
          <p:spPr>
            <a:xfrm>
              <a:off x="7086600" y="1523880"/>
              <a:ext cx="1219320" cy="2210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Li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= 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/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162920" y="1600200"/>
              <a:ext cx="1066680" cy="1066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315200" y="1752480"/>
              <a:ext cx="762120" cy="76212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5" name=""/>
          <p:cNvSpPr/>
          <p:nvPr/>
        </p:nvSpPr>
        <p:spPr>
          <a:xfrm>
            <a:off x="594360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6095880" y="1752480"/>
            <a:ext cx="7621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4648320" y="3962520"/>
            <a:ext cx="1218960" cy="2209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0" name=""/>
          <p:cNvGrpSpPr/>
          <p:nvPr/>
        </p:nvGrpSpPr>
        <p:grpSpPr>
          <a:xfrm>
            <a:off x="7086600" y="3962520"/>
            <a:ext cx="1219320" cy="2209680"/>
            <a:chOff x="7086600" y="3962520"/>
            <a:chExt cx="1219320" cy="2209680"/>
          </a:xfrm>
        </p:grpSpPr>
        <p:sp>
          <p:nvSpPr>
            <p:cNvPr id="3831" name=""/>
            <p:cNvSpPr/>
            <p:nvPr/>
          </p:nvSpPr>
          <p:spPr>
            <a:xfrm>
              <a:off x="7086600" y="3962520"/>
              <a:ext cx="1219320" cy="2209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/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162920" y="5029200"/>
              <a:ext cx="106668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7315200" y="5181480"/>
              <a:ext cx="762120" cy="762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4" name=""/>
          <p:cNvSpPr/>
          <p:nvPr/>
        </p:nvSpPr>
        <p:spPr>
          <a:xfrm>
            <a:off x="4724280" y="5029200"/>
            <a:ext cx="10670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4876920" y="5181480"/>
            <a:ext cx="76176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5943600" y="50292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6095880" y="518148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0" name=""/>
          <p:cNvGrpSpPr/>
          <p:nvPr/>
        </p:nvGrpSpPr>
        <p:grpSpPr>
          <a:xfrm>
            <a:off x="3200400" y="3962520"/>
            <a:ext cx="1219320" cy="2209680"/>
            <a:chOff x="3200400" y="3962520"/>
            <a:chExt cx="1219320" cy="2209680"/>
          </a:xfrm>
        </p:grpSpPr>
        <p:sp>
          <p:nvSpPr>
            <p:cNvPr id="3841" name=""/>
            <p:cNvSpPr/>
            <p:nvPr/>
          </p:nvSpPr>
          <p:spPr>
            <a:xfrm>
              <a:off x="3200400" y="3962520"/>
              <a:ext cx="1219320" cy="2209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3276720" y="5029200"/>
              <a:ext cx="106668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3429000" y="5181480"/>
              <a:ext cx="762120" cy="7621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4" name=""/>
          <p:cNvGrpSpPr/>
          <p:nvPr/>
        </p:nvGrpSpPr>
        <p:grpSpPr>
          <a:xfrm>
            <a:off x="1981080" y="3962520"/>
            <a:ext cx="1219320" cy="2209680"/>
            <a:chOff x="1981080" y="3962520"/>
            <a:chExt cx="1219320" cy="2209680"/>
          </a:xfrm>
        </p:grpSpPr>
        <p:sp>
          <p:nvSpPr>
            <p:cNvPr id="3845" name=""/>
            <p:cNvSpPr/>
            <p:nvPr/>
          </p:nvSpPr>
          <p:spPr>
            <a:xfrm>
              <a:off x="1981080" y="3962520"/>
              <a:ext cx="1219320" cy="2209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Wate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2057400" y="5029200"/>
              <a:ext cx="1066680" cy="1066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2209680" y="5181480"/>
              <a:ext cx="762120" cy="7621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8" name=""/>
          <p:cNvSpPr/>
          <p:nvPr/>
        </p:nvSpPr>
        <p:spPr>
          <a:xfrm>
            <a:off x="838080" y="5029200"/>
            <a:ext cx="10670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990720" y="5181480"/>
            <a:ext cx="76176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762120" y="1523880"/>
            <a:ext cx="121896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Nept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838080" y="1600200"/>
            <a:ext cx="106704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990720" y="1752480"/>
            <a:ext cx="76176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4648320" y="1523880"/>
            <a:ext cx="1218960" cy="22100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5867280" y="1523880"/>
            <a:ext cx="1219320" cy="221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P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4724280" y="1600200"/>
            <a:ext cx="106704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4876920" y="1752480"/>
            <a:ext cx="761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594360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6095880" y="1752480"/>
            <a:ext cx="7621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5867280" y="3962520"/>
            <a:ext cx="121932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4648320" y="3962520"/>
            <a:ext cx="1218960" cy="2209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sqr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4724280" y="5029200"/>
            <a:ext cx="10670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4876920" y="5181480"/>
            <a:ext cx="76176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5943600" y="50292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6095880" y="518148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762120" y="3962520"/>
            <a:ext cx="1218960" cy="2209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838080" y="5029200"/>
            <a:ext cx="10670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990720" y="5181480"/>
            <a:ext cx="76176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Ura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7" name=""/>
          <p:cNvGrpSpPr/>
          <p:nvPr/>
        </p:nvGrpSpPr>
        <p:grpSpPr>
          <a:xfrm>
            <a:off x="762120" y="1523880"/>
            <a:ext cx="1218960" cy="2210040"/>
            <a:chOff x="762120" y="1523880"/>
            <a:chExt cx="1218960" cy="2210040"/>
          </a:xfrm>
        </p:grpSpPr>
        <p:sp>
          <p:nvSpPr>
            <p:cNvPr id="3878" name=""/>
            <p:cNvSpPr/>
            <p:nvPr/>
          </p:nvSpPr>
          <p:spPr>
            <a:xfrm>
              <a:off x="762120" y="1523880"/>
              <a:ext cx="1218960" cy="221004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/ Wate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838080" y="1600200"/>
              <a:ext cx="1067040" cy="1066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990720" y="1752480"/>
              <a:ext cx="761760" cy="7621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1" name=""/>
          <p:cNvSpPr/>
          <p:nvPr/>
        </p:nvSpPr>
        <p:spPr>
          <a:xfrm>
            <a:off x="327672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3429000" y="17524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2057400" y="1600200"/>
            <a:ext cx="106668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2209680" y="17524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7" name=""/>
          <p:cNvGrpSpPr/>
          <p:nvPr/>
        </p:nvGrpSpPr>
        <p:grpSpPr>
          <a:xfrm>
            <a:off x="4648320" y="1523880"/>
            <a:ext cx="1218960" cy="2210040"/>
            <a:chOff x="4648320" y="1523880"/>
            <a:chExt cx="1218960" cy="2210040"/>
          </a:xfrm>
        </p:grpSpPr>
        <p:sp>
          <p:nvSpPr>
            <p:cNvPr id="3888" name=""/>
            <p:cNvSpPr/>
            <p:nvPr/>
          </p:nvSpPr>
          <p:spPr>
            <a:xfrm>
              <a:off x="4648320" y="1523880"/>
              <a:ext cx="1218960" cy="221004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sqr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4724280" y="1600200"/>
              <a:ext cx="1067040" cy="1066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4876920" y="1752480"/>
              <a:ext cx="761760" cy="762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1" name=""/>
          <p:cNvSpPr/>
          <p:nvPr/>
        </p:nvSpPr>
        <p:spPr>
          <a:xfrm>
            <a:off x="716292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7315200" y="175248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3" name=""/>
          <p:cNvGrpSpPr/>
          <p:nvPr/>
        </p:nvGrpSpPr>
        <p:grpSpPr>
          <a:xfrm>
            <a:off x="5867280" y="1523880"/>
            <a:ext cx="1219320" cy="2210040"/>
            <a:chOff x="5867280" y="1523880"/>
            <a:chExt cx="1219320" cy="2210040"/>
          </a:xfrm>
        </p:grpSpPr>
        <p:sp>
          <p:nvSpPr>
            <p:cNvPr id="3894" name=""/>
            <p:cNvSpPr/>
            <p:nvPr/>
          </p:nvSpPr>
          <p:spPr>
            <a:xfrm>
              <a:off x="5867280" y="1523880"/>
              <a:ext cx="1219320" cy="221004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5943600" y="1600200"/>
              <a:ext cx="1066680" cy="1066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6095880" y="1752480"/>
              <a:ext cx="762120" cy="7621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7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7162920" y="50292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7315200" y="5181480"/>
            <a:ext cx="7621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1" name=""/>
          <p:cNvGrpSpPr/>
          <p:nvPr/>
        </p:nvGrpSpPr>
        <p:grpSpPr>
          <a:xfrm>
            <a:off x="4648320" y="3962520"/>
            <a:ext cx="1218960" cy="2209680"/>
            <a:chOff x="4648320" y="3962520"/>
            <a:chExt cx="1218960" cy="2209680"/>
          </a:xfrm>
        </p:grpSpPr>
        <p:sp>
          <p:nvSpPr>
            <p:cNvPr id="3902" name=""/>
            <p:cNvSpPr/>
            <p:nvPr/>
          </p:nvSpPr>
          <p:spPr>
            <a:xfrm>
              <a:off x="4648320" y="3962520"/>
              <a:ext cx="1218960" cy="220968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C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= sqr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/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4724280" y="5029200"/>
              <a:ext cx="1067040" cy="1066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4876920" y="5181480"/>
              <a:ext cx="761760" cy="76212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5" name=""/>
          <p:cNvGrpSpPr/>
          <p:nvPr/>
        </p:nvGrpSpPr>
        <p:grpSpPr>
          <a:xfrm>
            <a:off x="5867280" y="3962520"/>
            <a:ext cx="1219320" cy="2209680"/>
            <a:chOff x="5867280" y="3962520"/>
            <a:chExt cx="1219320" cy="2209680"/>
          </a:xfrm>
        </p:grpSpPr>
        <p:sp>
          <p:nvSpPr>
            <p:cNvPr id="3906" name=""/>
            <p:cNvSpPr/>
            <p:nvPr/>
          </p:nvSpPr>
          <p:spPr>
            <a:xfrm>
              <a:off x="5867280" y="3962520"/>
              <a:ext cx="1219320" cy="2209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 F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/ 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5943600" y="5029200"/>
              <a:ext cx="106668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6095880" y="5181480"/>
              <a:ext cx="762120" cy="76212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9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3200400" y="3962520"/>
            <a:ext cx="121932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3276720" y="50292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3429000" y="5181480"/>
            <a:ext cx="762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2057400" y="5029200"/>
            <a:ext cx="10666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2209680" y="5181480"/>
            <a:ext cx="762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6" name=""/>
          <p:cNvGrpSpPr/>
          <p:nvPr/>
        </p:nvGrpSpPr>
        <p:grpSpPr>
          <a:xfrm>
            <a:off x="762120" y="3962520"/>
            <a:ext cx="1218960" cy="2209680"/>
            <a:chOff x="762120" y="3962520"/>
            <a:chExt cx="1218960" cy="2209680"/>
          </a:xfrm>
        </p:grpSpPr>
        <p:sp>
          <p:nvSpPr>
            <p:cNvPr id="3917" name=""/>
            <p:cNvSpPr/>
            <p:nvPr/>
          </p:nvSpPr>
          <p:spPr>
            <a:xfrm>
              <a:off x="762120" y="3962520"/>
              <a:ext cx="1218960" cy="2209680"/>
            </a:xfrm>
            <a:prstGeom prst="rect">
              <a:avLst/>
            </a:prstGeom>
            <a:solidFill>
              <a:srgbClr val="ff00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A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= Air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</a:rPr>
                <a:t>/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8" name=""/>
            <p:cNvGrpSpPr/>
            <p:nvPr/>
          </p:nvGrpSpPr>
          <p:grpSpPr>
            <a:xfrm>
              <a:off x="838080" y="5029200"/>
              <a:ext cx="1067040" cy="1066680"/>
              <a:chOff x="838080" y="5029200"/>
              <a:chExt cx="1067040" cy="1066680"/>
            </a:xfrm>
          </p:grpSpPr>
          <p:sp>
            <p:nvSpPr>
              <p:cNvPr id="3919" name=""/>
              <p:cNvSpPr/>
              <p:nvPr/>
            </p:nvSpPr>
            <p:spPr>
              <a:xfrm>
                <a:off x="838080" y="5029200"/>
                <a:ext cx="1067040" cy="106668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990720" y="5181480"/>
                <a:ext cx="761760" cy="76212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A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85800" y="1447920"/>
            <a:ext cx="380988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198108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Ura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3200400" y="1523880"/>
            <a:ext cx="121932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327672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3429000" y="17524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2057400" y="1600200"/>
            <a:ext cx="106668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2209680" y="17524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4572000" y="1447920"/>
            <a:ext cx="380988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7086600" y="1523880"/>
            <a:ext cx="1219320" cy="221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=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/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7162920" y="1600200"/>
            <a:ext cx="106668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7315200" y="1752480"/>
            <a:ext cx="762120" cy="762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4572000" y="3886200"/>
            <a:ext cx="3809880" cy="2362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708660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7162920" y="50292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7315200" y="5181480"/>
            <a:ext cx="7621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685800" y="3886200"/>
            <a:ext cx="3809880" cy="2362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1981080" y="3962520"/>
            <a:ext cx="121932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3200400" y="3962520"/>
            <a:ext cx="1219320" cy="220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3276720" y="5029200"/>
            <a:ext cx="106668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3429000" y="5181480"/>
            <a:ext cx="762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2057400" y="5029200"/>
            <a:ext cx="10666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2209680" y="5181480"/>
            <a:ext cx="762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e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cho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es the languag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 your proce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we all pointing 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600200" y="3581280"/>
            <a:ext cx="71629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es it answer</a:t>
            </a:r>
            <a:endParaRPr b="0" lang="en-US" sz="2400" spc="1" strike="noStrike">
              <a:ln w="6480">
                <a:solidFill>
                  <a:srgbClr val="b2b2b2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touch fir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feel air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speak meaning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see re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676520" y="2438280"/>
            <a:ext cx="601956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</a:rPr>
              <a:t>Astrology tells us so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Arial Black"/>
              <a:ea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47920" y="1000080"/>
            <a:ext cx="3066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Many Specialist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962520" y="304920"/>
            <a:ext cx="48765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impl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Fundamental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 rot="5400000">
            <a:off x="-2281320" y="2967120"/>
            <a:ext cx="6019920" cy="84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tterly declarativ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48320" y="1143000"/>
            <a:ext cx="3581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es i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1430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11430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1430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114300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11430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20574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0574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30481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30481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3048120"/>
            <a:ext cx="838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9718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29718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396252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9625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48769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48769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87692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48769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48769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8769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48769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11430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114300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Dogma + Forgotten Question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justify the catechis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elaborate in an echo chamb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sophistry &amp; mistak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47920" y="1000080"/>
            <a:ext cx="3066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anger Will Robinson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676520" y="3124080"/>
            <a:ext cx="5448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hat if nature did the talking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 many ‘if x then y’ rul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57400" y="11430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1800" y="11430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76920" y="114300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3000" y="11430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57400" y="20574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20574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7692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43000" y="30481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30481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8120" y="3048120"/>
            <a:ext cx="838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62520" y="29718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76920" y="29718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39625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76920" y="48769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48769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8120" y="487692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62520" y="48769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57400" y="48769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7692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4300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62520" y="114300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05600" y="1806480"/>
            <a:ext cx="2886120" cy="32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tting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isdom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ag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o us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34120" y="762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91120" y="3049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457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71600" y="14479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19320" y="2895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267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62320" y="1371600"/>
            <a:ext cx="3809880" cy="3809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5181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38480" y="5410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5181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22096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29400" y="3276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5880" y="4267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14600" y="1523880"/>
            <a:ext cx="3395520" cy="350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590920" y="2819520"/>
            <a:ext cx="3200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hat if we could read this right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05600" y="1806480"/>
            <a:ext cx="2886120" cy="32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tting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isdom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ag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o us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4" name=""/>
          <p:cNvSpPr/>
          <p:nvPr/>
        </p:nvSpPr>
        <p:spPr>
          <a:xfrm>
            <a:off x="1066680" y="6019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 many ‘if x then y’ rul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a lo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a lot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ut can we say ‘how’ an astrologer think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a lot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ut can we say ‘how’ an astrologer thinks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explain what we ‘read’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no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76320" y="0"/>
            <a:ext cx="89154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ZODIAC</a:t>
            </a:r>
            <a:endParaRPr b="0" lang="en-US" sz="2400" spc="1" strike="noStrike">
              <a:ln w="9360">
                <a:solidFill>
                  <a:srgbClr val="b2b2b2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k of ‘the above’ as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-print for ‘the below’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lue-pri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es the nature of ‘everything’ buil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11430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11430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114300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11430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0574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20574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30481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30481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048120"/>
            <a:ext cx="838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29718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9718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96252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9625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48769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48769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487692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48769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48769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114300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76320" y="0"/>
            <a:ext cx="89154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ZODIAC</a:t>
            </a:r>
            <a:endParaRPr b="0" lang="en-US" sz="2400" spc="1" strike="noStrike">
              <a:ln w="9360">
                <a:solidFill>
                  <a:srgbClr val="b2b2b2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structions for u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‘built-in’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57200" y="457200"/>
            <a:ext cx="1066680" cy="1066680"/>
            <a:chOff x="457200" y="457200"/>
            <a:chExt cx="1066680" cy="1066680"/>
          </a:xfrm>
        </p:grpSpPr>
        <p:sp>
          <p:nvSpPr>
            <p:cNvPr id="425" name=""/>
            <p:cNvSpPr/>
            <p:nvPr/>
          </p:nvSpPr>
          <p:spPr>
            <a:xfrm>
              <a:off x="457200" y="457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3160" y="533160"/>
              <a:ext cx="228240" cy="228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895480" y="457200"/>
            <a:ext cx="1066680" cy="1066680"/>
            <a:chOff x="2895480" y="457200"/>
            <a:chExt cx="1066680" cy="1066680"/>
          </a:xfrm>
        </p:grpSpPr>
        <p:sp>
          <p:nvSpPr>
            <p:cNvPr id="428" name=""/>
            <p:cNvSpPr/>
            <p:nvPr/>
          </p:nvSpPr>
          <p:spPr>
            <a:xfrm>
              <a:off x="2895480" y="457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47760" y="60948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676520" y="457200"/>
            <a:ext cx="1066680" cy="1066680"/>
            <a:chOff x="1676520" y="457200"/>
            <a:chExt cx="1066680" cy="1066680"/>
          </a:xfrm>
        </p:grpSpPr>
        <p:sp>
          <p:nvSpPr>
            <p:cNvPr id="431" name=""/>
            <p:cNvSpPr/>
            <p:nvPr/>
          </p:nvSpPr>
          <p:spPr>
            <a:xfrm>
              <a:off x="1676520" y="457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609480"/>
              <a:ext cx="76140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1676520" y="5334120"/>
            <a:ext cx="1066680" cy="1066680"/>
            <a:chOff x="1676520" y="5334120"/>
            <a:chExt cx="1066680" cy="1066680"/>
          </a:xfrm>
        </p:grpSpPr>
        <p:sp>
          <p:nvSpPr>
            <p:cNvPr id="434" name=""/>
            <p:cNvSpPr/>
            <p:nvPr/>
          </p:nvSpPr>
          <p:spPr>
            <a:xfrm>
              <a:off x="1676520" y="53341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28800" y="548640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57200" y="5334120"/>
            <a:ext cx="1066680" cy="1066680"/>
            <a:chOff x="457200" y="5334120"/>
            <a:chExt cx="1066680" cy="1066680"/>
          </a:xfrm>
        </p:grpSpPr>
        <p:sp>
          <p:nvSpPr>
            <p:cNvPr id="437" name=""/>
            <p:cNvSpPr/>
            <p:nvPr/>
          </p:nvSpPr>
          <p:spPr>
            <a:xfrm>
              <a:off x="457200" y="53341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3160" y="5410080"/>
              <a:ext cx="22824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895480" y="5334120"/>
            <a:ext cx="1066680" cy="1066680"/>
            <a:chOff x="2895480" y="5334120"/>
            <a:chExt cx="1066680" cy="1066680"/>
          </a:xfrm>
        </p:grpSpPr>
        <p:sp>
          <p:nvSpPr>
            <p:cNvPr id="440" name=""/>
            <p:cNvSpPr/>
            <p:nvPr/>
          </p:nvSpPr>
          <p:spPr>
            <a:xfrm>
              <a:off x="2895480" y="53341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7760" y="548640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7620120" y="5334120"/>
            <a:ext cx="1066680" cy="1066680"/>
            <a:chOff x="7620120" y="5334120"/>
            <a:chExt cx="1066680" cy="1066680"/>
          </a:xfrm>
        </p:grpSpPr>
        <p:sp>
          <p:nvSpPr>
            <p:cNvPr id="443" name=""/>
            <p:cNvSpPr/>
            <p:nvPr/>
          </p:nvSpPr>
          <p:spPr>
            <a:xfrm>
              <a:off x="7620120" y="53341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72400" y="548640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400800" y="5334120"/>
            <a:ext cx="1066680" cy="1066680"/>
            <a:chOff x="6400800" y="5334120"/>
            <a:chExt cx="1066680" cy="1066680"/>
          </a:xfrm>
        </p:grpSpPr>
        <p:sp>
          <p:nvSpPr>
            <p:cNvPr id="446" name=""/>
            <p:cNvSpPr/>
            <p:nvPr/>
          </p:nvSpPr>
          <p:spPr>
            <a:xfrm>
              <a:off x="6400800" y="53341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553080" y="548640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181480" y="5334120"/>
            <a:ext cx="1067040" cy="1066680"/>
            <a:chOff x="5181480" y="5334120"/>
            <a:chExt cx="1067040" cy="1066680"/>
          </a:xfrm>
        </p:grpSpPr>
        <p:sp>
          <p:nvSpPr>
            <p:cNvPr id="449" name=""/>
            <p:cNvSpPr/>
            <p:nvPr/>
          </p:nvSpPr>
          <p:spPr>
            <a:xfrm>
              <a:off x="5181480" y="533412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257800" y="541044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181480" y="457200"/>
            <a:ext cx="1067040" cy="1066680"/>
            <a:chOff x="5181480" y="457200"/>
            <a:chExt cx="1067040" cy="1066680"/>
          </a:xfrm>
        </p:grpSpPr>
        <p:sp>
          <p:nvSpPr>
            <p:cNvPr id="452" name=""/>
            <p:cNvSpPr/>
            <p:nvPr/>
          </p:nvSpPr>
          <p:spPr>
            <a:xfrm>
              <a:off x="5181480" y="457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57800" y="533160"/>
              <a:ext cx="22860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7620120" y="457200"/>
            <a:ext cx="1066680" cy="1066680"/>
            <a:chOff x="7620120" y="457200"/>
            <a:chExt cx="1066680" cy="1066680"/>
          </a:xfrm>
        </p:grpSpPr>
        <p:sp>
          <p:nvSpPr>
            <p:cNvPr id="455" name=""/>
            <p:cNvSpPr/>
            <p:nvPr/>
          </p:nvSpPr>
          <p:spPr>
            <a:xfrm>
              <a:off x="7620120" y="4572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72400" y="60948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400800" y="457200"/>
            <a:ext cx="1066680" cy="1066680"/>
            <a:chOff x="6400800" y="457200"/>
            <a:chExt cx="1066680" cy="1066680"/>
          </a:xfrm>
        </p:grpSpPr>
        <p:sp>
          <p:nvSpPr>
            <p:cNvPr id="458" name=""/>
            <p:cNvSpPr/>
            <p:nvPr/>
          </p:nvSpPr>
          <p:spPr>
            <a:xfrm>
              <a:off x="6400800" y="4572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53080" y="609480"/>
              <a:ext cx="761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q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76320" y="0"/>
            <a:ext cx="89154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ZODIAC</a:t>
            </a:r>
            <a:endParaRPr b="0" lang="en-US" sz="2400" spc="1" strike="noStrike">
              <a:ln w="9360">
                <a:solidFill>
                  <a:srgbClr val="b2b2b2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the zodia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living i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457200" y="457200"/>
            <a:ext cx="1066680" cy="1066680"/>
            <a:chOff x="457200" y="457200"/>
            <a:chExt cx="1066680" cy="1066680"/>
          </a:xfrm>
        </p:grpSpPr>
        <p:sp>
          <p:nvSpPr>
            <p:cNvPr id="463" name=""/>
            <p:cNvSpPr/>
            <p:nvPr/>
          </p:nvSpPr>
          <p:spPr>
            <a:xfrm>
              <a:off x="457200" y="457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33160" y="533160"/>
              <a:ext cx="228240" cy="228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895480" y="457200"/>
            <a:ext cx="1066680" cy="1066680"/>
            <a:chOff x="2895480" y="457200"/>
            <a:chExt cx="1066680" cy="1066680"/>
          </a:xfrm>
        </p:grpSpPr>
        <p:sp>
          <p:nvSpPr>
            <p:cNvPr id="466" name=""/>
            <p:cNvSpPr/>
            <p:nvPr/>
          </p:nvSpPr>
          <p:spPr>
            <a:xfrm>
              <a:off x="2895480" y="457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47760" y="60948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676520" y="457200"/>
            <a:ext cx="1066680" cy="1066680"/>
            <a:chOff x="1676520" y="457200"/>
            <a:chExt cx="1066680" cy="1066680"/>
          </a:xfrm>
        </p:grpSpPr>
        <p:sp>
          <p:nvSpPr>
            <p:cNvPr id="469" name=""/>
            <p:cNvSpPr/>
            <p:nvPr/>
          </p:nvSpPr>
          <p:spPr>
            <a:xfrm>
              <a:off x="1676520" y="457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28800" y="609480"/>
              <a:ext cx="76140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76520" y="5334120"/>
            <a:ext cx="1066680" cy="1066680"/>
            <a:chOff x="1676520" y="5334120"/>
            <a:chExt cx="1066680" cy="1066680"/>
          </a:xfrm>
        </p:grpSpPr>
        <p:sp>
          <p:nvSpPr>
            <p:cNvPr id="472" name=""/>
            <p:cNvSpPr/>
            <p:nvPr/>
          </p:nvSpPr>
          <p:spPr>
            <a:xfrm>
              <a:off x="1676520" y="53341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28800" y="548640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57200" y="5334120"/>
            <a:ext cx="1066680" cy="1066680"/>
            <a:chOff x="457200" y="5334120"/>
            <a:chExt cx="1066680" cy="1066680"/>
          </a:xfrm>
        </p:grpSpPr>
        <p:sp>
          <p:nvSpPr>
            <p:cNvPr id="475" name=""/>
            <p:cNvSpPr/>
            <p:nvPr/>
          </p:nvSpPr>
          <p:spPr>
            <a:xfrm>
              <a:off x="457200" y="53341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3160" y="5410080"/>
              <a:ext cx="22824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895480" y="5334120"/>
            <a:ext cx="1066680" cy="1066680"/>
            <a:chOff x="2895480" y="5334120"/>
            <a:chExt cx="1066680" cy="1066680"/>
          </a:xfrm>
        </p:grpSpPr>
        <p:sp>
          <p:nvSpPr>
            <p:cNvPr id="478" name=""/>
            <p:cNvSpPr/>
            <p:nvPr/>
          </p:nvSpPr>
          <p:spPr>
            <a:xfrm>
              <a:off x="2895480" y="53341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7760" y="548640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7620120" y="5334120"/>
            <a:ext cx="1066680" cy="1066680"/>
            <a:chOff x="7620120" y="5334120"/>
            <a:chExt cx="1066680" cy="1066680"/>
          </a:xfrm>
        </p:grpSpPr>
        <p:sp>
          <p:nvSpPr>
            <p:cNvPr id="481" name=""/>
            <p:cNvSpPr/>
            <p:nvPr/>
          </p:nvSpPr>
          <p:spPr>
            <a:xfrm>
              <a:off x="7620120" y="53341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72400" y="548640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6400800" y="5334120"/>
            <a:ext cx="1066680" cy="1066680"/>
            <a:chOff x="6400800" y="5334120"/>
            <a:chExt cx="1066680" cy="1066680"/>
          </a:xfrm>
        </p:grpSpPr>
        <p:sp>
          <p:nvSpPr>
            <p:cNvPr id="484" name=""/>
            <p:cNvSpPr/>
            <p:nvPr/>
          </p:nvSpPr>
          <p:spPr>
            <a:xfrm>
              <a:off x="6400800" y="53341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53080" y="548640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181480" y="5334120"/>
            <a:ext cx="1067040" cy="1066680"/>
            <a:chOff x="5181480" y="5334120"/>
            <a:chExt cx="1067040" cy="1066680"/>
          </a:xfrm>
        </p:grpSpPr>
        <p:sp>
          <p:nvSpPr>
            <p:cNvPr id="487" name=""/>
            <p:cNvSpPr/>
            <p:nvPr/>
          </p:nvSpPr>
          <p:spPr>
            <a:xfrm>
              <a:off x="5181480" y="533412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57800" y="541044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5181480" y="457200"/>
            <a:ext cx="1067040" cy="1066680"/>
            <a:chOff x="5181480" y="457200"/>
            <a:chExt cx="1067040" cy="1066680"/>
          </a:xfrm>
        </p:grpSpPr>
        <p:sp>
          <p:nvSpPr>
            <p:cNvPr id="490" name=""/>
            <p:cNvSpPr/>
            <p:nvPr/>
          </p:nvSpPr>
          <p:spPr>
            <a:xfrm>
              <a:off x="5181480" y="457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57800" y="533160"/>
              <a:ext cx="22860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620120" y="457200"/>
            <a:ext cx="1066680" cy="1066680"/>
            <a:chOff x="7620120" y="457200"/>
            <a:chExt cx="1066680" cy="1066680"/>
          </a:xfrm>
        </p:grpSpPr>
        <p:sp>
          <p:nvSpPr>
            <p:cNvPr id="493" name=""/>
            <p:cNvSpPr/>
            <p:nvPr/>
          </p:nvSpPr>
          <p:spPr>
            <a:xfrm>
              <a:off x="7620120" y="4572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72400" y="60948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6400800" y="457200"/>
            <a:ext cx="1066680" cy="1066680"/>
            <a:chOff x="6400800" y="457200"/>
            <a:chExt cx="1066680" cy="1066680"/>
          </a:xfrm>
        </p:grpSpPr>
        <p:sp>
          <p:nvSpPr>
            <p:cNvPr id="496" name=""/>
            <p:cNvSpPr/>
            <p:nvPr/>
          </p:nvSpPr>
          <p:spPr>
            <a:xfrm>
              <a:off x="6400800" y="4572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53080" y="609480"/>
              <a:ext cx="761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q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6320" y="0"/>
            <a:ext cx="89154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ZODIAC</a:t>
            </a:r>
            <a:endParaRPr b="0" lang="en-US" sz="2400" spc="1" strike="noStrike">
              <a:ln w="9360">
                <a:solidFill>
                  <a:srgbClr val="b2b2b2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ou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‘NATURE’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57200" y="457200"/>
            <a:ext cx="1066680" cy="1066680"/>
            <a:chOff x="457200" y="457200"/>
            <a:chExt cx="1066680" cy="1066680"/>
          </a:xfrm>
        </p:grpSpPr>
        <p:sp>
          <p:nvSpPr>
            <p:cNvPr id="501" name=""/>
            <p:cNvSpPr/>
            <p:nvPr/>
          </p:nvSpPr>
          <p:spPr>
            <a:xfrm>
              <a:off x="457200" y="457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33160" y="533160"/>
              <a:ext cx="228240" cy="228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895480" y="457200"/>
            <a:ext cx="1066680" cy="1066680"/>
            <a:chOff x="2895480" y="457200"/>
            <a:chExt cx="1066680" cy="1066680"/>
          </a:xfrm>
        </p:grpSpPr>
        <p:sp>
          <p:nvSpPr>
            <p:cNvPr id="504" name=""/>
            <p:cNvSpPr/>
            <p:nvPr/>
          </p:nvSpPr>
          <p:spPr>
            <a:xfrm>
              <a:off x="2895480" y="457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47760" y="609480"/>
              <a:ext cx="762120" cy="76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676520" y="457200"/>
            <a:ext cx="1066680" cy="1066680"/>
            <a:chOff x="1676520" y="457200"/>
            <a:chExt cx="1066680" cy="1066680"/>
          </a:xfrm>
        </p:grpSpPr>
        <p:sp>
          <p:nvSpPr>
            <p:cNvPr id="507" name=""/>
            <p:cNvSpPr/>
            <p:nvPr/>
          </p:nvSpPr>
          <p:spPr>
            <a:xfrm>
              <a:off x="1676520" y="4572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28800" y="609480"/>
              <a:ext cx="76140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1676520" y="5334120"/>
            <a:ext cx="1066680" cy="1066680"/>
            <a:chOff x="1676520" y="5334120"/>
            <a:chExt cx="1066680" cy="1066680"/>
          </a:xfrm>
        </p:grpSpPr>
        <p:sp>
          <p:nvSpPr>
            <p:cNvPr id="510" name=""/>
            <p:cNvSpPr/>
            <p:nvPr/>
          </p:nvSpPr>
          <p:spPr>
            <a:xfrm>
              <a:off x="1676520" y="53341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28800" y="548640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57200" y="5334120"/>
            <a:ext cx="1066680" cy="1066680"/>
            <a:chOff x="457200" y="5334120"/>
            <a:chExt cx="1066680" cy="1066680"/>
          </a:xfrm>
        </p:grpSpPr>
        <p:sp>
          <p:nvSpPr>
            <p:cNvPr id="513" name=""/>
            <p:cNvSpPr/>
            <p:nvPr/>
          </p:nvSpPr>
          <p:spPr>
            <a:xfrm>
              <a:off x="457200" y="53341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3160" y="5410080"/>
              <a:ext cx="22824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895480" y="5334120"/>
            <a:ext cx="1066680" cy="1066680"/>
            <a:chOff x="2895480" y="5334120"/>
            <a:chExt cx="1066680" cy="1066680"/>
          </a:xfrm>
        </p:grpSpPr>
        <p:sp>
          <p:nvSpPr>
            <p:cNvPr id="516" name=""/>
            <p:cNvSpPr/>
            <p:nvPr/>
          </p:nvSpPr>
          <p:spPr>
            <a:xfrm>
              <a:off x="2895480" y="533412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7760" y="5486400"/>
              <a:ext cx="762120" cy="761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7620120" y="5334120"/>
            <a:ext cx="1066680" cy="1066680"/>
            <a:chOff x="7620120" y="5334120"/>
            <a:chExt cx="1066680" cy="1066680"/>
          </a:xfrm>
        </p:grpSpPr>
        <p:sp>
          <p:nvSpPr>
            <p:cNvPr id="519" name=""/>
            <p:cNvSpPr/>
            <p:nvPr/>
          </p:nvSpPr>
          <p:spPr>
            <a:xfrm>
              <a:off x="7620120" y="53341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772400" y="548640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6400800" y="5334120"/>
            <a:ext cx="1066680" cy="1066680"/>
            <a:chOff x="6400800" y="5334120"/>
            <a:chExt cx="1066680" cy="1066680"/>
          </a:xfrm>
        </p:grpSpPr>
        <p:sp>
          <p:nvSpPr>
            <p:cNvPr id="522" name=""/>
            <p:cNvSpPr/>
            <p:nvPr/>
          </p:nvSpPr>
          <p:spPr>
            <a:xfrm>
              <a:off x="6400800" y="53341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53080" y="548640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5181480" y="5334120"/>
            <a:ext cx="1067040" cy="1066680"/>
            <a:chOff x="5181480" y="5334120"/>
            <a:chExt cx="1067040" cy="1066680"/>
          </a:xfrm>
        </p:grpSpPr>
        <p:sp>
          <p:nvSpPr>
            <p:cNvPr id="525" name=""/>
            <p:cNvSpPr/>
            <p:nvPr/>
          </p:nvSpPr>
          <p:spPr>
            <a:xfrm>
              <a:off x="5181480" y="533412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57800" y="541044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5181480" y="457200"/>
            <a:ext cx="1067040" cy="1066680"/>
            <a:chOff x="5181480" y="457200"/>
            <a:chExt cx="1067040" cy="1066680"/>
          </a:xfrm>
        </p:grpSpPr>
        <p:sp>
          <p:nvSpPr>
            <p:cNvPr id="528" name=""/>
            <p:cNvSpPr/>
            <p:nvPr/>
          </p:nvSpPr>
          <p:spPr>
            <a:xfrm>
              <a:off x="5181480" y="45720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57800" y="533160"/>
              <a:ext cx="22860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7620120" y="457200"/>
            <a:ext cx="1066680" cy="1066680"/>
            <a:chOff x="7620120" y="457200"/>
            <a:chExt cx="1066680" cy="1066680"/>
          </a:xfrm>
        </p:grpSpPr>
        <p:sp>
          <p:nvSpPr>
            <p:cNvPr id="531" name=""/>
            <p:cNvSpPr/>
            <p:nvPr/>
          </p:nvSpPr>
          <p:spPr>
            <a:xfrm>
              <a:off x="7620120" y="4572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72400" y="60948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400800" y="457200"/>
            <a:ext cx="1066680" cy="1066680"/>
            <a:chOff x="6400800" y="457200"/>
            <a:chExt cx="1066680" cy="1066680"/>
          </a:xfrm>
        </p:grpSpPr>
        <p:sp>
          <p:nvSpPr>
            <p:cNvPr id="534" name=""/>
            <p:cNvSpPr/>
            <p:nvPr/>
          </p:nvSpPr>
          <p:spPr>
            <a:xfrm>
              <a:off x="6400800" y="4572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609480"/>
              <a:ext cx="761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q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 flipH="1" flipV="1">
            <a:off x="1828800" y="3351960"/>
            <a:ext cx="457200" cy="7621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752480" y="3200400"/>
            <a:ext cx="609840" cy="8380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828800" y="2666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original 12 dimensional philosoph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838080" y="828720"/>
            <a:ext cx="48006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ATU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re made of stuff that has a language we can’t spea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95640" y="5159520"/>
            <a:ext cx="29527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Earth and Wat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545160" y="152280"/>
            <a:ext cx="1419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3" name=""/>
          <p:cNvSpPr/>
          <p:nvPr/>
        </p:nvSpPr>
        <p:spPr>
          <a:xfrm>
            <a:off x="6629400" y="1523880"/>
            <a:ext cx="24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2133720" y="457200"/>
            <a:ext cx="487656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?</a:t>
            </a:r>
            <a:endParaRPr b="0" lang="en-US" sz="2400" spc="1" strike="noStrike">
              <a:ln w="25560">
                <a:solidFill>
                  <a:srgbClr val="80808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ense that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ss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Most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620120" y="5334120"/>
            <a:ext cx="1066680" cy="1066680"/>
            <a:chOff x="7620120" y="5334120"/>
            <a:chExt cx="1066680" cy="1066680"/>
          </a:xfrm>
        </p:grpSpPr>
        <p:sp>
          <p:nvSpPr>
            <p:cNvPr id="547" name=""/>
            <p:cNvSpPr/>
            <p:nvPr/>
          </p:nvSpPr>
          <p:spPr>
            <a:xfrm>
              <a:off x="7620120" y="533412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772400" y="548640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7194960" y="4495680"/>
            <a:ext cx="17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What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this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507560" y="6172200"/>
            <a:ext cx="27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How does it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66520" y="91440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048120" y="2666880"/>
            <a:ext cx="304776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uch much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urther back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goes back to science clas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 you were not allowed to ask ques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RMETICISM(s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ose to ‘explain’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ALL is mind..The universe is m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s above, so below; as below, so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Nothing rests; everything moves, vib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verything is Dual; everything has pol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ut and in; Rhythm compens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very Effect has its Cause. And the reve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Gender manifests on all 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unky questions about the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380880"/>
            <a:ext cx="8734320" cy="314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Quality and Quanti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04920" y="914400"/>
            <a:ext cx="8734320" cy="26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Quality and Quanti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350532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phy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0720" y="4038480"/>
            <a:ext cx="2971800" cy="360"/>
          </a:xfrm>
          <a:prstGeom prst="lin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trolog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all about th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how astrology is about speaking to their rela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905120"/>
            <a:ext cx="8734320" cy="16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Quality and Quanti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11430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11430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11430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114300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11430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20574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20574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0481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30481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3048120"/>
            <a:ext cx="838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29718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29718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396252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39625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8769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48769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87692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48769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48769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48769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48769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11430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114300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2657520" y="2092320"/>
            <a:ext cx="3971880" cy="28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strology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of pointing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5" name=""/>
          <p:cNvSpPr/>
          <p:nvPr/>
        </p:nvSpPr>
        <p:spPr>
          <a:xfrm>
            <a:off x="871920" y="83808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ut we mostly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66680" y="6019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 many ‘if x then y’ rul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54360" y="32004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urus moon == glut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2454120"/>
            <a:ext cx="85341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ppose that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ience and astrology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llingly share space.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295280" y="1143000"/>
            <a:ext cx="6556320" cy="463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What abou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elationship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533520"/>
            <a:ext cx="853452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ience and astrology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antitative &amp; qualitative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iews?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920" y="1905120"/>
            <a:ext cx="8734320" cy="16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Quality and Quanti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124080" y="3429000"/>
            <a:ext cx="2667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wo sides 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the same coin.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04920" y="1905120"/>
            <a:ext cx="8734320" cy="16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Quality and Quanti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 rot="21247200">
            <a:off x="523440" y="990720"/>
            <a:ext cx="6943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observe the nature of their co-creation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 rot="21247200">
            <a:off x="3200400" y="5409720"/>
            <a:ext cx="358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ternal twins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04920" y="2454120"/>
            <a:ext cx="85341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ppose that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ience and astrology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llingly share space.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295280" y="1143000"/>
            <a:ext cx="6556320" cy="463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What abou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elationship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4920" y="2454120"/>
            <a:ext cx="85341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t's look at a coin..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4" name=""/>
          <p:cNvSpPr/>
          <p:nvPr/>
        </p:nvSpPr>
        <p:spPr>
          <a:xfrm>
            <a:off x="753480" y="4925880"/>
            <a:ext cx="74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aybe we can actually explain how this works!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04920" y="2454120"/>
            <a:ext cx="85341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t's look at a coin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2057400"/>
            <a:ext cx="2057400" cy="2057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co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52680" y="2057400"/>
            <a:ext cx="2057400" cy="2057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0" y="380880"/>
            <a:ext cx="3809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 a knot on a cloth-l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86200" y="358128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352680" y="2057400"/>
            <a:ext cx="2057400" cy="2057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05520" y="3429000"/>
            <a:ext cx="2057400" cy="2057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double-sided co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762120" y="4343400"/>
            <a:ext cx="41907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perspectiv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dimension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 in-betwe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86200" y="358128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638680" y="50292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5791320" y="1143000"/>
            <a:ext cx="2438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ront and back</a:t>
            </a:r>
            <a:endParaRPr b="0" lang="en-US" sz="2400" spc="1" strike="noStrike">
              <a:ln w="9360">
                <a:solidFill>
                  <a:srgbClr val="b2b2b2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s duality the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52680" y="2057400"/>
            <a:ext cx="2057400" cy="2057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05520" y="3429000"/>
            <a:ext cx="2057400" cy="2057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62720" y="990720"/>
            <a:ext cx="2057400" cy="2057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04920" y="5715000"/>
            <a:ext cx="792468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ree considerations to define yourself in spac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86200" y="358128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638680" y="50292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172200" y="2549520"/>
            <a:ext cx="83808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920" y="1295280"/>
            <a:ext cx="2438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inity means</a:t>
            </a:r>
            <a:endParaRPr b="0" lang="en-US" sz="2400" spc="1" strike="noStrike">
              <a:ln w="9360">
                <a:solidFill>
                  <a:srgbClr val="b2b2b2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nowing about</a:t>
            </a:r>
            <a:endParaRPr b="0" lang="en-US" sz="2400" spc="1" strike="noStrike">
              <a:ln w="9360">
                <a:solidFill>
                  <a:srgbClr val="b2b2b2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uality.</a:t>
            </a:r>
            <a:endParaRPr b="0" lang="en-US" sz="2400" spc="1" strike="noStrike">
              <a:ln w="9360">
                <a:solidFill>
                  <a:srgbClr val="b2b2b2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cxnSp>
        <p:nvCxnSpPr>
          <p:cNvPr id="609" name=""/>
          <p:cNvCxnSpPr>
            <a:stCxn id="601" idx="4"/>
            <a:endCxn id="602" idx="2"/>
          </p:cNvCxnSpPr>
          <p:nvPr/>
        </p:nvCxnSpPr>
        <p:spPr>
          <a:xfrm flipH="1" rot="16200000">
            <a:off x="4570920" y="3924000"/>
            <a:ext cx="343800" cy="7246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10" name=""/>
          <p:cNvCxnSpPr>
            <a:stCxn id="601" idx="7"/>
            <a:endCxn id="603" idx="2"/>
          </p:cNvCxnSpPr>
          <p:nvPr/>
        </p:nvCxnSpPr>
        <p:spPr>
          <a:xfrm flipH="1" flipV="1" rot="5400000">
            <a:off x="5165640" y="1962000"/>
            <a:ext cx="340200" cy="4550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1" name=""/>
          <p:cNvCxnSpPr>
            <a:stCxn id="603" idx="4"/>
            <a:endCxn id="602" idx="0"/>
          </p:cNvCxnSpPr>
          <p:nvPr/>
        </p:nvCxnSpPr>
        <p:spPr>
          <a:xfrm rot="5400000">
            <a:off x="6171480" y="3009960"/>
            <a:ext cx="381600" cy="457920"/>
          </a:xfrm>
          <a:prstGeom prst="curvedConnector5">
            <a:avLst>
              <a:gd name="adj1" fmla="val 49952"/>
              <a:gd name="adj2" fmla="val 49960"/>
              <a:gd name="adj3" fmla="val 4995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2" name=""/>
          <p:cNvSpPr txBox="1"/>
          <p:nvPr/>
        </p:nvSpPr>
        <p:spPr>
          <a:xfrm>
            <a:off x="304920" y="3581280"/>
            <a:ext cx="30477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 perspectiv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 dimension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 in-betwee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11430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11430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114300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3600" y="11430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11430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20574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11430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30481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30481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048120"/>
            <a:ext cx="838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29718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29718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48769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396252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48769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48769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487692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48769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39625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205740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gets us arou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our-fold 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352680" y="2057400"/>
            <a:ext cx="2057400" cy="2057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05520" y="3429000"/>
            <a:ext cx="2057400" cy="2057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562720" y="990720"/>
            <a:ext cx="2057400" cy="2057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90920" y="4419720"/>
            <a:ext cx="2057400" cy="2057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33520" y="2590920"/>
            <a:ext cx="2438280" cy="23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4'th dimens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724280" y="5562720"/>
            <a:ext cx="403884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elcome 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ime and spa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86200" y="358128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638680" y="50292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172200" y="2549520"/>
            <a:ext cx="83808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124080" y="601992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4495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‘could’ say.. That we nee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to be the fourth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52680" y="2057400"/>
            <a:ext cx="2057400" cy="2057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105520" y="3429000"/>
            <a:ext cx="2057400" cy="2057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2720" y="990720"/>
            <a:ext cx="2057400" cy="2057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90920" y="4419720"/>
            <a:ext cx="2057400" cy="2057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4920" y="3429000"/>
            <a:ext cx="2209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 then we'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 miss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'the point'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6200" y="358128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638680" y="50292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172200" y="2549520"/>
            <a:ext cx="83808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124080" y="601992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7010280" y="5181480"/>
            <a:ext cx="175284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y atten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 the 'zero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erything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mes fr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thing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5" name=""/>
          <p:cNvSpPr/>
          <p:nvPr/>
        </p:nvSpPr>
        <p:spPr>
          <a:xfrm rot="1860000">
            <a:off x="6858000" y="609120"/>
            <a:ext cx="22096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a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soli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429000" y="2133720"/>
            <a:ext cx="2057400" cy="2057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u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81480" y="3505320"/>
            <a:ext cx="2057400" cy="2057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2057400" cy="2057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666880" y="4495680"/>
            <a:ext cx="2057400" cy="2057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219320" y="1143000"/>
            <a:ext cx="205740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-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nt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85800" y="228600"/>
            <a:ext cx="7648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Arial Black"/>
              </a:rPr>
              <a:t>and in time and spac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Arial Black"/>
              </a:rPr>
              <a:t>we have a living essenc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914400" y="3352680"/>
            <a:ext cx="2438280" cy="95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Purpose is 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5th dimen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638680" y="5867280"/>
            <a:ext cx="28195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/>
                  </a:outerShdw>
                </a:effectLst>
                <a:latin typeface="Arial Black"/>
              </a:rPr>
              <a:t>'plastic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/>
                  </a:outerShdw>
                </a:effectLst>
                <a:latin typeface="Arial Black"/>
              </a:rPr>
              <a:t>Volu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1752480" y="266688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t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962520" y="3657600"/>
            <a:ext cx="990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ar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5715000" y="510552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248520" y="2625840"/>
            <a:ext cx="83808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200400" y="609588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0" name=""/>
          <p:cNvSpPr/>
          <p:nvPr/>
        </p:nvSpPr>
        <p:spPr>
          <a:xfrm rot="1860000">
            <a:off x="6858000" y="3580920"/>
            <a:ext cx="22096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a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plies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04920" y="304920"/>
            <a:ext cx="8534160" cy="64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U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rived in any number of 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rot="19740000">
            <a:off x="1219320" y="2362320"/>
            <a:ext cx="22096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 S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th the simp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li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429000" y="2133720"/>
            <a:ext cx="2057400" cy="2057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u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81480" y="3505320"/>
            <a:ext cx="2057400" cy="2057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638680" y="1066680"/>
            <a:ext cx="2057400" cy="2057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6880" y="4495680"/>
            <a:ext cx="2057400" cy="2057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ur           from the 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71800" y="2514600"/>
            <a:ext cx="205740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nt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86000" y="1143000"/>
            <a:ext cx="144792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029200" y="2209680"/>
            <a:ext cx="1447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523880" y="342900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67080" y="449568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200400" y="152280"/>
            <a:ext cx="16002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r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65" name=""/>
          <p:cNvSpPr/>
          <p:nvPr/>
        </p:nvSpPr>
        <p:spPr>
          <a:xfrm>
            <a:off x="6852600" y="3952800"/>
            <a:ext cx="179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5 into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4+1 into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4 into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nything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357200" y="5991120"/>
            <a:ext cx="6429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he root of our awarenes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7" name=""/>
          <p:cNvSpPr/>
          <p:nvPr/>
        </p:nvSpPr>
        <p:spPr>
          <a:xfrm>
            <a:off x="6442920" y="335268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ANCH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ur           from the 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629400" y="1447920"/>
            <a:ext cx="213372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'everything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bstant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s volume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0" name=""/>
          <p:cNvSpPr/>
          <p:nvPr/>
        </p:nvSpPr>
        <p:spPr>
          <a:xfrm>
            <a:off x="2971800" y="2514600"/>
            <a:ext cx="205740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nt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6000" y="1143000"/>
            <a:ext cx="144792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029200" y="2209680"/>
            <a:ext cx="1447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523880" y="342900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267080" y="449568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200400" y="152280"/>
            <a:ext cx="16002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r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ur           from the 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705720" y="1219320"/>
            <a:ext cx="2133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t also me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'anything manifest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xis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4 dimensions.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4920" y="1905120"/>
            <a:ext cx="18288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erything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bstant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s a volume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Purpose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9" name=""/>
          <p:cNvSpPr/>
          <p:nvPr/>
        </p:nvSpPr>
        <p:spPr>
          <a:xfrm>
            <a:off x="2971800" y="2514600"/>
            <a:ext cx="205740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nt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286000" y="1143000"/>
            <a:ext cx="144792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2209680"/>
            <a:ext cx="1447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23880" y="342900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67080" y="449568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200400" y="152280"/>
            <a:ext cx="16002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r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ny thing is…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til you ‘manifest’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no duali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‘substantial’ you are 12 dualities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A RESUL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your manif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logy IMPLI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elve Dimen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11430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11430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114300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1430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20574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20574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30481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0481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3048120"/>
            <a:ext cx="838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29718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29718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396252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9625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48769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48769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487692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487692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48769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20574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114300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2438280" y="3276720"/>
            <a:ext cx="1419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logy IMPLI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elve Dimensions</a:t>
            </a:r>
            <a:br>
              <a:rPr sz="4400"/>
            </a:b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rows in planets to mea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fest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experience dualit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IDE OF cardinality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fest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experience dualit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IDE OF cardinality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.8.. Jung tells us this.. So does pretty much everyone, n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uality itself is dual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omes from Quaternity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ternity comes from uni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533520" y="2141640"/>
            <a:ext cx="575784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'Key' thing: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it also SIMULTANEO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Rhythm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it also SIMULTANEO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Rhythmica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everything else in the wor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RMETICISM(s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t things ‘right’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ALL is mind..The universe is m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s above, so below; as below, so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Nothing rests; everything moves, vib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verything is Dual; everything has pol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ut and in; Rhythm compens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very Effect has its Cause. And the reve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Gender manifests on all 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s credits the atom with 4 fundamental dimensions of forc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581280" y="2514600"/>
            <a:ext cx="205740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to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ntess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057400" y="1981080"/>
            <a:ext cx="144792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15000" y="1981080"/>
            <a:ext cx="1447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057400" y="380988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15000" y="380988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2462040" y="5524560"/>
            <a:ext cx="4219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'the quantitative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cxnSp>
        <p:nvCxnSpPr>
          <p:cNvPr id="705" name=""/>
          <p:cNvCxnSpPr>
            <a:stCxn id="699" idx="1"/>
            <a:endCxn id="700" idx="6"/>
          </p:cNvCxnSpPr>
          <p:nvPr/>
        </p:nvCxnSpPr>
        <p:spPr>
          <a:xfrm flipH="1" flipV="1">
            <a:off x="3504600" y="2704320"/>
            <a:ext cx="37836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99" idx="7"/>
            <a:endCxn id="701" idx="2"/>
          </p:cNvCxnSpPr>
          <p:nvPr/>
        </p:nvCxnSpPr>
        <p:spPr>
          <a:xfrm flipV="1">
            <a:off x="5337000" y="2704320"/>
            <a:ext cx="37872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99" idx="3"/>
            <a:endCxn id="702" idx="6"/>
          </p:cNvCxnSpPr>
          <p:nvPr/>
        </p:nvCxnSpPr>
        <p:spPr>
          <a:xfrm flipH="1">
            <a:off x="3504600" y="4270320"/>
            <a:ext cx="37836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99" idx="5"/>
            <a:endCxn id="703" idx="2"/>
          </p:cNvCxnSpPr>
          <p:nvPr/>
        </p:nvCxnSpPr>
        <p:spPr>
          <a:xfrm>
            <a:off x="5337000" y="4270320"/>
            <a:ext cx="37872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g rectified the 4 elemental dimensions of alchem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81280" y="2514600"/>
            <a:ext cx="205740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ntess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57400" y="1981080"/>
            <a:ext cx="144792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5000" y="1981080"/>
            <a:ext cx="1447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57400" y="380988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715000" y="380988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2462040" y="5524560"/>
            <a:ext cx="4219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'the qualitative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cxnSp>
        <p:nvCxnSpPr>
          <p:cNvPr id="716" name=""/>
          <p:cNvCxnSpPr/>
          <p:nvPr/>
        </p:nvCxnSpPr>
        <p:spPr>
          <a:xfrm flipH="1" flipV="1">
            <a:off x="3504600" y="2704320"/>
            <a:ext cx="37836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/>
          <p:nvPr/>
        </p:nvCxnSpPr>
        <p:spPr>
          <a:xfrm flipV="1">
            <a:off x="5337000" y="2704320"/>
            <a:ext cx="37872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/>
          <p:nvPr/>
        </p:nvCxnSpPr>
        <p:spPr>
          <a:xfrm flipH="1">
            <a:off x="3504600" y="4270320"/>
            <a:ext cx="37836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/>
          <p:nvPr/>
        </p:nvCxnSpPr>
        <p:spPr>
          <a:xfrm>
            <a:off x="5337000" y="4270320"/>
            <a:ext cx="37872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be complete, Astrology must  model the possible connec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86000" y="2057400"/>
            <a:ext cx="144792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86400" y="2057400"/>
            <a:ext cx="1447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6000" y="480060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486400" y="48006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5" name=""/>
          <p:cNvCxnSpPr>
            <a:stCxn id="721" idx="4"/>
            <a:endCxn id="723" idx="0"/>
          </p:cNvCxnSpPr>
          <p:nvPr/>
        </p:nvCxnSpPr>
        <p:spPr>
          <a:xfrm flipV="1" rot="10800000">
            <a:off x="3009240" y="350496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6" name=""/>
          <p:cNvCxnSpPr>
            <a:stCxn id="721" idx="6"/>
            <a:endCxn id="722" idx="2"/>
          </p:cNvCxnSpPr>
          <p:nvPr/>
        </p:nvCxnSpPr>
        <p:spPr>
          <a:xfrm>
            <a:off x="3733920" y="2781000"/>
            <a:ext cx="17532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7" name=""/>
          <p:cNvCxnSpPr>
            <a:stCxn id="722" idx="4"/>
            <a:endCxn id="724" idx="0"/>
          </p:cNvCxnSpPr>
          <p:nvPr/>
        </p:nvCxnSpPr>
        <p:spPr>
          <a:xfrm flipV="1" rot="10800000">
            <a:off x="6209640" y="350496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8" name=""/>
          <p:cNvCxnSpPr>
            <a:stCxn id="723" idx="6"/>
            <a:endCxn id="724" idx="2"/>
          </p:cNvCxnSpPr>
          <p:nvPr/>
        </p:nvCxnSpPr>
        <p:spPr>
          <a:xfrm>
            <a:off x="3733920" y="5524200"/>
            <a:ext cx="17532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9" name=""/>
          <p:cNvCxnSpPr>
            <a:stCxn id="723" idx="7"/>
            <a:endCxn id="722" idx="3"/>
          </p:cNvCxnSpPr>
          <p:nvPr/>
        </p:nvCxnSpPr>
        <p:spPr>
          <a:xfrm flipV="1">
            <a:off x="3521160" y="3292200"/>
            <a:ext cx="2178720" cy="172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0" name=""/>
          <p:cNvCxnSpPr>
            <a:stCxn id="721" idx="5"/>
            <a:endCxn id="724" idx="1"/>
          </p:cNvCxnSpPr>
          <p:nvPr/>
        </p:nvCxnSpPr>
        <p:spPr>
          <a:xfrm>
            <a:off x="3521160" y="3292560"/>
            <a:ext cx="2178720" cy="172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1" name=""/>
          <p:cNvSpPr txBox="1"/>
          <p:nvPr/>
        </p:nvSpPr>
        <p:spPr>
          <a:xfrm>
            <a:off x="6553080" y="3505320"/>
            <a:ext cx="2362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'complete'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 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'hermeneutic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152280" y="2819520"/>
            <a:ext cx="2362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ements 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multaneo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nifesta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d co-crea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the one sourc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intess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k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hrist/nat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914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457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609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160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3048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4419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5334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5562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5334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2362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34320" y="3429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4419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52640" y="1676520"/>
            <a:ext cx="3395880" cy="350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ay it already does th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86000" y="2057400"/>
            <a:ext cx="144792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486400" y="2057400"/>
            <a:ext cx="1447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86000" y="480060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86400" y="48006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4" idx="4"/>
            <a:endCxn id="736" idx="0"/>
          </p:cNvCxnSpPr>
          <p:nvPr/>
        </p:nvCxnSpPr>
        <p:spPr>
          <a:xfrm flipV="1" rot="10800000">
            <a:off x="3009240" y="350496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9" name=""/>
          <p:cNvCxnSpPr>
            <a:stCxn id="734" idx="6"/>
            <a:endCxn id="735" idx="2"/>
          </p:cNvCxnSpPr>
          <p:nvPr/>
        </p:nvCxnSpPr>
        <p:spPr>
          <a:xfrm>
            <a:off x="3733920" y="2781000"/>
            <a:ext cx="17532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0" name=""/>
          <p:cNvCxnSpPr>
            <a:stCxn id="735" idx="4"/>
            <a:endCxn id="737" idx="0"/>
          </p:cNvCxnSpPr>
          <p:nvPr/>
        </p:nvCxnSpPr>
        <p:spPr>
          <a:xfrm flipV="1" rot="10800000">
            <a:off x="6209640" y="350496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1" name=""/>
          <p:cNvCxnSpPr>
            <a:stCxn id="736" idx="6"/>
            <a:endCxn id="737" idx="2"/>
          </p:cNvCxnSpPr>
          <p:nvPr/>
        </p:nvCxnSpPr>
        <p:spPr>
          <a:xfrm>
            <a:off x="3733920" y="5524200"/>
            <a:ext cx="17532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2" name=""/>
          <p:cNvCxnSpPr>
            <a:stCxn id="736" idx="7"/>
            <a:endCxn id="735" idx="3"/>
          </p:cNvCxnSpPr>
          <p:nvPr/>
        </p:nvCxnSpPr>
        <p:spPr>
          <a:xfrm flipV="1">
            <a:off x="3521160" y="3292200"/>
            <a:ext cx="2178720" cy="172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3" name=""/>
          <p:cNvCxnSpPr>
            <a:stCxn id="734" idx="5"/>
            <a:endCxn id="737" idx="1"/>
          </p:cNvCxnSpPr>
          <p:nvPr/>
        </p:nvCxnSpPr>
        <p:spPr>
          <a:xfrm>
            <a:off x="3521160" y="3292560"/>
            <a:ext cx="2178720" cy="172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44" name=""/>
          <p:cNvSpPr txBox="1"/>
          <p:nvPr/>
        </p:nvSpPr>
        <p:spPr>
          <a:xfrm>
            <a:off x="457200" y="1676520"/>
            <a:ext cx="80010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del what it models perfectl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d completel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tter than we can quite say, that is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the looks of it, it see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well scoped’ and delineat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286000" y="2057400"/>
            <a:ext cx="144792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486400" y="2057400"/>
            <a:ext cx="1447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480060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486400" y="48006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0" name=""/>
          <p:cNvCxnSpPr>
            <a:stCxn id="746" idx="4"/>
            <a:endCxn id="748" idx="0"/>
          </p:cNvCxnSpPr>
          <p:nvPr/>
        </p:nvCxnSpPr>
        <p:spPr>
          <a:xfrm flipV="1" rot="10800000">
            <a:off x="3009240" y="350496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51" name=""/>
          <p:cNvCxnSpPr>
            <a:stCxn id="746" idx="6"/>
            <a:endCxn id="747" idx="2"/>
          </p:cNvCxnSpPr>
          <p:nvPr/>
        </p:nvCxnSpPr>
        <p:spPr>
          <a:xfrm>
            <a:off x="3733920" y="2781000"/>
            <a:ext cx="17532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52" name=""/>
          <p:cNvCxnSpPr>
            <a:stCxn id="747" idx="4"/>
            <a:endCxn id="749" idx="0"/>
          </p:cNvCxnSpPr>
          <p:nvPr/>
        </p:nvCxnSpPr>
        <p:spPr>
          <a:xfrm flipV="1" rot="10800000">
            <a:off x="6209640" y="350496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53" name=""/>
          <p:cNvCxnSpPr>
            <a:stCxn id="748" idx="6"/>
            <a:endCxn id="749" idx="2"/>
          </p:cNvCxnSpPr>
          <p:nvPr/>
        </p:nvCxnSpPr>
        <p:spPr>
          <a:xfrm>
            <a:off x="3733920" y="5524200"/>
            <a:ext cx="17532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54" name=""/>
          <p:cNvCxnSpPr>
            <a:stCxn id="748" idx="7"/>
            <a:endCxn id="747" idx="3"/>
          </p:cNvCxnSpPr>
          <p:nvPr/>
        </p:nvCxnSpPr>
        <p:spPr>
          <a:xfrm flipV="1">
            <a:off x="3521160" y="3292200"/>
            <a:ext cx="2178720" cy="172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55" name=""/>
          <p:cNvCxnSpPr>
            <a:stCxn id="746" idx="5"/>
            <a:endCxn id="749" idx="1"/>
          </p:cNvCxnSpPr>
          <p:nvPr/>
        </p:nvCxnSpPr>
        <p:spPr>
          <a:xfrm>
            <a:off x="3521160" y="3292560"/>
            <a:ext cx="2178720" cy="172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6" name=""/>
          <p:cNvSpPr txBox="1"/>
          <p:nvPr/>
        </p:nvSpPr>
        <p:spPr>
          <a:xfrm>
            <a:off x="457200" y="1676520"/>
            <a:ext cx="80010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IF IT WA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OVABLY BETTE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AN 'NEW' STUFF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 here, Myers-Briggs testing models only some connec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286000" y="2057400"/>
            <a:ext cx="144792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86400" y="2057400"/>
            <a:ext cx="1447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0" y="480060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86400" y="48006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2" name=""/>
          <p:cNvCxnSpPr>
            <a:stCxn id="758" idx="4"/>
            <a:endCxn id="760" idx="0"/>
          </p:cNvCxnSpPr>
          <p:nvPr/>
        </p:nvCxnSpPr>
        <p:spPr>
          <a:xfrm flipV="1" rot="10800000">
            <a:off x="3009240" y="350496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63" name=""/>
          <p:cNvCxnSpPr>
            <a:stCxn id="758" idx="6"/>
            <a:endCxn id="759" idx="2"/>
          </p:cNvCxnSpPr>
          <p:nvPr/>
        </p:nvCxnSpPr>
        <p:spPr>
          <a:xfrm>
            <a:off x="3733920" y="2781000"/>
            <a:ext cx="17532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64" name=""/>
          <p:cNvCxnSpPr>
            <a:stCxn id="759" idx="4"/>
            <a:endCxn id="761" idx="0"/>
          </p:cNvCxnSpPr>
          <p:nvPr/>
        </p:nvCxnSpPr>
        <p:spPr>
          <a:xfrm flipV="1" rot="10800000">
            <a:off x="6209640" y="350496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65" name=""/>
          <p:cNvCxnSpPr>
            <a:stCxn id="760" idx="6"/>
            <a:endCxn id="761" idx="2"/>
          </p:cNvCxnSpPr>
          <p:nvPr/>
        </p:nvCxnSpPr>
        <p:spPr>
          <a:xfrm>
            <a:off x="3733920" y="5524200"/>
            <a:ext cx="17532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66" name=""/>
          <p:cNvSpPr txBox="1"/>
          <p:nvPr/>
        </p:nvSpPr>
        <p:spPr>
          <a:xfrm>
            <a:off x="457200" y="4343400"/>
            <a:ext cx="1981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Arial Black"/>
              </a:rPr>
              <a:t>'not good enough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52280" y="3665520"/>
            <a:ext cx="3276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xcludes complements!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8" name=""/>
          <p:cNvSpPr/>
          <p:nvPr/>
        </p:nvSpPr>
        <p:spPr>
          <a:xfrm>
            <a:off x="3568320" y="3809880"/>
            <a:ext cx="210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No fire-eart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No water-a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the looks of it, Astrology is already ‘bigger’ than Myers-Brigg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86000" y="2057400"/>
            <a:ext cx="144792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86400" y="2057400"/>
            <a:ext cx="1447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86000" y="480060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486400" y="48006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>
            <a:stCxn id="770" idx="4"/>
            <a:endCxn id="772" idx="0"/>
          </p:cNvCxnSpPr>
          <p:nvPr/>
        </p:nvCxnSpPr>
        <p:spPr>
          <a:xfrm flipV="1" rot="10800000">
            <a:off x="3009240" y="350496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5" name=""/>
          <p:cNvCxnSpPr>
            <a:stCxn id="770" idx="6"/>
            <a:endCxn id="771" idx="2"/>
          </p:cNvCxnSpPr>
          <p:nvPr/>
        </p:nvCxnSpPr>
        <p:spPr>
          <a:xfrm>
            <a:off x="3733920" y="2781000"/>
            <a:ext cx="17532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6" name=""/>
          <p:cNvCxnSpPr>
            <a:stCxn id="771" idx="4"/>
            <a:endCxn id="773" idx="0"/>
          </p:cNvCxnSpPr>
          <p:nvPr/>
        </p:nvCxnSpPr>
        <p:spPr>
          <a:xfrm flipV="1" rot="10800000">
            <a:off x="6209640" y="3504960"/>
            <a:ext cx="108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7" name=""/>
          <p:cNvCxnSpPr>
            <a:stCxn id="772" idx="6"/>
            <a:endCxn id="773" idx="2"/>
          </p:cNvCxnSpPr>
          <p:nvPr/>
        </p:nvCxnSpPr>
        <p:spPr>
          <a:xfrm>
            <a:off x="3733920" y="5524200"/>
            <a:ext cx="17532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8" name=""/>
          <p:cNvCxnSpPr/>
          <p:nvPr/>
        </p:nvCxnSpPr>
        <p:spPr>
          <a:xfrm flipV="1">
            <a:off x="3521160" y="3292200"/>
            <a:ext cx="2178720" cy="1721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9" name=""/>
          <p:cNvCxnSpPr/>
          <p:nvPr/>
        </p:nvCxnSpPr>
        <p:spPr>
          <a:xfrm>
            <a:off x="3521160" y="3292560"/>
            <a:ext cx="2178720" cy="1721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0" name=""/>
          <p:cNvSpPr/>
          <p:nvPr/>
        </p:nvSpPr>
        <p:spPr>
          <a:xfrm>
            <a:off x="3733920" y="435924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5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B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,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valid and comple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Astrology has to be ‘bigger’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than the model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re using it wi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ONE CO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0880" y="2895480"/>
            <a:ext cx="144792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362320" y="2895480"/>
            <a:ext cx="144756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80880" y="4876920"/>
            <a:ext cx="1447920" cy="14475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362320" y="4876920"/>
            <a:ext cx="1447560" cy="1447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7" name=""/>
          <p:cNvCxnSpPr>
            <a:stCxn id="783" idx="4"/>
            <a:endCxn id="785" idx="0"/>
          </p:cNvCxnSpPr>
          <p:nvPr/>
        </p:nvCxnSpPr>
        <p:spPr>
          <a:xfrm flipV="1" rot="10800000">
            <a:off x="1104120" y="434304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8" name=""/>
          <p:cNvCxnSpPr>
            <a:stCxn id="783" idx="6"/>
            <a:endCxn id="784" idx="2"/>
          </p:cNvCxnSpPr>
          <p:nvPr/>
        </p:nvCxnSpPr>
        <p:spPr>
          <a:xfrm>
            <a:off x="1828800" y="361908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9" name=""/>
          <p:cNvCxnSpPr>
            <a:stCxn id="784" idx="4"/>
            <a:endCxn id="786" idx="0"/>
          </p:cNvCxnSpPr>
          <p:nvPr/>
        </p:nvCxnSpPr>
        <p:spPr>
          <a:xfrm flipV="1" rot="10800000">
            <a:off x="3085560" y="434304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0" name=""/>
          <p:cNvCxnSpPr>
            <a:stCxn id="785" idx="6"/>
            <a:endCxn id="786" idx="2"/>
          </p:cNvCxnSpPr>
          <p:nvPr/>
        </p:nvCxnSpPr>
        <p:spPr>
          <a:xfrm>
            <a:off x="1828800" y="560052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1" name=""/>
          <p:cNvCxnSpPr>
            <a:stCxn id="785" idx="7"/>
            <a:endCxn id="784" idx="3"/>
          </p:cNvCxnSpPr>
          <p:nvPr/>
        </p:nvCxnSpPr>
        <p:spPr>
          <a:xfrm flipV="1">
            <a:off x="1616040" y="4130280"/>
            <a:ext cx="959760" cy="9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2" name=""/>
          <p:cNvCxnSpPr>
            <a:stCxn id="783" idx="5"/>
            <a:endCxn id="786" idx="1"/>
          </p:cNvCxnSpPr>
          <p:nvPr/>
        </p:nvCxnSpPr>
        <p:spPr>
          <a:xfrm>
            <a:off x="1616040" y="4130640"/>
            <a:ext cx="959760" cy="9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tter how we draw i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0880" y="2895480"/>
            <a:ext cx="144792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362320" y="2895480"/>
            <a:ext cx="144756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0880" y="4876920"/>
            <a:ext cx="1447920" cy="14475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362320" y="4876920"/>
            <a:ext cx="1447560" cy="1447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8" name=""/>
          <p:cNvCxnSpPr>
            <a:stCxn id="794" idx="4"/>
            <a:endCxn id="796" idx="0"/>
          </p:cNvCxnSpPr>
          <p:nvPr/>
        </p:nvCxnSpPr>
        <p:spPr>
          <a:xfrm flipV="1" rot="10800000">
            <a:off x="1104120" y="434304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9" name=""/>
          <p:cNvCxnSpPr>
            <a:stCxn id="794" idx="6"/>
            <a:endCxn id="795" idx="2"/>
          </p:cNvCxnSpPr>
          <p:nvPr/>
        </p:nvCxnSpPr>
        <p:spPr>
          <a:xfrm>
            <a:off x="1828800" y="361908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0" name=""/>
          <p:cNvCxnSpPr>
            <a:stCxn id="795" idx="4"/>
            <a:endCxn id="797" idx="0"/>
          </p:cNvCxnSpPr>
          <p:nvPr/>
        </p:nvCxnSpPr>
        <p:spPr>
          <a:xfrm flipV="1" rot="10800000">
            <a:off x="3085560" y="434304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1" name=""/>
          <p:cNvCxnSpPr>
            <a:stCxn id="796" idx="6"/>
            <a:endCxn id="797" idx="2"/>
          </p:cNvCxnSpPr>
          <p:nvPr/>
        </p:nvCxnSpPr>
        <p:spPr>
          <a:xfrm>
            <a:off x="1828800" y="560052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2" name=""/>
          <p:cNvCxnSpPr>
            <a:stCxn id="796" idx="7"/>
            <a:endCxn id="795" idx="3"/>
          </p:cNvCxnSpPr>
          <p:nvPr/>
        </p:nvCxnSpPr>
        <p:spPr>
          <a:xfrm flipV="1">
            <a:off x="1616040" y="4130280"/>
            <a:ext cx="959760" cy="9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3" name=""/>
          <p:cNvCxnSpPr>
            <a:stCxn id="794" idx="5"/>
            <a:endCxn id="797" idx="1"/>
          </p:cNvCxnSpPr>
          <p:nvPr/>
        </p:nvCxnSpPr>
        <p:spPr>
          <a:xfrm>
            <a:off x="1616040" y="4130640"/>
            <a:ext cx="959760" cy="9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4" name=""/>
          <p:cNvSpPr/>
          <p:nvPr/>
        </p:nvSpPr>
        <p:spPr>
          <a:xfrm>
            <a:off x="6019920" y="2438280"/>
            <a:ext cx="144756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19920" y="4191120"/>
            <a:ext cx="144756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72000" y="502920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467480" y="50292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8" name=""/>
          <p:cNvCxnSpPr>
            <a:stCxn id="805" idx="2"/>
            <a:endCxn id="806" idx="7"/>
          </p:cNvCxnSpPr>
          <p:nvPr/>
        </p:nvCxnSpPr>
        <p:spPr>
          <a:xfrm flipH="1">
            <a:off x="5806440" y="4915080"/>
            <a:ext cx="21348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9" name=""/>
          <p:cNvCxnSpPr>
            <a:stCxn id="805" idx="6"/>
            <a:endCxn id="807" idx="1"/>
          </p:cNvCxnSpPr>
          <p:nvPr/>
        </p:nvCxnSpPr>
        <p:spPr>
          <a:xfrm>
            <a:off x="7467120" y="4915080"/>
            <a:ext cx="21348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0" name=""/>
          <p:cNvCxnSpPr>
            <a:stCxn id="804" idx="4"/>
            <a:endCxn id="805" idx="0"/>
          </p:cNvCxnSpPr>
          <p:nvPr/>
        </p:nvCxnSpPr>
        <p:spPr>
          <a:xfrm>
            <a:off x="6743520" y="38858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1" name=""/>
          <p:cNvCxnSpPr>
            <a:stCxn id="804" idx="3"/>
            <a:endCxn id="806" idx="0"/>
          </p:cNvCxnSpPr>
          <p:nvPr/>
        </p:nvCxnSpPr>
        <p:spPr>
          <a:xfrm flipH="1">
            <a:off x="5295600" y="3673440"/>
            <a:ext cx="93744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2" name=""/>
          <p:cNvCxnSpPr>
            <a:stCxn id="804" idx="5"/>
            <a:endCxn id="807" idx="0"/>
          </p:cNvCxnSpPr>
          <p:nvPr/>
        </p:nvCxnSpPr>
        <p:spPr>
          <a:xfrm>
            <a:off x="7254720" y="3673440"/>
            <a:ext cx="93744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3" name=""/>
          <p:cNvCxnSpPr>
            <a:stCxn id="806" idx="6"/>
            <a:endCxn id="807" idx="2"/>
          </p:cNvCxnSpPr>
          <p:nvPr/>
        </p:nvCxnSpPr>
        <p:spPr>
          <a:xfrm>
            <a:off x="6019560" y="575280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14" name=""/>
          <p:cNvSpPr/>
          <p:nvPr/>
        </p:nvSpPr>
        <p:spPr>
          <a:xfrm>
            <a:off x="3886200" y="3962520"/>
            <a:ext cx="1600200" cy="685800"/>
          </a:xfrm>
          <a:prstGeom prst="leftRightArrow">
            <a:avLst>
              <a:gd name="adj1" fmla="val 50000"/>
              <a:gd name="adj2" fmla="val 4645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038480" y="4151160"/>
            <a:ext cx="1295640" cy="2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ame thing</a:t>
            </a:r>
            <a:endParaRPr b="0" lang="en-US" sz="2400" spc="1" strike="noStrike">
              <a:ln w="0">
                <a:noFill/>
              </a:ln>
              <a:solidFill>
                <a:srgbClr val="cccc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522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logy accounts for these connections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80880" y="2895480"/>
            <a:ext cx="144792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362320" y="2895480"/>
            <a:ext cx="144756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0880" y="4876920"/>
            <a:ext cx="1447920" cy="14475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362320" y="4876920"/>
            <a:ext cx="1447560" cy="1447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1" name=""/>
          <p:cNvCxnSpPr>
            <a:stCxn id="817" idx="4"/>
            <a:endCxn id="819" idx="0"/>
          </p:cNvCxnSpPr>
          <p:nvPr/>
        </p:nvCxnSpPr>
        <p:spPr>
          <a:xfrm flipV="1" rot="10800000">
            <a:off x="1104120" y="434304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2" name=""/>
          <p:cNvCxnSpPr>
            <a:stCxn id="817" idx="6"/>
            <a:endCxn id="818" idx="2"/>
          </p:cNvCxnSpPr>
          <p:nvPr/>
        </p:nvCxnSpPr>
        <p:spPr>
          <a:xfrm>
            <a:off x="1828800" y="361908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3" name=""/>
          <p:cNvCxnSpPr>
            <a:stCxn id="818" idx="4"/>
            <a:endCxn id="820" idx="0"/>
          </p:cNvCxnSpPr>
          <p:nvPr/>
        </p:nvCxnSpPr>
        <p:spPr>
          <a:xfrm flipV="1" rot="10800000">
            <a:off x="3085560" y="434304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4" name=""/>
          <p:cNvCxnSpPr>
            <a:stCxn id="819" idx="6"/>
            <a:endCxn id="820" idx="2"/>
          </p:cNvCxnSpPr>
          <p:nvPr/>
        </p:nvCxnSpPr>
        <p:spPr>
          <a:xfrm>
            <a:off x="1828800" y="560052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5" name=""/>
          <p:cNvCxnSpPr>
            <a:stCxn id="819" idx="7"/>
            <a:endCxn id="818" idx="3"/>
          </p:cNvCxnSpPr>
          <p:nvPr/>
        </p:nvCxnSpPr>
        <p:spPr>
          <a:xfrm flipV="1">
            <a:off x="1616040" y="4130280"/>
            <a:ext cx="959760" cy="9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6" name=""/>
          <p:cNvCxnSpPr>
            <a:stCxn id="817" idx="5"/>
            <a:endCxn id="820" idx="1"/>
          </p:cNvCxnSpPr>
          <p:nvPr/>
        </p:nvCxnSpPr>
        <p:spPr>
          <a:xfrm>
            <a:off x="1616040" y="4130640"/>
            <a:ext cx="959760" cy="9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7" name=""/>
          <p:cNvSpPr/>
          <p:nvPr/>
        </p:nvSpPr>
        <p:spPr>
          <a:xfrm>
            <a:off x="6019920" y="2438280"/>
            <a:ext cx="144756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19920" y="4191120"/>
            <a:ext cx="144756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572000" y="502920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467480" y="50292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28" idx="2"/>
            <a:endCxn id="829" idx="7"/>
          </p:cNvCxnSpPr>
          <p:nvPr/>
        </p:nvCxnSpPr>
        <p:spPr>
          <a:xfrm flipH="1">
            <a:off x="5806440" y="4915080"/>
            <a:ext cx="21348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2" name=""/>
          <p:cNvCxnSpPr>
            <a:stCxn id="828" idx="6"/>
            <a:endCxn id="830" idx="1"/>
          </p:cNvCxnSpPr>
          <p:nvPr/>
        </p:nvCxnSpPr>
        <p:spPr>
          <a:xfrm>
            <a:off x="7467120" y="4915080"/>
            <a:ext cx="21348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3" name=""/>
          <p:cNvCxnSpPr>
            <a:stCxn id="827" idx="4"/>
            <a:endCxn id="828" idx="0"/>
          </p:cNvCxnSpPr>
          <p:nvPr/>
        </p:nvCxnSpPr>
        <p:spPr>
          <a:xfrm>
            <a:off x="6743520" y="38858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4" name=""/>
          <p:cNvCxnSpPr>
            <a:stCxn id="827" idx="3"/>
            <a:endCxn id="829" idx="0"/>
          </p:cNvCxnSpPr>
          <p:nvPr/>
        </p:nvCxnSpPr>
        <p:spPr>
          <a:xfrm flipH="1">
            <a:off x="5295600" y="3673440"/>
            <a:ext cx="93744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5" name=""/>
          <p:cNvCxnSpPr>
            <a:stCxn id="827" idx="5"/>
            <a:endCxn id="830" idx="0"/>
          </p:cNvCxnSpPr>
          <p:nvPr/>
        </p:nvCxnSpPr>
        <p:spPr>
          <a:xfrm>
            <a:off x="7254720" y="3673440"/>
            <a:ext cx="93744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6" name=""/>
          <p:cNvCxnSpPr>
            <a:stCxn id="829" idx="6"/>
            <a:endCxn id="830" idx="2"/>
          </p:cNvCxnSpPr>
          <p:nvPr/>
        </p:nvCxnSpPr>
        <p:spPr>
          <a:xfrm>
            <a:off x="6019560" y="575280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3886200" y="3962520"/>
            <a:ext cx="1600200" cy="685800"/>
          </a:xfrm>
          <a:prstGeom prst="leftRightArrow">
            <a:avLst>
              <a:gd name="adj1" fmla="val 50000"/>
              <a:gd name="adj2" fmla="val 4645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4038480" y="4151160"/>
            <a:ext cx="1295640" cy="2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ame thing</a:t>
            </a:r>
            <a:endParaRPr b="0" lang="en-US" sz="2400" spc="1" strike="noStrike">
              <a:ln w="0">
                <a:noFill/>
              </a:ln>
              <a:solidFill>
                <a:srgbClr val="cccc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understand astrology, we need to know how these 6 in-betweens work in na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0880" y="2895480"/>
            <a:ext cx="144792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62320" y="2895480"/>
            <a:ext cx="144756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80880" y="4876920"/>
            <a:ext cx="1447920" cy="14475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62320" y="4876920"/>
            <a:ext cx="1447560" cy="1447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40" idx="4"/>
            <a:endCxn id="842" idx="0"/>
          </p:cNvCxnSpPr>
          <p:nvPr/>
        </p:nvCxnSpPr>
        <p:spPr>
          <a:xfrm flipV="1" rot="10800000">
            <a:off x="1104120" y="434304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5" name=""/>
          <p:cNvCxnSpPr>
            <a:stCxn id="840" idx="6"/>
            <a:endCxn id="841" idx="2"/>
          </p:cNvCxnSpPr>
          <p:nvPr/>
        </p:nvCxnSpPr>
        <p:spPr>
          <a:xfrm>
            <a:off x="1828800" y="361908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6" name=""/>
          <p:cNvCxnSpPr>
            <a:stCxn id="841" idx="4"/>
            <a:endCxn id="843" idx="0"/>
          </p:cNvCxnSpPr>
          <p:nvPr/>
        </p:nvCxnSpPr>
        <p:spPr>
          <a:xfrm flipV="1" rot="10800000">
            <a:off x="3085560" y="434304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7" name=""/>
          <p:cNvCxnSpPr>
            <a:stCxn id="842" idx="6"/>
            <a:endCxn id="843" idx="2"/>
          </p:cNvCxnSpPr>
          <p:nvPr/>
        </p:nvCxnSpPr>
        <p:spPr>
          <a:xfrm>
            <a:off x="1828800" y="560052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8" name=""/>
          <p:cNvCxnSpPr>
            <a:stCxn id="842" idx="7"/>
            <a:endCxn id="841" idx="3"/>
          </p:cNvCxnSpPr>
          <p:nvPr/>
        </p:nvCxnSpPr>
        <p:spPr>
          <a:xfrm flipV="1">
            <a:off x="1616040" y="4130280"/>
            <a:ext cx="959760" cy="9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9" name=""/>
          <p:cNvCxnSpPr>
            <a:stCxn id="840" idx="5"/>
            <a:endCxn id="843" idx="1"/>
          </p:cNvCxnSpPr>
          <p:nvPr/>
        </p:nvCxnSpPr>
        <p:spPr>
          <a:xfrm>
            <a:off x="1616040" y="4130640"/>
            <a:ext cx="959760" cy="9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50" name=""/>
          <p:cNvSpPr/>
          <p:nvPr/>
        </p:nvSpPr>
        <p:spPr>
          <a:xfrm>
            <a:off x="6019920" y="2438280"/>
            <a:ext cx="144756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19920" y="4191120"/>
            <a:ext cx="144756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502920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467480" y="50292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4" name=""/>
          <p:cNvCxnSpPr>
            <a:stCxn id="851" idx="2"/>
            <a:endCxn id="852" idx="7"/>
          </p:cNvCxnSpPr>
          <p:nvPr/>
        </p:nvCxnSpPr>
        <p:spPr>
          <a:xfrm flipH="1">
            <a:off x="5806440" y="4915080"/>
            <a:ext cx="21348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5" name=""/>
          <p:cNvCxnSpPr>
            <a:stCxn id="851" idx="6"/>
            <a:endCxn id="853" idx="1"/>
          </p:cNvCxnSpPr>
          <p:nvPr/>
        </p:nvCxnSpPr>
        <p:spPr>
          <a:xfrm>
            <a:off x="7467120" y="4915080"/>
            <a:ext cx="21348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6" name=""/>
          <p:cNvCxnSpPr>
            <a:stCxn id="850" idx="4"/>
            <a:endCxn id="851" idx="0"/>
          </p:cNvCxnSpPr>
          <p:nvPr/>
        </p:nvCxnSpPr>
        <p:spPr>
          <a:xfrm>
            <a:off x="6743520" y="38858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7" name=""/>
          <p:cNvCxnSpPr>
            <a:stCxn id="850" idx="3"/>
            <a:endCxn id="852" idx="0"/>
          </p:cNvCxnSpPr>
          <p:nvPr/>
        </p:nvCxnSpPr>
        <p:spPr>
          <a:xfrm flipH="1">
            <a:off x="5295600" y="3673440"/>
            <a:ext cx="93744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8" name=""/>
          <p:cNvCxnSpPr>
            <a:stCxn id="850" idx="5"/>
            <a:endCxn id="853" idx="0"/>
          </p:cNvCxnSpPr>
          <p:nvPr/>
        </p:nvCxnSpPr>
        <p:spPr>
          <a:xfrm>
            <a:off x="7254720" y="3673440"/>
            <a:ext cx="93744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9" name=""/>
          <p:cNvCxnSpPr>
            <a:stCxn id="852" idx="6"/>
            <a:endCxn id="853" idx="2"/>
          </p:cNvCxnSpPr>
          <p:nvPr/>
        </p:nvCxnSpPr>
        <p:spPr>
          <a:xfrm>
            <a:off x="6019560" y="575280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0" name=""/>
          <p:cNvSpPr/>
          <p:nvPr/>
        </p:nvSpPr>
        <p:spPr>
          <a:xfrm>
            <a:off x="3886200" y="3962520"/>
            <a:ext cx="1600200" cy="685800"/>
          </a:xfrm>
          <a:prstGeom prst="leftRightArrow">
            <a:avLst>
              <a:gd name="adj1" fmla="val 50000"/>
              <a:gd name="adj2" fmla="val 4645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038480" y="4151160"/>
            <a:ext cx="1295640" cy="2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ame thing</a:t>
            </a:r>
            <a:endParaRPr b="0" lang="en-US" sz="2400" spc="1" strike="noStrike">
              <a:ln w="0">
                <a:noFill/>
              </a:ln>
              <a:solidFill>
                <a:srgbClr val="cccc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you catch t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9144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457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609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1600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3880" y="3048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5334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5562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5334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362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3429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00800" y="4419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52640" y="1676520"/>
            <a:ext cx="3395880" cy="350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581280" y="2514600"/>
            <a:ext cx="18478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Zodia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understand astrology, we need to know how these 6 in-betweens work in na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80880" y="2895480"/>
            <a:ext cx="144792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362320" y="2895480"/>
            <a:ext cx="144756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80880" y="4876920"/>
            <a:ext cx="1447920" cy="14475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362320" y="4876920"/>
            <a:ext cx="1447560" cy="1447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8" name=""/>
          <p:cNvCxnSpPr>
            <a:stCxn id="864" idx="4"/>
            <a:endCxn id="866" idx="0"/>
          </p:cNvCxnSpPr>
          <p:nvPr/>
        </p:nvCxnSpPr>
        <p:spPr>
          <a:xfrm flipV="1" rot="10800000">
            <a:off x="1104120" y="4343040"/>
            <a:ext cx="1080" cy="53424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9" name=""/>
          <p:cNvCxnSpPr>
            <a:stCxn id="864" idx="6"/>
            <a:endCxn id="865" idx="2"/>
          </p:cNvCxnSpPr>
          <p:nvPr/>
        </p:nvCxnSpPr>
        <p:spPr>
          <a:xfrm>
            <a:off x="1828800" y="3619080"/>
            <a:ext cx="53424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0" name=""/>
          <p:cNvCxnSpPr>
            <a:stCxn id="865" idx="4"/>
            <a:endCxn id="867" idx="0"/>
          </p:cNvCxnSpPr>
          <p:nvPr/>
        </p:nvCxnSpPr>
        <p:spPr>
          <a:xfrm flipV="1" rot="10800000">
            <a:off x="3085560" y="4343040"/>
            <a:ext cx="1080" cy="53424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1" name=""/>
          <p:cNvCxnSpPr>
            <a:stCxn id="866" idx="6"/>
            <a:endCxn id="867" idx="2"/>
          </p:cNvCxnSpPr>
          <p:nvPr/>
        </p:nvCxnSpPr>
        <p:spPr>
          <a:xfrm>
            <a:off x="1828800" y="5600520"/>
            <a:ext cx="53424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2" name=""/>
          <p:cNvCxnSpPr>
            <a:stCxn id="866" idx="7"/>
            <a:endCxn id="865" idx="3"/>
          </p:cNvCxnSpPr>
          <p:nvPr/>
        </p:nvCxnSpPr>
        <p:spPr>
          <a:xfrm flipV="1">
            <a:off x="1616040" y="4130280"/>
            <a:ext cx="959760" cy="95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3" name=""/>
          <p:cNvCxnSpPr>
            <a:stCxn id="864" idx="5"/>
            <a:endCxn id="867" idx="1"/>
          </p:cNvCxnSpPr>
          <p:nvPr/>
        </p:nvCxnSpPr>
        <p:spPr>
          <a:xfrm>
            <a:off x="1616040" y="4130640"/>
            <a:ext cx="959760" cy="95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74" name=""/>
          <p:cNvSpPr/>
          <p:nvPr/>
        </p:nvSpPr>
        <p:spPr>
          <a:xfrm>
            <a:off x="6019920" y="2438280"/>
            <a:ext cx="144756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019920" y="4191120"/>
            <a:ext cx="144756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0" y="5029200"/>
            <a:ext cx="144792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467480" y="50292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8" name=""/>
          <p:cNvCxnSpPr>
            <a:stCxn id="875" idx="2"/>
            <a:endCxn id="876" idx="7"/>
          </p:cNvCxnSpPr>
          <p:nvPr/>
        </p:nvCxnSpPr>
        <p:spPr>
          <a:xfrm flipH="1">
            <a:off x="5806440" y="4915080"/>
            <a:ext cx="213480" cy="327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9" name=""/>
          <p:cNvCxnSpPr>
            <a:stCxn id="875" idx="6"/>
            <a:endCxn id="877" idx="1"/>
          </p:cNvCxnSpPr>
          <p:nvPr/>
        </p:nvCxnSpPr>
        <p:spPr>
          <a:xfrm>
            <a:off x="7467120" y="4915080"/>
            <a:ext cx="213480" cy="327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0" name=""/>
          <p:cNvCxnSpPr>
            <a:stCxn id="874" idx="4"/>
            <a:endCxn id="875" idx="0"/>
          </p:cNvCxnSpPr>
          <p:nvPr/>
        </p:nvCxnSpPr>
        <p:spPr>
          <a:xfrm>
            <a:off x="6743520" y="3885840"/>
            <a:ext cx="108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1" name=""/>
          <p:cNvCxnSpPr>
            <a:stCxn id="874" idx="3"/>
            <a:endCxn id="876" idx="0"/>
          </p:cNvCxnSpPr>
          <p:nvPr/>
        </p:nvCxnSpPr>
        <p:spPr>
          <a:xfrm flipH="1">
            <a:off x="5295600" y="3673440"/>
            <a:ext cx="937440" cy="1356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2" name=""/>
          <p:cNvCxnSpPr>
            <a:stCxn id="874" idx="5"/>
            <a:endCxn id="877" idx="0"/>
          </p:cNvCxnSpPr>
          <p:nvPr/>
        </p:nvCxnSpPr>
        <p:spPr>
          <a:xfrm>
            <a:off x="7254720" y="3673440"/>
            <a:ext cx="937440" cy="1356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3" name=""/>
          <p:cNvCxnSpPr>
            <a:stCxn id="876" idx="6"/>
            <a:endCxn id="877" idx="2"/>
          </p:cNvCxnSpPr>
          <p:nvPr/>
        </p:nvCxnSpPr>
        <p:spPr>
          <a:xfrm>
            <a:off x="6019560" y="5752800"/>
            <a:ext cx="1448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84" name=""/>
          <p:cNvSpPr/>
          <p:nvPr/>
        </p:nvSpPr>
        <p:spPr>
          <a:xfrm>
            <a:off x="3886200" y="3962520"/>
            <a:ext cx="1600200" cy="685800"/>
          </a:xfrm>
          <a:prstGeom prst="leftRightArrow">
            <a:avLst>
              <a:gd name="adj1" fmla="val 50000"/>
              <a:gd name="adj2" fmla="val 4645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038480" y="4151160"/>
            <a:ext cx="1295640" cy="2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ame thing</a:t>
            </a:r>
            <a:endParaRPr b="0" lang="en-US" sz="2400" spc="1" strike="noStrike">
              <a:ln w="0">
                <a:noFill/>
              </a:ln>
              <a:solidFill>
                <a:srgbClr val="cccc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s look at th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we go… The 4 ele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ir 6 edge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819520" y="2133720"/>
            <a:ext cx="1447560" cy="14475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800600" y="2133720"/>
            <a:ext cx="144792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819520" y="4114800"/>
            <a:ext cx="144756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800600" y="41148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8" idx="4"/>
            <a:endCxn id="890" idx="0"/>
          </p:cNvCxnSpPr>
          <p:nvPr/>
        </p:nvCxnSpPr>
        <p:spPr>
          <a:xfrm flipV="1" rot="10800000">
            <a:off x="3542760" y="358092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3" name=""/>
          <p:cNvCxnSpPr/>
          <p:nvPr/>
        </p:nvCxnSpPr>
        <p:spPr>
          <a:xfrm>
            <a:off x="4267080" y="278100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4" name=""/>
          <p:cNvCxnSpPr>
            <a:stCxn id="889" idx="4"/>
            <a:endCxn id="891" idx="0"/>
          </p:cNvCxnSpPr>
          <p:nvPr/>
        </p:nvCxnSpPr>
        <p:spPr>
          <a:xfrm flipV="1" rot="10800000">
            <a:off x="5523840" y="358092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5" name=""/>
          <p:cNvCxnSpPr>
            <a:stCxn id="890" idx="6"/>
            <a:endCxn id="891" idx="2"/>
          </p:cNvCxnSpPr>
          <p:nvPr/>
        </p:nvCxnSpPr>
        <p:spPr>
          <a:xfrm>
            <a:off x="4267080" y="4838400"/>
            <a:ext cx="534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6" name=""/>
          <p:cNvCxnSpPr>
            <a:stCxn id="890" idx="7"/>
            <a:endCxn id="889" idx="3"/>
          </p:cNvCxnSpPr>
          <p:nvPr/>
        </p:nvCxnSpPr>
        <p:spPr>
          <a:xfrm flipV="1">
            <a:off x="4054320" y="3368160"/>
            <a:ext cx="959760" cy="9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7" name=""/>
          <p:cNvCxnSpPr>
            <a:stCxn id="888" idx="5"/>
            <a:endCxn id="891" idx="1"/>
          </p:cNvCxnSpPr>
          <p:nvPr/>
        </p:nvCxnSpPr>
        <p:spPr>
          <a:xfrm>
            <a:off x="4054320" y="3368520"/>
            <a:ext cx="959760" cy="9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s give them ro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3520" y="685800"/>
            <a:ext cx="144756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086600" y="685800"/>
            <a:ext cx="1447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4800600"/>
            <a:ext cx="144756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086600" y="48006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3" name=""/>
          <p:cNvCxnSpPr>
            <a:stCxn id="899" idx="4"/>
            <a:endCxn id="901" idx="0"/>
          </p:cNvCxnSpPr>
          <p:nvPr/>
        </p:nvCxnSpPr>
        <p:spPr>
          <a:xfrm flipV="1" rot="10800000">
            <a:off x="1256760" y="2133720"/>
            <a:ext cx="1080" cy="2667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4" name=""/>
          <p:cNvCxnSpPr>
            <a:stCxn id="899" idx="6"/>
            <a:endCxn id="900" idx="2"/>
          </p:cNvCxnSpPr>
          <p:nvPr/>
        </p:nvCxnSpPr>
        <p:spPr>
          <a:xfrm>
            <a:off x="1981080" y="1409400"/>
            <a:ext cx="5106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5" name=""/>
          <p:cNvCxnSpPr>
            <a:stCxn id="900" idx="4"/>
            <a:endCxn id="902" idx="0"/>
          </p:cNvCxnSpPr>
          <p:nvPr/>
        </p:nvCxnSpPr>
        <p:spPr>
          <a:xfrm flipV="1" rot="10800000">
            <a:off x="7809840" y="2133720"/>
            <a:ext cx="1080" cy="26672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6" name=""/>
          <p:cNvCxnSpPr>
            <a:stCxn id="901" idx="6"/>
            <a:endCxn id="902" idx="2"/>
          </p:cNvCxnSpPr>
          <p:nvPr/>
        </p:nvCxnSpPr>
        <p:spPr>
          <a:xfrm>
            <a:off x="1981080" y="5524200"/>
            <a:ext cx="51062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7" name=""/>
          <p:cNvCxnSpPr>
            <a:stCxn id="901" idx="7"/>
            <a:endCxn id="900" idx="3"/>
          </p:cNvCxnSpPr>
          <p:nvPr/>
        </p:nvCxnSpPr>
        <p:spPr>
          <a:xfrm flipV="1">
            <a:off x="1768320" y="1920600"/>
            <a:ext cx="5531760" cy="309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8" name=""/>
          <p:cNvCxnSpPr>
            <a:stCxn id="899" idx="5"/>
            <a:endCxn id="902" idx="1"/>
          </p:cNvCxnSpPr>
          <p:nvPr/>
        </p:nvCxnSpPr>
        <p:spPr>
          <a:xfrm>
            <a:off x="1768320" y="1920960"/>
            <a:ext cx="5531760" cy="309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‘name’ the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-betw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520" y="685800"/>
            <a:ext cx="144756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086600" y="685800"/>
            <a:ext cx="1447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33520" y="4800600"/>
            <a:ext cx="144756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086600" y="48006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1" idx="4"/>
            <a:endCxn id="916" idx="0"/>
          </p:cNvCxnSpPr>
          <p:nvPr/>
        </p:nvCxnSpPr>
        <p:spPr>
          <a:xfrm flipV="1" rot="10800000">
            <a:off x="1256760" y="2133360"/>
            <a:ext cx="1080" cy="7624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17" name=""/>
          <p:cNvCxnSpPr>
            <a:stCxn id="911" idx="6"/>
            <a:endCxn id="918" idx="2"/>
          </p:cNvCxnSpPr>
          <p:nvPr/>
        </p:nvCxnSpPr>
        <p:spPr>
          <a:xfrm>
            <a:off x="1981080" y="1409400"/>
            <a:ext cx="1982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18" name=""/>
          <p:cNvSpPr/>
          <p:nvPr/>
        </p:nvSpPr>
        <p:spPr>
          <a:xfrm>
            <a:off x="3962520" y="7621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2" idx="2"/>
            <a:endCxn id="918" idx="6"/>
          </p:cNvCxnSpPr>
          <p:nvPr/>
        </p:nvCxnSpPr>
        <p:spPr>
          <a:xfrm rot="10800000">
            <a:off x="5257080" y="1409040"/>
            <a:ext cx="18295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20" name=""/>
          <p:cNvSpPr/>
          <p:nvPr/>
        </p:nvSpPr>
        <p:spPr>
          <a:xfrm>
            <a:off x="3962520" y="48769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1" name=""/>
          <p:cNvCxnSpPr>
            <a:stCxn id="914" idx="2"/>
            <a:endCxn id="920" idx="6"/>
          </p:cNvCxnSpPr>
          <p:nvPr/>
        </p:nvCxnSpPr>
        <p:spPr>
          <a:xfrm rot="10800000">
            <a:off x="5257080" y="5523840"/>
            <a:ext cx="18295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2" name=""/>
          <p:cNvCxnSpPr>
            <a:stCxn id="913" idx="6"/>
            <a:endCxn id="920" idx="2"/>
          </p:cNvCxnSpPr>
          <p:nvPr/>
        </p:nvCxnSpPr>
        <p:spPr>
          <a:xfrm>
            <a:off x="1981080" y="5524200"/>
            <a:ext cx="1982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16" name=""/>
          <p:cNvSpPr/>
          <p:nvPr/>
        </p:nvSpPr>
        <p:spPr>
          <a:xfrm>
            <a:off x="609480" y="28954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3" name=""/>
          <p:cNvCxnSpPr>
            <a:stCxn id="916" idx="4"/>
            <a:endCxn id="913" idx="0"/>
          </p:cNvCxnSpPr>
          <p:nvPr/>
        </p:nvCxnSpPr>
        <p:spPr>
          <a:xfrm flipV="1" rot="10800000">
            <a:off x="1256760" y="4190760"/>
            <a:ext cx="108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24" name=""/>
          <p:cNvSpPr/>
          <p:nvPr/>
        </p:nvSpPr>
        <p:spPr>
          <a:xfrm>
            <a:off x="7162920" y="2895480"/>
            <a:ext cx="129528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12" idx="4"/>
            <a:endCxn id="924" idx="0"/>
          </p:cNvCxnSpPr>
          <p:nvPr/>
        </p:nvCxnSpPr>
        <p:spPr>
          <a:xfrm flipV="1" rot="10800000">
            <a:off x="7809840" y="2133360"/>
            <a:ext cx="1080" cy="7624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6" name=""/>
          <p:cNvCxnSpPr>
            <a:stCxn id="924" idx="4"/>
            <a:endCxn id="914" idx="0"/>
          </p:cNvCxnSpPr>
          <p:nvPr/>
        </p:nvCxnSpPr>
        <p:spPr>
          <a:xfrm flipV="1" rot="10800000">
            <a:off x="7809840" y="4190760"/>
            <a:ext cx="108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27" name=""/>
          <p:cNvSpPr/>
          <p:nvPr/>
        </p:nvSpPr>
        <p:spPr>
          <a:xfrm>
            <a:off x="2895480" y="28954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8" name=""/>
          <p:cNvCxnSpPr>
            <a:stCxn id="911" idx="5"/>
            <a:endCxn id="927" idx="1"/>
          </p:cNvCxnSpPr>
          <p:nvPr/>
        </p:nvCxnSpPr>
        <p:spPr>
          <a:xfrm flipH="1" rot="16200000">
            <a:off x="1844640" y="1844640"/>
            <a:ext cx="1164240" cy="1316520"/>
          </a:xfrm>
          <a:prstGeom prst="curvedConnector5">
            <a:avLst>
              <a:gd name="adj1" fmla="val 51005"/>
              <a:gd name="adj2" fmla="val 50000"/>
              <a:gd name="adj3" fmla="val 5100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9" name=""/>
          <p:cNvCxnSpPr>
            <a:stCxn id="927" idx="5"/>
            <a:endCxn id="914" idx="1"/>
          </p:cNvCxnSpPr>
          <p:nvPr/>
        </p:nvCxnSpPr>
        <p:spPr>
          <a:xfrm flipH="1" rot="16200000">
            <a:off x="5144040" y="2858760"/>
            <a:ext cx="1011960" cy="3297960"/>
          </a:xfrm>
          <a:prstGeom prst="curvedConnector5">
            <a:avLst>
              <a:gd name="adj1" fmla="val 48790"/>
              <a:gd name="adj2" fmla="val 50000"/>
              <a:gd name="adj3" fmla="val 487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30" name=""/>
          <p:cNvSpPr/>
          <p:nvPr/>
        </p:nvSpPr>
        <p:spPr>
          <a:xfrm>
            <a:off x="5029200" y="2895480"/>
            <a:ext cx="129528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1" name=""/>
          <p:cNvCxnSpPr>
            <a:stCxn id="913" idx="7"/>
            <a:endCxn id="930" idx="3"/>
          </p:cNvCxnSpPr>
          <p:nvPr/>
        </p:nvCxnSpPr>
        <p:spPr>
          <a:xfrm flipH="1" flipV="1" rot="5400000">
            <a:off x="2987280" y="2782080"/>
            <a:ext cx="1011960" cy="3450600"/>
          </a:xfrm>
          <a:prstGeom prst="curvedConnector5">
            <a:avLst>
              <a:gd name="adj1" fmla="val 51174"/>
              <a:gd name="adj2" fmla="val 50000"/>
              <a:gd name="adj3" fmla="val 5117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2" name=""/>
          <p:cNvCxnSpPr>
            <a:stCxn id="930" idx="7"/>
            <a:endCxn id="912" idx="3"/>
          </p:cNvCxnSpPr>
          <p:nvPr/>
        </p:nvCxnSpPr>
        <p:spPr>
          <a:xfrm flipH="1" flipV="1" rot="5400000">
            <a:off x="6135480" y="1920600"/>
            <a:ext cx="1164240" cy="1164240"/>
          </a:xfrm>
          <a:prstGeom prst="curvedConnector5">
            <a:avLst>
              <a:gd name="adj1" fmla="val 48963"/>
              <a:gd name="adj2" fmla="val 49984"/>
              <a:gd name="adj3" fmla="val 4896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12 elemental combin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685800"/>
            <a:ext cx="144756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086600" y="685800"/>
            <a:ext cx="1447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33520" y="4800600"/>
            <a:ext cx="144756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086600" y="4800600"/>
            <a:ext cx="1447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9" name=""/>
          <p:cNvCxnSpPr>
            <a:stCxn id="935" idx="4"/>
            <a:endCxn id="940" idx="0"/>
          </p:cNvCxnSpPr>
          <p:nvPr/>
        </p:nvCxnSpPr>
        <p:spPr>
          <a:xfrm flipV="1" rot="10800000">
            <a:off x="1256760" y="2133360"/>
            <a:ext cx="1080" cy="7624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1" name=""/>
          <p:cNvCxnSpPr>
            <a:stCxn id="935" idx="6"/>
            <a:endCxn id="942" idx="2"/>
          </p:cNvCxnSpPr>
          <p:nvPr/>
        </p:nvCxnSpPr>
        <p:spPr>
          <a:xfrm>
            <a:off x="1981080" y="1409400"/>
            <a:ext cx="1982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2" name=""/>
          <p:cNvSpPr/>
          <p:nvPr/>
        </p:nvSpPr>
        <p:spPr>
          <a:xfrm>
            <a:off x="3962520" y="7621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3" name=""/>
          <p:cNvCxnSpPr>
            <a:stCxn id="936" idx="2"/>
            <a:endCxn id="942" idx="6"/>
          </p:cNvCxnSpPr>
          <p:nvPr/>
        </p:nvCxnSpPr>
        <p:spPr>
          <a:xfrm rot="10800000">
            <a:off x="5257080" y="1409040"/>
            <a:ext cx="18295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4" name=""/>
          <p:cNvSpPr/>
          <p:nvPr/>
        </p:nvSpPr>
        <p:spPr>
          <a:xfrm>
            <a:off x="3962520" y="48769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38" idx="2"/>
            <a:endCxn id="944" idx="6"/>
          </p:cNvCxnSpPr>
          <p:nvPr/>
        </p:nvCxnSpPr>
        <p:spPr>
          <a:xfrm rot="10800000">
            <a:off x="5257080" y="5523840"/>
            <a:ext cx="18295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6" name=""/>
          <p:cNvCxnSpPr>
            <a:stCxn id="937" idx="6"/>
            <a:endCxn id="944" idx="2"/>
          </p:cNvCxnSpPr>
          <p:nvPr/>
        </p:nvCxnSpPr>
        <p:spPr>
          <a:xfrm>
            <a:off x="1981080" y="5524200"/>
            <a:ext cx="1982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0" name=""/>
          <p:cNvSpPr/>
          <p:nvPr/>
        </p:nvSpPr>
        <p:spPr>
          <a:xfrm>
            <a:off x="609480" y="28954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7" name=""/>
          <p:cNvCxnSpPr>
            <a:stCxn id="940" idx="4"/>
            <a:endCxn id="937" idx="0"/>
          </p:cNvCxnSpPr>
          <p:nvPr/>
        </p:nvCxnSpPr>
        <p:spPr>
          <a:xfrm flipV="1" rot="10800000">
            <a:off x="1256760" y="4190760"/>
            <a:ext cx="108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8" name=""/>
          <p:cNvSpPr/>
          <p:nvPr/>
        </p:nvSpPr>
        <p:spPr>
          <a:xfrm>
            <a:off x="7162920" y="2895480"/>
            <a:ext cx="129528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36" idx="4"/>
            <a:endCxn id="948" idx="0"/>
          </p:cNvCxnSpPr>
          <p:nvPr/>
        </p:nvCxnSpPr>
        <p:spPr>
          <a:xfrm flipV="1" rot="10800000">
            <a:off x="7809840" y="2133360"/>
            <a:ext cx="1080" cy="7624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0" name=""/>
          <p:cNvCxnSpPr>
            <a:stCxn id="948" idx="4"/>
            <a:endCxn id="938" idx="0"/>
          </p:cNvCxnSpPr>
          <p:nvPr/>
        </p:nvCxnSpPr>
        <p:spPr>
          <a:xfrm flipV="1" rot="10800000">
            <a:off x="7809840" y="4190760"/>
            <a:ext cx="108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51" name=""/>
          <p:cNvSpPr/>
          <p:nvPr/>
        </p:nvSpPr>
        <p:spPr>
          <a:xfrm>
            <a:off x="2895480" y="28954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35" idx="5"/>
            <a:endCxn id="951" idx="1"/>
          </p:cNvCxnSpPr>
          <p:nvPr/>
        </p:nvCxnSpPr>
        <p:spPr>
          <a:xfrm flipH="1" rot="16200000">
            <a:off x="1844640" y="1844640"/>
            <a:ext cx="1164240" cy="1316520"/>
          </a:xfrm>
          <a:prstGeom prst="curvedConnector5">
            <a:avLst>
              <a:gd name="adj1" fmla="val 51005"/>
              <a:gd name="adj2" fmla="val 50000"/>
              <a:gd name="adj3" fmla="val 5100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3" name=""/>
          <p:cNvCxnSpPr>
            <a:stCxn id="951" idx="5"/>
            <a:endCxn id="938" idx="1"/>
          </p:cNvCxnSpPr>
          <p:nvPr/>
        </p:nvCxnSpPr>
        <p:spPr>
          <a:xfrm flipH="1" rot="16200000">
            <a:off x="5144040" y="2858760"/>
            <a:ext cx="1011960" cy="3297960"/>
          </a:xfrm>
          <a:prstGeom prst="curvedConnector5">
            <a:avLst>
              <a:gd name="adj1" fmla="val 48790"/>
              <a:gd name="adj2" fmla="val 50000"/>
              <a:gd name="adj3" fmla="val 487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54" name=""/>
          <p:cNvSpPr/>
          <p:nvPr/>
        </p:nvSpPr>
        <p:spPr>
          <a:xfrm>
            <a:off x="5029200" y="2895480"/>
            <a:ext cx="129528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37" idx="7"/>
            <a:endCxn id="954" idx="3"/>
          </p:cNvCxnSpPr>
          <p:nvPr/>
        </p:nvCxnSpPr>
        <p:spPr>
          <a:xfrm flipH="1" flipV="1" rot="5400000">
            <a:off x="2987280" y="2782080"/>
            <a:ext cx="1011960" cy="3450600"/>
          </a:xfrm>
          <a:prstGeom prst="curvedConnector5">
            <a:avLst>
              <a:gd name="adj1" fmla="val 51174"/>
              <a:gd name="adj2" fmla="val 50000"/>
              <a:gd name="adj3" fmla="val 5117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6" name=""/>
          <p:cNvCxnSpPr>
            <a:stCxn id="954" idx="7"/>
            <a:endCxn id="936" idx="3"/>
          </p:cNvCxnSpPr>
          <p:nvPr/>
        </p:nvCxnSpPr>
        <p:spPr>
          <a:xfrm flipH="1" flipV="1" rot="5400000">
            <a:off x="6135480" y="1920600"/>
            <a:ext cx="1164240" cy="1164240"/>
          </a:xfrm>
          <a:prstGeom prst="curvedConnector5">
            <a:avLst>
              <a:gd name="adj1" fmla="val 48963"/>
              <a:gd name="adj2" fmla="val 49984"/>
              <a:gd name="adj3" fmla="val 4896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57" name=""/>
          <p:cNvSpPr/>
          <p:nvPr/>
        </p:nvSpPr>
        <p:spPr>
          <a:xfrm>
            <a:off x="2131200" y="137160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fire-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728680" y="137160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air-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713560" y="24382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air-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325280" y="2209680"/>
            <a:ext cx="14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air-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944400" y="4267080"/>
            <a:ext cx="14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earth-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449320" y="45720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earth-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690160" y="5105520"/>
            <a:ext cx="10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earth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3115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wat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03480" y="420696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wat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1160" y="426708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fire-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574280" y="213372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fire-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26800" y="2133720"/>
            <a:ext cx="9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fir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21840" y="2133720"/>
            <a:ext cx="121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G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12 elemental combin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/>
          <p:nvPr/>
        </p:nvCxnSpPr>
        <p:spPr>
          <a:xfrm flipV="1" rot="10800000">
            <a:off x="1256760" y="2133360"/>
            <a:ext cx="1080" cy="7624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73" name=""/>
          <p:cNvCxnSpPr/>
          <p:nvPr/>
        </p:nvCxnSpPr>
        <p:spPr>
          <a:xfrm>
            <a:off x="1981080" y="1409400"/>
            <a:ext cx="1982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74" name=""/>
          <p:cNvCxnSpPr/>
          <p:nvPr/>
        </p:nvCxnSpPr>
        <p:spPr>
          <a:xfrm rot="10800000">
            <a:off x="5257080" y="1409040"/>
            <a:ext cx="18295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75" name=""/>
          <p:cNvCxnSpPr/>
          <p:nvPr/>
        </p:nvCxnSpPr>
        <p:spPr>
          <a:xfrm rot="10800000">
            <a:off x="5257080" y="5523840"/>
            <a:ext cx="18295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76" name=""/>
          <p:cNvCxnSpPr/>
          <p:nvPr/>
        </p:nvCxnSpPr>
        <p:spPr>
          <a:xfrm>
            <a:off x="1981080" y="5524200"/>
            <a:ext cx="1982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77" name=""/>
          <p:cNvCxnSpPr/>
          <p:nvPr/>
        </p:nvCxnSpPr>
        <p:spPr>
          <a:xfrm flipV="1" rot="10800000">
            <a:off x="1256760" y="4190760"/>
            <a:ext cx="108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78" name=""/>
          <p:cNvCxnSpPr/>
          <p:nvPr/>
        </p:nvCxnSpPr>
        <p:spPr>
          <a:xfrm flipV="1" rot="10800000">
            <a:off x="7809840" y="2133360"/>
            <a:ext cx="1080" cy="7624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79" name=""/>
          <p:cNvCxnSpPr/>
          <p:nvPr/>
        </p:nvCxnSpPr>
        <p:spPr>
          <a:xfrm flipV="1" rot="10800000">
            <a:off x="7809840" y="4190760"/>
            <a:ext cx="108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0" name=""/>
          <p:cNvCxnSpPr/>
          <p:nvPr/>
        </p:nvCxnSpPr>
        <p:spPr>
          <a:xfrm flipH="1" rot="16200000">
            <a:off x="1844640" y="1844640"/>
            <a:ext cx="1164240" cy="1316520"/>
          </a:xfrm>
          <a:prstGeom prst="curvedConnector5">
            <a:avLst>
              <a:gd name="adj1" fmla="val 51005"/>
              <a:gd name="adj2" fmla="val 50000"/>
              <a:gd name="adj3" fmla="val 5100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1" name=""/>
          <p:cNvCxnSpPr/>
          <p:nvPr/>
        </p:nvCxnSpPr>
        <p:spPr>
          <a:xfrm flipH="1" rot="16200000">
            <a:off x="5144040" y="2858760"/>
            <a:ext cx="1011960" cy="3297960"/>
          </a:xfrm>
          <a:prstGeom prst="curvedConnector5">
            <a:avLst>
              <a:gd name="adj1" fmla="val 48790"/>
              <a:gd name="adj2" fmla="val 50000"/>
              <a:gd name="adj3" fmla="val 487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2" name=""/>
          <p:cNvCxnSpPr/>
          <p:nvPr/>
        </p:nvCxnSpPr>
        <p:spPr>
          <a:xfrm flipH="1" flipV="1" rot="5400000">
            <a:off x="2987280" y="2782080"/>
            <a:ext cx="1011960" cy="3450600"/>
          </a:xfrm>
          <a:prstGeom prst="curvedConnector5">
            <a:avLst>
              <a:gd name="adj1" fmla="val 51174"/>
              <a:gd name="adj2" fmla="val 50000"/>
              <a:gd name="adj3" fmla="val 5117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3" name=""/>
          <p:cNvCxnSpPr/>
          <p:nvPr/>
        </p:nvCxnSpPr>
        <p:spPr>
          <a:xfrm flipH="1" flipV="1" rot="5400000">
            <a:off x="6135480" y="1920600"/>
            <a:ext cx="1164240" cy="1164240"/>
          </a:xfrm>
          <a:prstGeom prst="curvedConnector5">
            <a:avLst>
              <a:gd name="adj1" fmla="val 48963"/>
              <a:gd name="adj2" fmla="val 49984"/>
              <a:gd name="adj3" fmla="val 4896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4" name=""/>
          <p:cNvSpPr/>
          <p:nvPr/>
        </p:nvSpPr>
        <p:spPr>
          <a:xfrm>
            <a:off x="2131200" y="137160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fire-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728680" y="137160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air-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13560" y="24382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air-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325280" y="2209680"/>
            <a:ext cx="14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air-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944400" y="4267080"/>
            <a:ext cx="14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earth-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449320" y="45720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earth-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690160" y="5105520"/>
            <a:ext cx="10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earth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3115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wat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103480" y="420696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wat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91160" y="426708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fire-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574280" y="213372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fire-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6800" y="2133720"/>
            <a:ext cx="9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fir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21840" y="2133720"/>
            <a:ext cx="121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12 elemental combin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9" name=""/>
          <p:cNvCxnSpPr>
            <a:endCxn id="1000" idx="0"/>
          </p:cNvCxnSpPr>
          <p:nvPr/>
        </p:nvCxnSpPr>
        <p:spPr>
          <a:xfrm flipV="1" rot="10800000">
            <a:off x="1256760" y="2133360"/>
            <a:ext cx="1080" cy="7624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1" name=""/>
          <p:cNvCxnSpPr>
            <a:endCxn id="1002" idx="2"/>
          </p:cNvCxnSpPr>
          <p:nvPr/>
        </p:nvCxnSpPr>
        <p:spPr>
          <a:xfrm>
            <a:off x="1981080" y="1409400"/>
            <a:ext cx="1982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2" name=""/>
          <p:cNvSpPr/>
          <p:nvPr/>
        </p:nvSpPr>
        <p:spPr>
          <a:xfrm>
            <a:off x="3962520" y="7621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3" name=""/>
          <p:cNvCxnSpPr>
            <a:endCxn id="1002" idx="6"/>
          </p:cNvCxnSpPr>
          <p:nvPr/>
        </p:nvCxnSpPr>
        <p:spPr>
          <a:xfrm rot="10800000">
            <a:off x="5257080" y="1409040"/>
            <a:ext cx="18295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4" name=""/>
          <p:cNvSpPr/>
          <p:nvPr/>
        </p:nvSpPr>
        <p:spPr>
          <a:xfrm>
            <a:off x="3962520" y="4876920"/>
            <a:ext cx="1295280" cy="1295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5" name=""/>
          <p:cNvCxnSpPr>
            <a:endCxn id="1004" idx="6"/>
          </p:cNvCxnSpPr>
          <p:nvPr/>
        </p:nvCxnSpPr>
        <p:spPr>
          <a:xfrm rot="10800000">
            <a:off x="5257080" y="5523840"/>
            <a:ext cx="18295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6" name=""/>
          <p:cNvCxnSpPr>
            <a:endCxn id="1004" idx="2"/>
          </p:cNvCxnSpPr>
          <p:nvPr/>
        </p:nvCxnSpPr>
        <p:spPr>
          <a:xfrm>
            <a:off x="1981080" y="5524200"/>
            <a:ext cx="1982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0" name=""/>
          <p:cNvSpPr/>
          <p:nvPr/>
        </p:nvSpPr>
        <p:spPr>
          <a:xfrm>
            <a:off x="609480" y="28954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7" name=""/>
          <p:cNvCxnSpPr>
            <a:stCxn id="1000" idx="4"/>
          </p:cNvCxnSpPr>
          <p:nvPr/>
        </p:nvCxnSpPr>
        <p:spPr>
          <a:xfrm flipV="1" rot="10800000">
            <a:off x="1256760" y="4190760"/>
            <a:ext cx="108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8" name=""/>
          <p:cNvSpPr/>
          <p:nvPr/>
        </p:nvSpPr>
        <p:spPr>
          <a:xfrm>
            <a:off x="7162920" y="2895480"/>
            <a:ext cx="129528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9" name=""/>
          <p:cNvCxnSpPr>
            <a:endCxn id="1008" idx="0"/>
          </p:cNvCxnSpPr>
          <p:nvPr/>
        </p:nvCxnSpPr>
        <p:spPr>
          <a:xfrm flipV="1" rot="10800000">
            <a:off x="7809840" y="2133360"/>
            <a:ext cx="1080" cy="7624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10" name=""/>
          <p:cNvCxnSpPr>
            <a:stCxn id="1008" idx="4"/>
          </p:cNvCxnSpPr>
          <p:nvPr/>
        </p:nvCxnSpPr>
        <p:spPr>
          <a:xfrm flipV="1" rot="10800000">
            <a:off x="7809840" y="4190760"/>
            <a:ext cx="108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11" name=""/>
          <p:cNvSpPr/>
          <p:nvPr/>
        </p:nvSpPr>
        <p:spPr>
          <a:xfrm>
            <a:off x="2895480" y="2895480"/>
            <a:ext cx="129564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2" name=""/>
          <p:cNvCxnSpPr>
            <a:endCxn id="1011" idx="1"/>
          </p:cNvCxnSpPr>
          <p:nvPr/>
        </p:nvCxnSpPr>
        <p:spPr>
          <a:xfrm flipH="1" rot="16200000">
            <a:off x="1844640" y="1844640"/>
            <a:ext cx="1164240" cy="1316520"/>
          </a:xfrm>
          <a:prstGeom prst="curvedConnector5">
            <a:avLst>
              <a:gd name="adj1" fmla="val 51005"/>
              <a:gd name="adj2" fmla="val 50000"/>
              <a:gd name="adj3" fmla="val 5100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13" name=""/>
          <p:cNvCxnSpPr>
            <a:stCxn id="1011" idx="5"/>
          </p:cNvCxnSpPr>
          <p:nvPr/>
        </p:nvCxnSpPr>
        <p:spPr>
          <a:xfrm flipH="1" rot="16200000">
            <a:off x="5144040" y="2858760"/>
            <a:ext cx="1011960" cy="3297960"/>
          </a:xfrm>
          <a:prstGeom prst="curvedConnector5">
            <a:avLst>
              <a:gd name="adj1" fmla="val 48790"/>
              <a:gd name="adj2" fmla="val 50000"/>
              <a:gd name="adj3" fmla="val 487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14" name=""/>
          <p:cNvSpPr/>
          <p:nvPr/>
        </p:nvSpPr>
        <p:spPr>
          <a:xfrm>
            <a:off x="5029200" y="2895480"/>
            <a:ext cx="129528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endCxn id="1014" idx="3"/>
          </p:cNvCxnSpPr>
          <p:nvPr/>
        </p:nvCxnSpPr>
        <p:spPr>
          <a:xfrm flipH="1" flipV="1" rot="5400000">
            <a:off x="2987280" y="2782080"/>
            <a:ext cx="1011960" cy="3450600"/>
          </a:xfrm>
          <a:prstGeom prst="curvedConnector5">
            <a:avLst>
              <a:gd name="adj1" fmla="val 51174"/>
              <a:gd name="adj2" fmla="val 50000"/>
              <a:gd name="adj3" fmla="val 5117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16" name=""/>
          <p:cNvCxnSpPr>
            <a:stCxn id="1014" idx="7"/>
          </p:cNvCxnSpPr>
          <p:nvPr/>
        </p:nvCxnSpPr>
        <p:spPr>
          <a:xfrm flipH="1" flipV="1" rot="5400000">
            <a:off x="6135480" y="1920600"/>
            <a:ext cx="1164240" cy="1164240"/>
          </a:xfrm>
          <a:prstGeom prst="curvedConnector5">
            <a:avLst>
              <a:gd name="adj1" fmla="val 48963"/>
              <a:gd name="adj2" fmla="val 49984"/>
              <a:gd name="adj3" fmla="val 4896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17" name=""/>
          <p:cNvSpPr/>
          <p:nvPr/>
        </p:nvSpPr>
        <p:spPr>
          <a:xfrm>
            <a:off x="2131200" y="137160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fire-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728680" y="137160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air-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13560" y="24382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air-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325280" y="2209680"/>
            <a:ext cx="14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air-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44400" y="4267080"/>
            <a:ext cx="14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earth-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449320" y="45720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earth-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690160" y="5105520"/>
            <a:ext cx="10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earth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3115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wat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103480" y="420696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wat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91160" y="426708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fire-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574280" y="213372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fire-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26800" y="2133720"/>
            <a:ext cx="9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fir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 Black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194640" y="2057400"/>
            <a:ext cx="22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PATTE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352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POSITIONS</a:t>
            </a:r>
            <a:br>
              <a:rPr sz="3600"/>
            </a:br>
            <a:br>
              <a:rPr sz="2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lassic polarities do not match what we ne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38080" y="609480"/>
            <a:ext cx="450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62520" y="457200"/>
            <a:ext cx="838080" cy="838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010280" y="457200"/>
            <a:ext cx="83844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e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010280" y="26668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6" name=""/>
          <p:cNvCxnSpPr>
            <a:stCxn id="1032" idx="4"/>
            <a:endCxn id="1037" idx="0"/>
          </p:cNvCxnSpPr>
          <p:nvPr/>
        </p:nvCxnSpPr>
        <p:spPr>
          <a:xfrm flipH="1" rot="16200000">
            <a:off x="4245480" y="1430640"/>
            <a:ext cx="305640" cy="33840"/>
          </a:xfrm>
          <a:prstGeom prst="curvedConnector5">
            <a:avLst>
              <a:gd name="adj1" fmla="val 50000"/>
              <a:gd name="adj2" fmla="val 49462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8" name=""/>
          <p:cNvCxnSpPr>
            <a:stCxn id="1032" idx="6"/>
            <a:endCxn id="1039" idx="2"/>
          </p:cNvCxnSpPr>
          <p:nvPr/>
        </p:nvCxnSpPr>
        <p:spPr>
          <a:xfrm>
            <a:off x="4800600" y="875880"/>
            <a:ext cx="697680" cy="34200"/>
          </a:xfrm>
          <a:prstGeom prst="curvedConnector5">
            <a:avLst>
              <a:gd name="adj1" fmla="val 49870"/>
              <a:gd name="adj2" fmla="val 50000"/>
              <a:gd name="adj3" fmla="val 498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9" name=""/>
          <p:cNvSpPr/>
          <p:nvPr/>
        </p:nvSpPr>
        <p:spPr>
          <a:xfrm>
            <a:off x="5497560" y="533520"/>
            <a:ext cx="750960" cy="750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0" name=""/>
          <p:cNvCxnSpPr>
            <a:stCxn id="1033" idx="2"/>
            <a:endCxn id="1039" idx="6"/>
          </p:cNvCxnSpPr>
          <p:nvPr/>
        </p:nvCxnSpPr>
        <p:spPr>
          <a:xfrm flipV="1" rot="10800000">
            <a:off x="6247800" y="875160"/>
            <a:ext cx="762480" cy="3420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41" name=""/>
          <p:cNvSpPr/>
          <p:nvPr/>
        </p:nvSpPr>
        <p:spPr>
          <a:xfrm>
            <a:off x="5573880" y="2754360"/>
            <a:ext cx="75060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2" name=""/>
          <p:cNvCxnSpPr>
            <a:stCxn id="1035" idx="2"/>
            <a:endCxn id="1041" idx="6"/>
          </p:cNvCxnSpPr>
          <p:nvPr/>
        </p:nvCxnSpPr>
        <p:spPr>
          <a:xfrm flipV="1" rot="10800000">
            <a:off x="6323760" y="3085200"/>
            <a:ext cx="686520" cy="45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3" name=""/>
          <p:cNvCxnSpPr>
            <a:stCxn id="1034" idx="6"/>
            <a:endCxn id="1041" idx="2"/>
          </p:cNvCxnSpPr>
          <p:nvPr/>
        </p:nvCxnSpPr>
        <p:spPr>
          <a:xfrm>
            <a:off x="4800600" y="3085920"/>
            <a:ext cx="774000" cy="45000"/>
          </a:xfrm>
          <a:prstGeom prst="curvedConnector5">
            <a:avLst>
              <a:gd name="adj1" fmla="val 49883"/>
              <a:gd name="adj2" fmla="val 50000"/>
              <a:gd name="adj3" fmla="val 4988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7" name=""/>
          <p:cNvSpPr/>
          <p:nvPr/>
        </p:nvSpPr>
        <p:spPr>
          <a:xfrm>
            <a:off x="4038480" y="160020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4" name=""/>
          <p:cNvCxnSpPr>
            <a:stCxn id="1037" idx="4"/>
            <a:endCxn id="1034" idx="0"/>
          </p:cNvCxnSpPr>
          <p:nvPr/>
        </p:nvCxnSpPr>
        <p:spPr>
          <a:xfrm rot="5400000">
            <a:off x="4239720" y="2492280"/>
            <a:ext cx="316440" cy="33840"/>
          </a:xfrm>
          <a:prstGeom prst="curvedConnector5">
            <a:avLst>
              <a:gd name="adj1" fmla="val 49658"/>
              <a:gd name="adj2" fmla="val 49462"/>
              <a:gd name="adj3" fmla="val 4965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45" name=""/>
          <p:cNvSpPr/>
          <p:nvPr/>
        </p:nvSpPr>
        <p:spPr>
          <a:xfrm>
            <a:off x="7086600" y="160020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>
            <a:stCxn id="1033" idx="4"/>
            <a:endCxn id="1045" idx="0"/>
          </p:cNvCxnSpPr>
          <p:nvPr/>
        </p:nvCxnSpPr>
        <p:spPr>
          <a:xfrm flipH="1" rot="16200000">
            <a:off x="7293600" y="1430640"/>
            <a:ext cx="305640" cy="33840"/>
          </a:xfrm>
          <a:prstGeom prst="curvedConnector5">
            <a:avLst>
              <a:gd name="adj1" fmla="val 50000"/>
              <a:gd name="adj2" fmla="val 49462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7" name=""/>
          <p:cNvCxnSpPr>
            <a:stCxn id="1045" idx="4"/>
            <a:endCxn id="1035" idx="0"/>
          </p:cNvCxnSpPr>
          <p:nvPr/>
        </p:nvCxnSpPr>
        <p:spPr>
          <a:xfrm rot="5400000">
            <a:off x="7287840" y="2492280"/>
            <a:ext cx="316440" cy="33840"/>
          </a:xfrm>
          <a:prstGeom prst="curvedConnector5">
            <a:avLst>
              <a:gd name="adj1" fmla="val 49658"/>
              <a:gd name="adj2" fmla="val 49462"/>
              <a:gd name="adj3" fmla="val 4965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48" name=""/>
          <p:cNvSpPr/>
          <p:nvPr/>
        </p:nvSpPr>
        <p:spPr>
          <a:xfrm>
            <a:off x="4952880" y="160020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9" name=""/>
          <p:cNvCxnSpPr>
            <a:stCxn id="1032" idx="5"/>
            <a:endCxn id="1048" idx="1"/>
          </p:cNvCxnSpPr>
          <p:nvPr/>
        </p:nvCxnSpPr>
        <p:spPr>
          <a:xfrm flipH="1" rot="16200000">
            <a:off x="4602240" y="1248840"/>
            <a:ext cx="536760" cy="385200"/>
          </a:xfrm>
          <a:prstGeom prst="curvedConnector5">
            <a:avLst>
              <a:gd name="adj1" fmla="val 51208"/>
              <a:gd name="adj2" fmla="val 49953"/>
              <a:gd name="adj3" fmla="val 5120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0" name=""/>
          <p:cNvCxnSpPr>
            <a:stCxn id="1048" idx="5"/>
            <a:endCxn id="1035" idx="1"/>
          </p:cNvCxnSpPr>
          <p:nvPr/>
        </p:nvCxnSpPr>
        <p:spPr>
          <a:xfrm flipH="1" rot="16200000">
            <a:off x="6088680" y="1746000"/>
            <a:ext cx="548280" cy="1539000"/>
          </a:xfrm>
          <a:prstGeom prst="curvedConnector5">
            <a:avLst>
              <a:gd name="adj1" fmla="val 48685"/>
              <a:gd name="adj2" fmla="val 50000"/>
              <a:gd name="adj3" fmla="val 486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51" name=""/>
          <p:cNvSpPr/>
          <p:nvPr/>
        </p:nvSpPr>
        <p:spPr>
          <a:xfrm>
            <a:off x="6095880" y="160020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2" name=""/>
          <p:cNvCxnSpPr>
            <a:stCxn id="1034" idx="7"/>
            <a:endCxn id="1051" idx="3"/>
          </p:cNvCxnSpPr>
          <p:nvPr/>
        </p:nvCxnSpPr>
        <p:spPr>
          <a:xfrm flipH="1" flipV="1" rot="5400000">
            <a:off x="5167800" y="1751040"/>
            <a:ext cx="548280" cy="1528200"/>
          </a:xfrm>
          <a:prstGeom prst="curvedConnector5">
            <a:avLst>
              <a:gd name="adj1" fmla="val 50985"/>
              <a:gd name="adj2" fmla="val 50000"/>
              <a:gd name="adj3" fmla="val 509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3" name=""/>
          <p:cNvCxnSpPr>
            <a:stCxn id="1051" idx="7"/>
            <a:endCxn id="1033" idx="3"/>
          </p:cNvCxnSpPr>
          <p:nvPr/>
        </p:nvCxnSpPr>
        <p:spPr>
          <a:xfrm flipH="1" flipV="1" rot="5400000">
            <a:off x="6666840" y="1243800"/>
            <a:ext cx="536760" cy="396000"/>
          </a:xfrm>
          <a:prstGeom prst="curvedConnector5">
            <a:avLst>
              <a:gd name="adj1" fmla="val 48791"/>
              <a:gd name="adj2" fmla="val 49954"/>
              <a:gd name="adj3" fmla="val 4879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054" name=""/>
          <p:cNvGrpSpPr/>
          <p:nvPr/>
        </p:nvGrpSpPr>
        <p:grpSpPr>
          <a:xfrm>
            <a:off x="990720" y="4114800"/>
            <a:ext cx="1066680" cy="1066680"/>
            <a:chOff x="990720" y="4114800"/>
            <a:chExt cx="1066680" cy="1066680"/>
          </a:xfrm>
        </p:grpSpPr>
        <p:sp>
          <p:nvSpPr>
            <p:cNvPr id="1055" name=""/>
            <p:cNvSpPr/>
            <p:nvPr/>
          </p:nvSpPr>
          <p:spPr>
            <a:xfrm>
              <a:off x="990720" y="41148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066680" y="4190760"/>
              <a:ext cx="228240" cy="228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3124080" y="5181480"/>
            <a:ext cx="1066680" cy="1067040"/>
            <a:chOff x="3124080" y="5181480"/>
            <a:chExt cx="1066680" cy="1067040"/>
          </a:xfrm>
        </p:grpSpPr>
        <p:sp>
          <p:nvSpPr>
            <p:cNvPr id="1058" name=""/>
            <p:cNvSpPr/>
            <p:nvPr/>
          </p:nvSpPr>
          <p:spPr>
            <a:xfrm>
              <a:off x="3124080" y="5181480"/>
              <a:ext cx="1066680" cy="10670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360" y="5334120"/>
              <a:ext cx="762120" cy="76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5791320" y="5181480"/>
            <a:ext cx="1066680" cy="1067040"/>
            <a:chOff x="5791320" y="5181480"/>
            <a:chExt cx="1066680" cy="1067040"/>
          </a:xfrm>
        </p:grpSpPr>
        <p:sp>
          <p:nvSpPr>
            <p:cNvPr id="1061" name=""/>
            <p:cNvSpPr/>
            <p:nvPr/>
          </p:nvSpPr>
          <p:spPr>
            <a:xfrm>
              <a:off x="5791320" y="5181480"/>
              <a:ext cx="1066680" cy="10670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943600" y="5334120"/>
              <a:ext cx="7614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2057400" y="4114800"/>
            <a:ext cx="1066680" cy="1066680"/>
            <a:chOff x="2057400" y="4114800"/>
            <a:chExt cx="1066680" cy="1066680"/>
          </a:xfrm>
        </p:grpSpPr>
        <p:sp>
          <p:nvSpPr>
            <p:cNvPr id="1064" name=""/>
            <p:cNvSpPr/>
            <p:nvPr/>
          </p:nvSpPr>
          <p:spPr>
            <a:xfrm>
              <a:off x="2057400" y="41148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209680" y="426708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724280" y="4114800"/>
            <a:ext cx="1067040" cy="1066680"/>
            <a:chOff x="4724280" y="4114800"/>
            <a:chExt cx="1067040" cy="1066680"/>
          </a:xfrm>
        </p:grpSpPr>
        <p:sp>
          <p:nvSpPr>
            <p:cNvPr id="1067" name=""/>
            <p:cNvSpPr/>
            <p:nvPr/>
          </p:nvSpPr>
          <p:spPr>
            <a:xfrm>
              <a:off x="4724280" y="4114800"/>
              <a:ext cx="106704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00600" y="4190760"/>
              <a:ext cx="22860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6858000" y="5181480"/>
            <a:ext cx="1066680" cy="1067040"/>
            <a:chOff x="6858000" y="5181480"/>
            <a:chExt cx="1066680" cy="1067040"/>
          </a:xfrm>
        </p:grpSpPr>
        <p:sp>
          <p:nvSpPr>
            <p:cNvPr id="1070" name=""/>
            <p:cNvSpPr/>
            <p:nvPr/>
          </p:nvSpPr>
          <p:spPr>
            <a:xfrm>
              <a:off x="6858000" y="5181480"/>
              <a:ext cx="1066680" cy="10670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10280" y="5334120"/>
              <a:ext cx="76212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124080" y="4114800"/>
            <a:ext cx="1066680" cy="1066680"/>
            <a:chOff x="3124080" y="4114800"/>
            <a:chExt cx="1066680" cy="1066680"/>
          </a:xfrm>
        </p:grpSpPr>
        <p:sp>
          <p:nvSpPr>
            <p:cNvPr id="1073" name=""/>
            <p:cNvSpPr/>
            <p:nvPr/>
          </p:nvSpPr>
          <p:spPr>
            <a:xfrm>
              <a:off x="3124080" y="41148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276360" y="4267080"/>
              <a:ext cx="762120" cy="761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5791320" y="4114800"/>
            <a:ext cx="1066680" cy="1066680"/>
            <a:chOff x="5791320" y="4114800"/>
            <a:chExt cx="1066680" cy="1066680"/>
          </a:xfrm>
        </p:grpSpPr>
        <p:sp>
          <p:nvSpPr>
            <p:cNvPr id="1076" name=""/>
            <p:cNvSpPr/>
            <p:nvPr/>
          </p:nvSpPr>
          <p:spPr>
            <a:xfrm>
              <a:off x="5791320" y="411480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943600" y="4267080"/>
              <a:ext cx="76140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990720" y="5181480"/>
            <a:ext cx="1066680" cy="1066680"/>
            <a:chOff x="990720" y="5181480"/>
            <a:chExt cx="1066680" cy="1066680"/>
          </a:xfrm>
        </p:grpSpPr>
        <p:sp>
          <p:nvSpPr>
            <p:cNvPr id="1079" name=""/>
            <p:cNvSpPr/>
            <p:nvPr/>
          </p:nvSpPr>
          <p:spPr>
            <a:xfrm>
              <a:off x="990720" y="5181480"/>
              <a:ext cx="106668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066680" y="5257800"/>
              <a:ext cx="2282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4724280" y="5181480"/>
            <a:ext cx="1067040" cy="1066680"/>
            <a:chOff x="4724280" y="5181480"/>
            <a:chExt cx="1067040" cy="1066680"/>
          </a:xfrm>
        </p:grpSpPr>
        <p:sp>
          <p:nvSpPr>
            <p:cNvPr id="1082" name=""/>
            <p:cNvSpPr/>
            <p:nvPr/>
          </p:nvSpPr>
          <p:spPr>
            <a:xfrm>
              <a:off x="4724280" y="5181480"/>
              <a:ext cx="1067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00600" y="5257440"/>
              <a:ext cx="22860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6858000" y="4114800"/>
            <a:ext cx="1066680" cy="1066680"/>
            <a:chOff x="6858000" y="4114800"/>
            <a:chExt cx="1066680" cy="1066680"/>
          </a:xfrm>
        </p:grpSpPr>
        <p:sp>
          <p:nvSpPr>
            <p:cNvPr id="1085" name=""/>
            <p:cNvSpPr/>
            <p:nvPr/>
          </p:nvSpPr>
          <p:spPr>
            <a:xfrm>
              <a:off x="6858000" y="41148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010280" y="4267080"/>
              <a:ext cx="76212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2057400" y="5181480"/>
            <a:ext cx="1066680" cy="1066680"/>
            <a:chOff x="2057400" y="5181480"/>
            <a:chExt cx="1066680" cy="1066680"/>
          </a:xfrm>
        </p:grpSpPr>
        <p:sp>
          <p:nvSpPr>
            <p:cNvPr id="1088" name=""/>
            <p:cNvSpPr/>
            <p:nvPr/>
          </p:nvSpPr>
          <p:spPr>
            <a:xfrm>
              <a:off x="2057400" y="518148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209680" y="5333760"/>
              <a:ext cx="761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q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352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POSITIONS</a:t>
            </a:r>
            <a:br>
              <a:rPr sz="3600"/>
            </a:br>
            <a:br>
              <a:rPr sz="2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lassic polarities do not match what we ne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38080" y="609480"/>
            <a:ext cx="450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962520" y="457200"/>
            <a:ext cx="838080" cy="838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f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010280" y="457200"/>
            <a:ext cx="83844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e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010280" y="26668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rt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6" name=""/>
          <p:cNvCxnSpPr>
            <a:stCxn id="1092" idx="4"/>
            <a:endCxn id="1097" idx="0"/>
          </p:cNvCxnSpPr>
          <p:nvPr/>
        </p:nvCxnSpPr>
        <p:spPr>
          <a:xfrm flipH="1" rot="16200000">
            <a:off x="4245480" y="1430640"/>
            <a:ext cx="305640" cy="33840"/>
          </a:xfrm>
          <a:prstGeom prst="curvedConnector5">
            <a:avLst>
              <a:gd name="adj1" fmla="val 50000"/>
              <a:gd name="adj2" fmla="val 49462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98" name=""/>
          <p:cNvCxnSpPr>
            <a:stCxn id="1092" idx="6"/>
            <a:endCxn id="1099" idx="2"/>
          </p:cNvCxnSpPr>
          <p:nvPr/>
        </p:nvCxnSpPr>
        <p:spPr>
          <a:xfrm>
            <a:off x="4800600" y="875880"/>
            <a:ext cx="697680" cy="34200"/>
          </a:xfrm>
          <a:prstGeom prst="curvedConnector5">
            <a:avLst>
              <a:gd name="adj1" fmla="val 49870"/>
              <a:gd name="adj2" fmla="val 50000"/>
              <a:gd name="adj3" fmla="val 498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99" name=""/>
          <p:cNvSpPr/>
          <p:nvPr/>
        </p:nvSpPr>
        <p:spPr>
          <a:xfrm>
            <a:off x="5497560" y="533520"/>
            <a:ext cx="750960" cy="750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0" name=""/>
          <p:cNvCxnSpPr>
            <a:stCxn id="1093" idx="2"/>
            <a:endCxn id="1099" idx="6"/>
          </p:cNvCxnSpPr>
          <p:nvPr/>
        </p:nvCxnSpPr>
        <p:spPr>
          <a:xfrm flipV="1" rot="10800000">
            <a:off x="6247800" y="875160"/>
            <a:ext cx="762480" cy="3420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01" name=""/>
          <p:cNvSpPr/>
          <p:nvPr/>
        </p:nvSpPr>
        <p:spPr>
          <a:xfrm>
            <a:off x="5573880" y="2754360"/>
            <a:ext cx="75060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2" name=""/>
          <p:cNvCxnSpPr>
            <a:stCxn id="1095" idx="2"/>
            <a:endCxn id="1101" idx="6"/>
          </p:cNvCxnSpPr>
          <p:nvPr/>
        </p:nvCxnSpPr>
        <p:spPr>
          <a:xfrm flipV="1" rot="10800000">
            <a:off x="6323760" y="3085200"/>
            <a:ext cx="686520" cy="45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3" name=""/>
          <p:cNvCxnSpPr>
            <a:stCxn id="1094" idx="6"/>
            <a:endCxn id="1101" idx="2"/>
          </p:cNvCxnSpPr>
          <p:nvPr/>
        </p:nvCxnSpPr>
        <p:spPr>
          <a:xfrm>
            <a:off x="4800600" y="3085920"/>
            <a:ext cx="774000" cy="45000"/>
          </a:xfrm>
          <a:prstGeom prst="curvedConnector5">
            <a:avLst>
              <a:gd name="adj1" fmla="val 49883"/>
              <a:gd name="adj2" fmla="val 50000"/>
              <a:gd name="adj3" fmla="val 4988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97" name=""/>
          <p:cNvSpPr/>
          <p:nvPr/>
        </p:nvSpPr>
        <p:spPr>
          <a:xfrm>
            <a:off x="4038480" y="160020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4" name=""/>
          <p:cNvCxnSpPr>
            <a:stCxn id="1097" idx="4"/>
            <a:endCxn id="1094" idx="0"/>
          </p:cNvCxnSpPr>
          <p:nvPr/>
        </p:nvCxnSpPr>
        <p:spPr>
          <a:xfrm rot="5400000">
            <a:off x="4239720" y="2492280"/>
            <a:ext cx="316440" cy="33840"/>
          </a:xfrm>
          <a:prstGeom prst="curvedConnector5">
            <a:avLst>
              <a:gd name="adj1" fmla="val 49658"/>
              <a:gd name="adj2" fmla="val 49462"/>
              <a:gd name="adj3" fmla="val 4965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05" name=""/>
          <p:cNvSpPr/>
          <p:nvPr/>
        </p:nvSpPr>
        <p:spPr>
          <a:xfrm>
            <a:off x="7086600" y="160020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6" name=""/>
          <p:cNvCxnSpPr>
            <a:stCxn id="1093" idx="4"/>
            <a:endCxn id="1105" idx="0"/>
          </p:cNvCxnSpPr>
          <p:nvPr/>
        </p:nvCxnSpPr>
        <p:spPr>
          <a:xfrm flipH="1" rot="16200000">
            <a:off x="7293600" y="1430640"/>
            <a:ext cx="305640" cy="33840"/>
          </a:xfrm>
          <a:prstGeom prst="curvedConnector5">
            <a:avLst>
              <a:gd name="adj1" fmla="val 50000"/>
              <a:gd name="adj2" fmla="val 49462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7" name=""/>
          <p:cNvCxnSpPr>
            <a:stCxn id="1105" idx="4"/>
            <a:endCxn id="1095" idx="0"/>
          </p:cNvCxnSpPr>
          <p:nvPr/>
        </p:nvCxnSpPr>
        <p:spPr>
          <a:xfrm rot="5400000">
            <a:off x="7287840" y="2492280"/>
            <a:ext cx="316440" cy="33840"/>
          </a:xfrm>
          <a:prstGeom prst="curvedConnector5">
            <a:avLst>
              <a:gd name="adj1" fmla="val 49658"/>
              <a:gd name="adj2" fmla="val 49462"/>
              <a:gd name="adj3" fmla="val 4965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08" name=""/>
          <p:cNvSpPr/>
          <p:nvPr/>
        </p:nvSpPr>
        <p:spPr>
          <a:xfrm>
            <a:off x="4952880" y="160020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er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9" name=""/>
          <p:cNvCxnSpPr>
            <a:stCxn id="1092" idx="5"/>
            <a:endCxn id="1108" idx="1"/>
          </p:cNvCxnSpPr>
          <p:nvPr/>
        </p:nvCxnSpPr>
        <p:spPr>
          <a:xfrm flipH="1" rot="16200000">
            <a:off x="4602240" y="1248840"/>
            <a:ext cx="536760" cy="385200"/>
          </a:xfrm>
          <a:prstGeom prst="curvedConnector5">
            <a:avLst>
              <a:gd name="adj1" fmla="val 51208"/>
              <a:gd name="adj2" fmla="val 49953"/>
              <a:gd name="adj3" fmla="val 5120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0" name=""/>
          <p:cNvCxnSpPr>
            <a:stCxn id="1108" idx="5"/>
            <a:endCxn id="1095" idx="1"/>
          </p:cNvCxnSpPr>
          <p:nvPr/>
        </p:nvCxnSpPr>
        <p:spPr>
          <a:xfrm flipH="1" rot="16200000">
            <a:off x="6088680" y="1746000"/>
            <a:ext cx="548280" cy="1539000"/>
          </a:xfrm>
          <a:prstGeom prst="curvedConnector5">
            <a:avLst>
              <a:gd name="adj1" fmla="val 48685"/>
              <a:gd name="adj2" fmla="val 50000"/>
              <a:gd name="adj3" fmla="val 486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11" name=""/>
          <p:cNvSpPr/>
          <p:nvPr/>
        </p:nvSpPr>
        <p:spPr>
          <a:xfrm>
            <a:off x="6095880" y="1600200"/>
            <a:ext cx="750960" cy="750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2" name=""/>
          <p:cNvCxnSpPr>
            <a:stCxn id="1094" idx="7"/>
            <a:endCxn id="1111" idx="3"/>
          </p:cNvCxnSpPr>
          <p:nvPr/>
        </p:nvCxnSpPr>
        <p:spPr>
          <a:xfrm flipH="1" flipV="1" rot="5400000">
            <a:off x="5167800" y="1751040"/>
            <a:ext cx="548280" cy="1528200"/>
          </a:xfrm>
          <a:prstGeom prst="curvedConnector5">
            <a:avLst>
              <a:gd name="adj1" fmla="val 50985"/>
              <a:gd name="adj2" fmla="val 50000"/>
              <a:gd name="adj3" fmla="val 509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3" name=""/>
          <p:cNvCxnSpPr>
            <a:stCxn id="1111" idx="7"/>
            <a:endCxn id="1093" idx="3"/>
          </p:cNvCxnSpPr>
          <p:nvPr/>
        </p:nvCxnSpPr>
        <p:spPr>
          <a:xfrm flipH="1" flipV="1" rot="5400000">
            <a:off x="6666840" y="1243800"/>
            <a:ext cx="536760" cy="396000"/>
          </a:xfrm>
          <a:prstGeom prst="curvedConnector5">
            <a:avLst>
              <a:gd name="adj1" fmla="val 48791"/>
              <a:gd name="adj2" fmla="val 49954"/>
              <a:gd name="adj3" fmla="val 4879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114" name=""/>
          <p:cNvGrpSpPr/>
          <p:nvPr/>
        </p:nvGrpSpPr>
        <p:grpSpPr>
          <a:xfrm>
            <a:off x="990720" y="4114800"/>
            <a:ext cx="1066680" cy="1066680"/>
            <a:chOff x="990720" y="4114800"/>
            <a:chExt cx="1066680" cy="1066680"/>
          </a:xfrm>
        </p:grpSpPr>
        <p:sp>
          <p:nvSpPr>
            <p:cNvPr id="1115" name=""/>
            <p:cNvSpPr/>
            <p:nvPr/>
          </p:nvSpPr>
          <p:spPr>
            <a:xfrm>
              <a:off x="990720" y="4114800"/>
              <a:ext cx="1066680" cy="1066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066680" y="4190760"/>
              <a:ext cx="228240" cy="228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191120" y="5181480"/>
            <a:ext cx="1066680" cy="1067040"/>
            <a:chOff x="4191120" y="5181480"/>
            <a:chExt cx="1066680" cy="1067040"/>
          </a:xfrm>
        </p:grpSpPr>
        <p:sp>
          <p:nvSpPr>
            <p:cNvPr id="1118" name=""/>
            <p:cNvSpPr/>
            <p:nvPr/>
          </p:nvSpPr>
          <p:spPr>
            <a:xfrm>
              <a:off x="4191120" y="5181480"/>
              <a:ext cx="1066680" cy="10670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343400" y="5334120"/>
              <a:ext cx="762120" cy="76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7467480" y="5181480"/>
            <a:ext cx="1067040" cy="1067040"/>
            <a:chOff x="7467480" y="5181480"/>
            <a:chExt cx="1067040" cy="1067040"/>
          </a:xfrm>
        </p:grpSpPr>
        <p:sp>
          <p:nvSpPr>
            <p:cNvPr id="1121" name=""/>
            <p:cNvSpPr/>
            <p:nvPr/>
          </p:nvSpPr>
          <p:spPr>
            <a:xfrm>
              <a:off x="7467480" y="5181480"/>
              <a:ext cx="1067040" cy="10670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20120" y="5334120"/>
              <a:ext cx="76176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6400800" y="4114800"/>
            <a:ext cx="1066680" cy="1066680"/>
            <a:chOff x="6400800" y="4114800"/>
            <a:chExt cx="1066680" cy="1066680"/>
          </a:xfrm>
        </p:grpSpPr>
        <p:sp>
          <p:nvSpPr>
            <p:cNvPr id="1124" name=""/>
            <p:cNvSpPr/>
            <p:nvPr/>
          </p:nvSpPr>
          <p:spPr>
            <a:xfrm>
              <a:off x="6400800" y="41148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553080" y="4267080"/>
              <a:ext cx="76140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2057400" y="4114800"/>
            <a:ext cx="1066680" cy="1066680"/>
            <a:chOff x="2057400" y="4114800"/>
            <a:chExt cx="1066680" cy="1066680"/>
          </a:xfrm>
        </p:grpSpPr>
        <p:sp>
          <p:nvSpPr>
            <p:cNvPr id="1127" name=""/>
            <p:cNvSpPr/>
            <p:nvPr/>
          </p:nvSpPr>
          <p:spPr>
            <a:xfrm>
              <a:off x="2057400" y="4114800"/>
              <a:ext cx="1066680" cy="1066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133360" y="4190760"/>
              <a:ext cx="22824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990720" y="5181480"/>
            <a:ext cx="1066680" cy="1067040"/>
            <a:chOff x="990720" y="5181480"/>
            <a:chExt cx="1066680" cy="1067040"/>
          </a:xfrm>
        </p:grpSpPr>
        <p:sp>
          <p:nvSpPr>
            <p:cNvPr id="1130" name=""/>
            <p:cNvSpPr/>
            <p:nvPr/>
          </p:nvSpPr>
          <p:spPr>
            <a:xfrm>
              <a:off x="990720" y="5181480"/>
              <a:ext cx="1066680" cy="10670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143000" y="5334120"/>
              <a:ext cx="76212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057400" y="5181480"/>
            <a:ext cx="1066680" cy="1067040"/>
            <a:chOff x="2057400" y="5181480"/>
            <a:chExt cx="1066680" cy="1067040"/>
          </a:xfrm>
        </p:grpSpPr>
        <p:sp>
          <p:nvSpPr>
            <p:cNvPr id="1133" name=""/>
            <p:cNvSpPr/>
            <p:nvPr/>
          </p:nvSpPr>
          <p:spPr>
            <a:xfrm>
              <a:off x="2057400" y="5181480"/>
              <a:ext cx="1066680" cy="1067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209680" y="5334120"/>
              <a:ext cx="762120" cy="7617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7467480" y="4114800"/>
            <a:ext cx="1067040" cy="1066680"/>
            <a:chOff x="7467480" y="4114800"/>
            <a:chExt cx="1067040" cy="1066680"/>
          </a:xfrm>
        </p:grpSpPr>
        <p:sp>
          <p:nvSpPr>
            <p:cNvPr id="1136" name=""/>
            <p:cNvSpPr/>
            <p:nvPr/>
          </p:nvSpPr>
          <p:spPr>
            <a:xfrm>
              <a:off x="7467480" y="411480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620120" y="4267080"/>
              <a:ext cx="761760" cy="7614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3124080" y="4114800"/>
            <a:ext cx="1067040" cy="1066680"/>
            <a:chOff x="3124080" y="4114800"/>
            <a:chExt cx="1067040" cy="1066680"/>
          </a:xfrm>
        </p:grpSpPr>
        <p:sp>
          <p:nvSpPr>
            <p:cNvPr id="1139" name=""/>
            <p:cNvSpPr/>
            <p:nvPr/>
          </p:nvSpPr>
          <p:spPr>
            <a:xfrm>
              <a:off x="3124080" y="4114800"/>
              <a:ext cx="1067040" cy="10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200400" y="419112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4191120" y="4114800"/>
            <a:ext cx="1066680" cy="1066680"/>
            <a:chOff x="4191120" y="4114800"/>
            <a:chExt cx="1066680" cy="1066680"/>
          </a:xfrm>
        </p:grpSpPr>
        <p:sp>
          <p:nvSpPr>
            <p:cNvPr id="1142" name=""/>
            <p:cNvSpPr/>
            <p:nvPr/>
          </p:nvSpPr>
          <p:spPr>
            <a:xfrm>
              <a:off x="4191120" y="411480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C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267080" y="4190760"/>
              <a:ext cx="22824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3124080" y="5181480"/>
            <a:ext cx="1066680" cy="1067040"/>
            <a:chOff x="3124080" y="5181480"/>
            <a:chExt cx="1066680" cy="1067040"/>
          </a:xfrm>
        </p:grpSpPr>
        <p:sp>
          <p:nvSpPr>
            <p:cNvPr id="1145" name=""/>
            <p:cNvSpPr/>
            <p:nvPr/>
          </p:nvSpPr>
          <p:spPr>
            <a:xfrm>
              <a:off x="3124080" y="5181480"/>
              <a:ext cx="1066680" cy="106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276360" y="5334120"/>
              <a:ext cx="762120" cy="7617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6400800" y="5181480"/>
            <a:ext cx="1066680" cy="1066680"/>
            <a:chOff x="6400800" y="5181480"/>
            <a:chExt cx="1066680" cy="1066680"/>
          </a:xfrm>
        </p:grpSpPr>
        <p:sp>
          <p:nvSpPr>
            <p:cNvPr id="1148" name=""/>
            <p:cNvSpPr/>
            <p:nvPr/>
          </p:nvSpPr>
          <p:spPr>
            <a:xfrm>
              <a:off x="6400800" y="5181480"/>
              <a:ext cx="1066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553080" y="5333760"/>
              <a:ext cx="761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q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03:22:03Z</dcterms:created>
  <dc:creator>Michael Ax</dc:creator>
  <dc:description/>
  <dc:language>en-US</dc:language>
  <cp:lastModifiedBy>Michael Ax</cp:lastModifiedBy>
  <dcterms:modified xsi:type="dcterms:W3CDTF">2006-05-18T00:45:20Z</dcterms:modified>
  <cp:revision>30</cp:revision>
  <dc:subject/>
  <dc:title> </dc:title>
</cp:coreProperties>
</file>